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597B-141D-4477-9ECB-A79F52BB4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CC52-0038-43A5-8483-94597696C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291B-1C59-4CFE-82B1-7FA29C47A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B536-01CC-4E21-9662-270C948BD6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3431-30BF-4B84-99AA-BCFEDC1406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0592-5944-45E9-971E-4CECA2D87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93DA-72A6-415C-AB8F-275365A72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39A5-40B9-4EF9-9875-4A0C009F0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89000"/>
            <a:ext cx="590544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19C6-FD9D-4791-B539-72C203D73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9558-2FF0-487D-9E94-ECCE3E6B3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DDAB-11AD-43B1-B4BB-AA3C1A521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3C03-5B06-4072-A73A-D225493DE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43280" y="189000"/>
            <a:ext cx="59054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059280" y="6473520"/>
            <a:ext cx="3178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922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EA43-1F2F-4A2F-9D8F-B854D8E2BCC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1700280"/>
            <a:ext cx="3924360" cy="316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19640" y="1700280"/>
            <a:ext cx="5724360" cy="28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635280" y="1989000"/>
            <a:ext cx="5508720" cy="36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6389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920"/>
            <a:ext cx="3581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735280" cy="98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805360"/>
            <a:ext cx="5070600" cy="571680"/>
          </a:xfrm>
          <a:prstGeom prst="rect">
            <a:avLst/>
          </a:prstGeom>
          <a:solidFill>
            <a:srgbClr val="009999">
              <a:alpha val="51000"/>
            </a:srgbClr>
          </a:solidFill>
          <a:ln w="22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58120" y="44280"/>
            <a:ext cx="23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电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3280" y="76680"/>
            <a:ext cx="590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2880" y="34354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2735-1EED-4DFB-B478-76EE738ACE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08:39:2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06:1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