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341A-93F5-4803-80B7-6BCB4C71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117-F2DF-4D1A-BB7A-416825E5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CB9-5A88-45E8-9CF8-4E1D4797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C40-ACB7-49E7-85B6-F91FE6EC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A295-EB80-4998-B68B-F2D4783C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C6C9-6A39-470E-8797-8177099F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0E3A-D715-4C5C-89F9-1472394A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7FA4-0F65-4E12-B3ED-7E49CA92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139B-3A7C-4E97-A6A0-B40A5B73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BF3B-6E1C-4FE3-BB75-647676F8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88E4-7720-4C31-AD2B-B4909F09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371-97D3-427E-AFBF-25180C75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73A2-688E-43FA-8F7C-F2C9156B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62D0-B5BE-4599-8A50-5713DFD9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4709-7E77-400A-8C15-53B916B1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8C18-7331-409E-9BED-42739E01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5595-D43B-4BFD-8340-3C96BCBC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9C938-BAE6-44CA-9876-1F49E9FC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7E27A-9BE4-4D73-86B5-B19CCA68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573A8-E4DE-4C3A-83C3-888EFD31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DEFC0-17DF-45AE-B5E9-197E739F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74656-E09B-4A9E-92F9-C5A6A5C8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9F38-04D4-41D6-9BA5-C57454ED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F8CB5-E7F2-45F3-B0E8-4DB9D5CE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7ADC9-2383-445C-A0F2-FBFEB3F2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149A0-1471-4547-A15B-ECAE2294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51B35-CE63-4204-A130-C30AECFF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6BF73-2FFA-4650-A52E-333387CA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8D5BD-688A-443F-9204-150CFDF4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BFB39-47C1-4014-85BE-95D9F46D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2904B-39C8-4F83-A95C-C95F5D7B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D035D-AC58-4290-855F-8DF0C8A7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A3C9C-9364-4A94-8A84-552B0B1E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5BE-5D8E-471C-9FE8-9EF7C83F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C1132-669E-429B-A94C-C4D0C931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F9B4C-E55A-4E6E-9E86-5DC2C9C6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9C8D7-9C1F-4F1B-9D57-D2A084DD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432F2-0249-442B-A4C8-16084C4C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C6423-077A-4265-AED1-C5810A66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80BA8-D76C-41A5-BEF2-F361DC76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4033F-D9B8-421B-9D30-4E7B9D50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98CF7-DC9B-40E9-BA14-852AF5AC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BF1A3-6B12-4A95-8AB8-522238F2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A99-2B14-4B53-ABCD-6D509227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05E4-502E-40E3-AA1A-E02210B1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B935-19B9-4253-815C-8501D6B0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E941-4EC0-4257-BC68-9E7CDBDF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89A-2A31-4AA9-A099-6C3B2631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C2D8-7600-4ED9-8E0C-86714B43B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9F6E-825E-46E0-AD21-398A16173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ECD8-309B-4979-82B2-44093F603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0D6A-878A-4C2C-8AED-508394BCE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28720" y="4726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Gulim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Gulim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"/>
          <p:cNvSpPr/>
          <p:nvPr/>
        </p:nvSpPr>
        <p:spPr>
          <a:xfrm>
            <a:off x="1722240" y="3286080"/>
            <a:ext cx="33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ulim"/>
              </a:rPr>
              <a:t>电子行业</a:t>
            </a:r>
            <a:r>
              <a:rPr b="0" lang="en-US" sz="36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Gulim"/>
              </a:rPr>
              <a:t>素材下载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670880" y="31896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126828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3049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ulim"/>
              </a:rPr>
              <a:t>Click To Type Slide 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876240"/>
            <a:ext cx="662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9999"/>
                </a:solidFill>
                <a:uFillTx/>
                <a:latin typeface="Gulim"/>
                <a:hlinkClick r:id="rId2"/>
              </a:rPr>
              <a:t>ppt素材</a:t>
            </a:r>
            <a:r>
              <a:rPr b="0" lang="zh-CN" sz="24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Gulim"/>
              </a:rPr>
              <a:t>http://www.eeppt.com/sucai/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" name=""/>
          <p:cNvSpPr/>
          <p:nvPr/>
        </p:nvSpPr>
        <p:spPr>
          <a:xfrm>
            <a:off x="1116000" y="3645000"/>
            <a:ext cx="7688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Gulim"/>
                <a:hlinkClick r:id="rId4"/>
              </a:rPr>
              <a:t>中国风ppt模板</a:t>
            </a: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http://www.eeppt.com/moban/zhongguofeng/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427FD-B3DC-4FAA-81D1-97841E566F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670880" y="31896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3049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ulim"/>
              </a:rPr>
              <a:t>Click To Type Slide 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5:21:1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6:30:01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