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gif" ContentType="image/gif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CF2-3815-47E7-805C-E935B6AE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250-A13B-4F3A-A178-8A407922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547-560A-4CB7-B19C-063ADDFE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572-C1F0-441A-9ABB-0F192C8D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EBF-073F-4317-8B3E-ACDC8D01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522-3BCF-4566-B4F1-3B6103CE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715-D5F7-4488-908E-E3963FCE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60B-3754-477E-B3A7-90A7A951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38D-341F-4606-A07E-B03C874C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F11-89A8-46A5-9AF7-0070D7C6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F5B-02B6-489B-BCE2-E4521BC1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ABE-4D91-4D0B-8B78-A32BCFE5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6B55-7F31-469C-ABED-C0C6BF41B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18cb14d9d4b8b797c95e1d10cff19fbe1cde65a326116b03a4ad4c95b98d35aa73eb196b5164589b4c99b3a39b116310ef6ab62bf72ed367943417811430a1a10e27c5f8&amp;a=24&amp;b=29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24.photo.store.qq.com/http_imgload.cgi?/rurl4_b=f52733238bc189dd92eac1a168c98ddf5632f02b985cc77fa6fc667202fd4d73d87a76e692087db412e8a68e4a2b8cd94002ee67d3ceb2dfdf65b73c63a0737cb0e33920c35a35bf148a39266fe00ac8f929083c&amp;a=29&amp;b=2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df7f5f489a46900fba282f73b1ab6bd76d9d65ef9cb75650a3bc0d5a36a83405382fa434384f9255fe9e443df683af166c359bd42cd0debb571a7453ed86cc9058339a4d&amp;a=29&amp;b=29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8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562680"/>
            <a:ext cx="81360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4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75240" y="1981080"/>
            <a:ext cx="20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二泉映月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20058281853425706"/>
          <p:cNvPicPr/>
          <p:nvPr/>
        </p:nvPicPr>
        <p:blipFill>
          <a:blip r:embed="rId2"/>
          <a:stretch/>
        </p:blipFill>
        <p:spPr>
          <a:xfrm>
            <a:off x="5257800" y="1828800"/>
            <a:ext cx="3657600" cy="4724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39640" y="260280"/>
            <a:ext cx="720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找出一个词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既是师傅苦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生的写照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是阿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过程中的艰难经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50920" y="3860640"/>
            <a:ext cx="2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饱经风霜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484360" y="3789360"/>
            <a:ext cx="28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充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形容经过很多艰苦困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f15b5c2f096ca5d08b13991e"/>
          <p:cNvPicPr/>
          <p:nvPr/>
        </p:nvPicPr>
        <p:blipFill>
          <a:blip r:embed="rId2"/>
          <a:stretch/>
        </p:blipFill>
        <p:spPr>
          <a:xfrm>
            <a:off x="4572000" y="2286000"/>
            <a:ext cx="4249800" cy="4343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0" y="0"/>
            <a:ext cx="3886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自然段既是阿炳现实生活的直接描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是师傅当年苦难生活的再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既是师傅所说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泉映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&gt;&gt;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重要内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哪些句子既是阿炳的心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是师傅的心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更是穷苦人民的心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267080" y="22860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深沉的叹息，伤心的哭泣，激愤的倾诉，倔强的呐喊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40384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7c48fadcbb3e6494b7fd48b3"/>
          <p:cNvPicPr/>
          <p:nvPr/>
        </p:nvPicPr>
        <p:blipFill>
          <a:blip r:embed="rId2"/>
          <a:stretch/>
        </p:blipFill>
        <p:spPr>
          <a:xfrm>
            <a:off x="5791320" y="4332240"/>
            <a:ext cx="3124080" cy="2525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中采用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琴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和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出现的写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文字的形式再现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泉映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&gt;&gt;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优美旋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了其中的内容与意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62864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这似乎是阿炳在赞叹惠山二泉的优美景色，在怀念对他恩重如山的师父，在思索自己走过的人生道路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34290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它以势不可挡的力量，表达出对命运的抗争，抒发了对美好未来的无限向往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464832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阿炳用这动人心弦的琴声告诉人们，他爱那支撑他度过苦难一生的音乐，他爱那美丽富饶的家乡，他爱那惠山的清泉，他爱那照耀清泉的月光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63503126"/>
          <p:cNvPicPr/>
          <p:nvPr/>
        </p:nvPicPr>
        <p:blipFill>
          <a:blip r:embed="rId2"/>
          <a:stretch/>
        </p:blipFill>
        <p:spPr>
          <a:xfrm>
            <a:off x="5334120" y="3449520"/>
            <a:ext cx="3809880" cy="33991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月光似水，静影沉璧好在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2280" y="1066680"/>
            <a:ext cx="54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月光似水，把月光比喻成水，用水的清澈，衬托出月光的清纯柔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平静的月影映在水底，好似沉下的一块碧玉。写出了水面平静，渲染了一种宁谧的情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阿炳"/>
          <p:cNvPicPr/>
          <p:nvPr/>
        </p:nvPicPr>
        <p:blipFill>
          <a:blip r:embed="rId1"/>
          <a:stretch/>
        </p:blipFill>
        <p:spPr>
          <a:xfrm>
            <a:off x="539640" y="0"/>
            <a:ext cx="4500720" cy="3825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无标题"/>
          <p:cNvPicPr/>
          <p:nvPr/>
        </p:nvPicPr>
        <p:blipFill>
          <a:blip r:embed="rId2"/>
          <a:stretch/>
        </p:blipFill>
        <p:spPr>
          <a:xfrm>
            <a:off x="324000" y="3141720"/>
            <a:ext cx="3998880" cy="343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99"/>
          <p:cNvPicPr/>
          <p:nvPr/>
        </p:nvPicPr>
        <p:blipFill>
          <a:blip r:embed="rId3"/>
          <a:stretch/>
        </p:blipFill>
        <p:spPr>
          <a:xfrm>
            <a:off x="3995640" y="0"/>
            <a:ext cx="4932360" cy="4896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4788000" y="5229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这是什么样的阿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0040205114703(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116000" y="620640"/>
            <a:ext cx="727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师父说：“你年纪还小，等你长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了，就会从二泉的流水中听到许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声音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16000" y="2781360"/>
            <a:ext cx="734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想起了师父说过的话，想到了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己坎坷的经历，渐渐地，渐渐地，他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乎听到了深沉的叹息，伤心的哭泣，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愤的倾诉，倔强的呐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7401600" y="134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奇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7401600" y="134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奇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5ef9b6cad95608dd52664fb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solidFill>
            <a:srgbClr val="800000">
              <a:alpha val="34000"/>
            </a:srgbClr>
          </a:solidFill>
          <a:ln w="5724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渐渐地，渐渐地，他似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听到了深沉的叹息，伤心的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泣，激愤的倾诉，倔强的呐喊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里的省略号表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示没有结束。未完待续，给读者留下想象的空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能想想还包括哪些么？（分小组讨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尽的忧伤，绝望的彷徨，莫名的失落，凄惨的遭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a85e96166fbe3951f3de32ee"/>
          <p:cNvPicPr/>
          <p:nvPr/>
        </p:nvPicPr>
        <p:blipFill>
          <a:blip r:embed="rId1"/>
          <a:stretch/>
        </p:blipFill>
        <p:spPr>
          <a:xfrm>
            <a:off x="-396720" y="-316080"/>
            <a:ext cx="9937440" cy="820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3528720"/>
          </a:xfrm>
          <a:prstGeom prst="rect">
            <a:avLst/>
          </a:prstGeom>
          <a:solidFill>
            <a:srgbClr val="800000">
              <a:alpha val="20000"/>
            </a:srgbClr>
          </a:solidFill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十多年过去了，师父早已离开人世，阿炳也因患眼疾而双目失明。他整天戴着墨镜，操着胡琴，卖艺度日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0040203165758(1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838080" y="100440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场景一：冬天，大雪纷飞，寒风刺骨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目失明的阿炳是怎么卖艺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场景二：夏天，骄阳似火，烈日炎炎，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阿炳是怎么卖艺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场景三：一天，阿炳生病了，烧到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39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度，浑身发抖，他又是怎么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艺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gif041"/>
          <p:cNvPicPr/>
          <p:nvPr/>
        </p:nvPicPr>
        <p:blipFill>
          <a:blip r:embed="rId2"/>
          <a:stretch/>
        </p:blipFill>
        <p:spPr>
          <a:xfrm>
            <a:off x="3924360" y="5157720"/>
            <a:ext cx="863640" cy="7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40311_2009030611423918ruJ"/>
          <p:cNvPicPr/>
          <p:nvPr/>
        </p:nvPicPr>
        <p:blipFill>
          <a:blip r:embed="rId1"/>
          <a:stretch/>
        </p:blipFill>
        <p:spPr>
          <a:xfrm>
            <a:off x="1523880" y="380880"/>
            <a:ext cx="5688000" cy="614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28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084720" cy="4496040"/>
          </a:xfrm>
          <a:prstGeom prst="rect">
            <a:avLst/>
          </a:prstGeom>
          <a:solidFill>
            <a:srgbClr val="800000">
              <a:alpha val="26000"/>
            </a:srgbClr>
          </a:solidFill>
          <a:ln w="5724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词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茫茫月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银月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泓清泉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影沉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水淙淙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蜿蜒而来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光照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波映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715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a85e96166fbe3951f3de32ee"/>
          <p:cNvPicPr/>
          <p:nvPr/>
        </p:nvPicPr>
        <p:blipFill>
          <a:blip r:embed="rId1"/>
          <a:stretch/>
        </p:blipFill>
        <p:spPr>
          <a:xfrm>
            <a:off x="-396720" y="-316080"/>
            <a:ext cx="9937440" cy="820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3528720"/>
          </a:xfrm>
          <a:prstGeom prst="rect">
            <a:avLst/>
          </a:prstGeom>
          <a:solidFill>
            <a:srgbClr val="800000">
              <a:alpha val="20000"/>
            </a:srgbClr>
          </a:solidFill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十多年过去了，师父早已离开人世，阿炳也因患眼疾而双目失明。他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整天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戴着墨镜，操着胡琴，卖艺度日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090927104034152[1]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81518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229600" cy="41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他的手指在琴弦上不停地滑动着，流水、月光都变成了一个个动人的音符，从琴弦上流泻出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8ca9de105a8e182fb9127b29[1]"/>
          <p:cNvPicPr/>
          <p:nvPr/>
        </p:nvPicPr>
        <p:blipFill>
          <a:blip r:embed="rId1"/>
          <a:stretch/>
        </p:blipFill>
        <p:spPr>
          <a:xfrm>
            <a:off x="0" y="0"/>
            <a:ext cx="9540720" cy="8325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056720" cy="5616720"/>
          </a:xfrm>
          <a:prstGeom prst="rect">
            <a:avLst/>
          </a:prstGeom>
          <a:blipFill rotWithShape="0">
            <a:blip r:embed="rId2">
              <a:alphaModFix amt="41000"/>
            </a:blip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起初，琴声委婉连绵，有如山泉从幽谷中蜿蜒而来，缓缓流淌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随着旋律的升腾跌宕，步步高昂，乐曲进入了高潮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月光照水，水波映月，乐曲久久地在二泉池畔回响，舒缓而又起伏，恬静而又激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0040203165758(1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762120" y="5335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起初，琴声委婉连绵，有如山泉从幽谷中蜿蜒而来，缓缓流淌。这似乎是阿炳在赞叹惠山二泉的优美景色，在怀念对他恩重如山的师父，在思索自己走过的人生道路。随着旋律的升腾跌宕，步步高昂，乐曲进入了高潮。它以势不可当的力量，表达出对命运的抗争，抒发了对美好未来的无阻向往。月光照水，水波映月，乐曲久久地在二泉池畔回响，舒缓而又起伏，恬静而又激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040203165944(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476360" y="1268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爱那支撑他度过苦难一生的音乐，他爱那美丽富饶的家乡，他爱那惠山的清泉，他爱那照耀清泉的月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26ed8cc48728b18d38db49d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048360"/>
          </a:xfrm>
          <a:prstGeom prst="rect">
            <a:avLst/>
          </a:prstGeom>
          <a:solidFill>
            <a:srgbClr val="800000">
              <a:alpha val="58000"/>
            </a:srgbClr>
          </a:solidFill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开始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似乎是阿炳在赞叹惠山二泉的优美景色，在怀念对他恩重如山的师父，在思索自己走过的人生道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高潮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它以势不可挡的力量，表达出对命运的抗争，抒发了对美好未来的无限向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结尾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阿炳用这动人心弦的琴声告诉人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他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那支撑他度过苦难一生的音乐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他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那美丽富饶的家乡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他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那惠山的清泉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他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那照耀清泉的月光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cbb19dbdec0ed55495403ab"/>
          <p:cNvPicPr/>
          <p:nvPr/>
        </p:nvPicPr>
        <p:blipFill>
          <a:blip r:embed="rId1"/>
          <a:stretch/>
        </p:blipFill>
        <p:spPr>
          <a:xfrm>
            <a:off x="-1765440" y="-1714680"/>
            <a:ext cx="10909440" cy="8572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632720" cy="6264360"/>
          </a:xfrm>
          <a:prstGeom prst="rect">
            <a:avLst/>
          </a:prstGeom>
          <a:blipFill rotWithShape="0">
            <a:blip r:embed="rId2">
              <a:alphaModFix amt="41000"/>
            </a:blip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起初，琴声委婉连绵，有如山泉从幽谷中蜿蜒而来，缓缓流淌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似乎是阿炳在赞叹惠山二泉的优美景色，在怀念对他恩重如山的师父，在思索自己走过的人生道路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随着旋律的升腾跌宕，步步高昂，乐曲进入了高潮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它以势不可挡的力量，表达出对命运的抗争，抒发了对美好未来的无限向往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月光照水，水波映月，乐曲久久地在二泉池畔回响，舒缓而又起伏，恬静而又激荡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阿炳用这动人心弦的琴声告诉人们，他爱那支撑他度过苦难一生的音乐，他爱那美丽富饶的家乡，他爱那惠山的清泉，他爱那照耀清泉的月光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赏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句话写阿炳听到涓涓泉声后陶醉了，仿佛跌进了音乐之谷。正是长期坎坷的经历，苦难的磨练，亲人的嘱托和积淀已久的情怀，化为创作的灵感，才孕育出这一支无比美妙的不朽名曲，表达了阿炳内心的愤怒和对命运的控诉。这是阿炳的心声，也是他师父的心声，更是广大穷苦大众的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090927104034152[1]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9154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是，生活的穷困和疾病的折磨，泯灭不了阿炳对音乐的热爱和对光明的向往，他多么希望有一天能过上安定幸福的生活呀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0070921_77ce8e880a6fbf888e96mza5vhS5t59l_jpg_thumb"/>
          <p:cNvPicPr/>
          <p:nvPr/>
        </p:nvPicPr>
        <p:blipFill>
          <a:blip r:embed="rId1"/>
          <a:stretch/>
        </p:blipFill>
        <p:spPr>
          <a:xfrm>
            <a:off x="0" y="0"/>
            <a:ext cx="9212400" cy="6953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0" y="21337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1978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年，世界著名指挥家小泽征尔应邀担任中央乐团的首席指挥，席间他指挥演奏了弦乐合奏</a:t>
            </a: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二泉映月</a:t>
            </a: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。他感动得热泪盈眶，禁不住说：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这种音乐只应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跪下来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听。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826920" y="692280"/>
            <a:ext cx="15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604" dir="18900000" blurRad="0" rotWithShape="0">
                    <a:srgbClr val="f7f7f7">
                      <a:alpha val="50000"/>
                    </a:srgbClr>
                  </a:outerShdw>
                </a:effectLst>
                <a:latin typeface="黑体"/>
              </a:rPr>
              <a:t>小资料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604" dir="18900000" blurRad="0" rotWithShape="0">
                  <a:srgbClr val="f7f7f7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040203165944(1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332000" y="692280"/>
            <a:ext cx="676908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光如银 双目失明 委婉连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光似水 卖艺度日 升腾跌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影沉璧 经历坎坷 步步高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光照水 热爱音乐 舒缓起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波映月 向往光明 恬静激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547640" y="465300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月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565440" y="4653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身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724360" y="465300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旋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20070921_77ce8e880a6fbf888e96mza5vhS5t59l_jpg_thumb"/>
          <p:cNvPicPr/>
          <p:nvPr/>
        </p:nvPicPr>
        <p:blipFill>
          <a:blip r:embed="rId1"/>
          <a:stretch/>
        </p:blipFill>
        <p:spPr>
          <a:xfrm>
            <a:off x="0" y="0"/>
            <a:ext cx="9212400" cy="69534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3"/>
          <p:cNvSpPr txBox="1"/>
          <p:nvPr/>
        </p:nvSpPr>
        <p:spPr>
          <a:xfrm>
            <a:off x="468360" y="563400"/>
            <a:ext cx="266364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604" dir="18900000" blurRad="0" rotWithShape="0">
                    <a:srgbClr val="f7f7f7">
                      <a:alpha val="50000"/>
                    </a:srgbClr>
                  </a:outerShdw>
                </a:effectLst>
                <a:latin typeface="黑体"/>
              </a:rPr>
              <a:t>作业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604" dir="18900000" blurRad="0" rotWithShape="0">
                  <a:srgbClr val="f7f7f7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50920" y="177336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欣赏阿炳的其他作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如：二胡曲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听松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寒春风曲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琵琶曲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大浪淘沙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昭君出塞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龙船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等，把你的感受写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小练笔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阿炳，我想对你说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284720" cy="6669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ff66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ial"/>
                <a:ea typeface="楷体_GB2312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200912918125935977801"/>
          <p:cNvPicPr/>
          <p:nvPr/>
        </p:nvPicPr>
        <p:blipFill>
          <a:blip r:embed="rId1"/>
          <a:stretch/>
        </p:blipFill>
        <p:spPr>
          <a:xfrm>
            <a:off x="0" y="-387360"/>
            <a:ext cx="5364000" cy="7632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6274800" y="981000"/>
            <a:ext cx="18262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cc"/>
                </a:solidFill>
                <a:latin typeface="Arial"/>
                <a:ea typeface="楷体_GB2312"/>
              </a:rPr>
              <a:t>阿炳，我想对你说</a:t>
            </a:r>
            <a:r>
              <a:rPr b="0" lang="en-US" sz="5400" spc="-1" strike="noStrike">
                <a:solidFill>
                  <a:srgbClr val="9900cc"/>
                </a:solidFill>
                <a:latin typeface="Arial"/>
                <a:ea typeface="楷体_GB2312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6080" y="836640"/>
            <a:ext cx="53719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不见黑暗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因为穿行在黑暗之中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不见苦难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因为置身于苦难之中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把二胡，道尽人世的沧桑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根细弦，诉尽命运的悲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炳啊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那把血泪斑斑的胡琴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凄凉而不绝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忧愤而不疯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荡荡的夜色中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听到了不屈的抗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触摸到了一颗坚强的灵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556000" y="18900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永远的二泉映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20070921_77ce8e880a6fbf888e96mza5vhS5t59l_jpg_thumb"/>
          <p:cNvPicPr/>
          <p:nvPr/>
        </p:nvPicPr>
        <p:blipFill>
          <a:blip r:embed="rId1"/>
          <a:stretch/>
        </p:blipFill>
        <p:spPr>
          <a:xfrm>
            <a:off x="0" y="0"/>
            <a:ext cx="9212400" cy="69534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108000" y="549360"/>
            <a:ext cx="28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604" dir="18900000" blurRad="0" rotWithShape="0">
                    <a:srgbClr val="f7f7f7">
                      <a:alpha val="50000"/>
                    </a:srgbClr>
                  </a:outerShdw>
                </a:effectLst>
                <a:latin typeface="黑体"/>
              </a:rPr>
              <a:t>寄语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604" dir="18900000" blurRad="0" rotWithShape="0">
                  <a:srgbClr val="f7f7f7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26920" y="234936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人在旅途 有苦有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笑对人生 从容不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穿越痛苦 赢得生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71C-805C-42B2-B734-D2FA32D0E3CE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228600" y="228600"/>
            <a:ext cx="8610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收集名人背后的故事，举办一个故事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今中外，很多的诗人、作家、艺术家‥‥‥在他们成就的背后总有一些令人感动的故事，如司马迁遭宫刑著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史记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贝多芬双耳失聪，创作了不朽杰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九交响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还有旭日阳刚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春天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‥‥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28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29"/>
          <p:cNvSpPr/>
          <p:nvPr/>
        </p:nvSpPr>
        <p:spPr>
          <a:xfrm>
            <a:off x="250920" y="260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词语解释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30"/>
          <p:cNvSpPr/>
          <p:nvPr/>
        </p:nvSpPr>
        <p:spPr>
          <a:xfrm>
            <a:off x="250920" y="836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葱茏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容植物青翠旺盛的样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31"/>
          <p:cNvSpPr/>
          <p:nvPr/>
        </p:nvSpPr>
        <p:spPr>
          <a:xfrm>
            <a:off x="228600" y="1600200"/>
            <a:ext cx="57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淙淙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象声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流水的声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228600" y="2286000"/>
            <a:ext cx="48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摇曳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摇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摇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33"/>
          <p:cNvSpPr/>
          <p:nvPr/>
        </p:nvSpPr>
        <p:spPr>
          <a:xfrm>
            <a:off x="228600" y="2895480"/>
            <a:ext cx="72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坎坷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坑坑洼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喻人生旅途不顺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34"/>
          <p:cNvSpPr/>
          <p:nvPr/>
        </p:nvSpPr>
        <p:spPr>
          <a:xfrm>
            <a:off x="179280" y="3645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一泓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道清水或一片清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于清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35"/>
          <p:cNvSpPr/>
          <p:nvPr/>
        </p:nvSpPr>
        <p:spPr>
          <a:xfrm>
            <a:off x="179280" y="4797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饱经风霜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充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容经过很多艰苦困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36"/>
          <p:cNvSpPr/>
          <p:nvPr/>
        </p:nvSpPr>
        <p:spPr>
          <a:xfrm>
            <a:off x="152280" y="5486400"/>
            <a:ext cx="73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泯灭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印象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消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37"/>
          <p:cNvSpPr/>
          <p:nvPr/>
        </p:nvSpPr>
        <p:spPr>
          <a:xfrm>
            <a:off x="179280" y="6093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跌宕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音调抑扬顿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28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7136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29"/>
          <p:cNvSpPr/>
          <p:nvPr/>
        </p:nvSpPr>
        <p:spPr>
          <a:xfrm>
            <a:off x="611280" y="476280"/>
            <a:ext cx="7418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理解了文中的生词的意思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让我们一起进入课文内容的学习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起来探讨一下阿炳是怎样谱写出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&lt;&lt;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泉映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&gt;&gt;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这首曲子的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295280"/>
            <a:ext cx="40388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7240" y="1294920"/>
            <a:ext cx="408924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中秋之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无锡惠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师父，小阿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泉边赏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755640" y="1773360"/>
            <a:ext cx="1152360" cy="3887640"/>
          </a:xfrm>
          <a:custGeom>
            <a:avLst/>
            <a:gdLst>
              <a:gd name="textAreaLeft" fmla="*/ 736200 w 1152360"/>
              <a:gd name="textAreaRight" fmla="*/ 1152360 w 115236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6227640" y="260280"/>
            <a:ext cx="2916360" cy="4319640"/>
          </a:xfrm>
          <a:prstGeom prst="cloudCallout">
            <a:avLst>
              <a:gd name="adj1" fmla="val -57458"/>
              <a:gd name="adj2" fmla="val 889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写中秋之夜在二泉边师父告诉阿炳要等他长大后才能听懂泉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27_165_9e703e41fc2dd3b"/>
          <p:cNvPicPr/>
          <p:nvPr/>
        </p:nvPicPr>
        <p:blipFill>
          <a:blip r:embed="rId2"/>
          <a:stretch/>
        </p:blipFill>
        <p:spPr>
          <a:xfrm>
            <a:off x="4648320" y="2703600"/>
            <a:ext cx="4495680" cy="3925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24000" y="26028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请同学们找出文中描写景物的句子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68360" y="1125360"/>
            <a:ext cx="8523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无锡的惠山，树木葱茏，藤萝摇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山脚下有一泓清泉，人称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天下第二泉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68360" y="3141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水面月光如银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95280" y="4005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淙淙的流水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50920" y="5229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月光似水，静影沉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读一读，比一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71400" y="1333440"/>
            <a:ext cx="68562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希望有一天过上安定幸福的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多么希望有一天能过上安定幸福的生活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201104071232534418"/>
          <p:cNvPicPr/>
          <p:nvPr/>
        </p:nvPicPr>
        <p:blipFill>
          <a:blip r:embed="rId2"/>
          <a:stretch/>
        </p:blipFill>
        <p:spPr>
          <a:xfrm>
            <a:off x="380880" y="380880"/>
            <a:ext cx="119088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826920" y="1700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  <a:ea typeface="楷体_GB2312"/>
              </a:rPr>
              <a:t>人称阿炳三不穷：人穷志不穷（不怕权势），人穷嘴不穷（不吃白食），人穷名不穷（刚直顽强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1T06:39:4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4:01:43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