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908FF-53B3-4B47-97A0-9D90BC299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892EF-CAA9-4929-8DD1-2DAAE04DB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62593-2EF1-4698-9F1C-672E39D96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5A48C-F9CA-4501-99DC-D03A5D5DD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D8D38-3560-42D2-8B59-0317F12D4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EC16D-641D-4A94-9903-B4AF4DB68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FCAEA-DB60-419D-95CC-5E3651DCF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27E87-B6DC-468A-94C2-6194AA51B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F249B-13DD-410E-8F4D-4F49F4C16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C446E-155C-4401-838C-BF2F4006B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464A4-C666-47FD-A65D-C478FD5CD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909CA-3B54-41B3-AF26-2DF710CF9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F4BA8-DE4E-4FD1-933B-3089FD2106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hyperlink" Target="http://baike.baidu.com/view/123038.htm" TargetMode="External"/><Relationship Id="rId4" Type="http://schemas.openxmlformats.org/officeDocument/2006/relationships/hyperlink" Target="http://baike.baidu.com/view/33977.htm" TargetMode="External"/><Relationship Id="rId5" Type="http://schemas.openxmlformats.org/officeDocument/2006/relationships/hyperlink" Target="http://baike.baidu.com/view/2516.htm" TargetMode="External"/><Relationship Id="rId6" Type="http://schemas.openxmlformats.org/officeDocument/2006/relationships/hyperlink" Target="http://baike.baidu.com/view/805104.htm" TargetMode="External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hyperlink" Target="http://baike.baidu.com/view/895.htm" TargetMode="External"/><Relationship Id="rId4" Type="http://schemas.openxmlformats.org/officeDocument/2006/relationships/hyperlink" Target="http://image.baidu.com/i?ct=503316480&amp;z=0&amp;tn=baiduimagedetail&amp;word=%CF%F2%C8&#1407;%FB&#674;%BF%AA&amp;in=24752&amp;cl=2&amp;lm=-1&amp;pn=17&amp;rn=1&amp;di=6622279938&amp;ln=2000&amp;fr=&amp;fmq=&amp;ic=&amp;s=&amp;se=&amp;sme=0&amp;tab=&amp;width=&amp;height=&amp;face=&amp;is=&amp;istype=2" TargetMode="External"/><Relationship Id="rId5" Type="http://schemas.openxmlformats.org/officeDocument/2006/relationships/image" Target="../media/image4.jpeg"/><Relationship Id="rId6" Type="http://schemas.openxmlformats.org/officeDocument/2006/relationships/hyperlink" Target="http://baike.baidu.com/view/58539.htm" TargetMode="External"/><Relationship Id="rId7" Type="http://schemas.openxmlformats.org/officeDocument/2006/relationships/hyperlink" Target="http://image.baidu.com/i?ct=503316480&amp;z=&amp;tn=baiduimagedetail&amp;word=&#687;%F5%FA%C0%BC&amp;in=24161&amp;cl=2&amp;lm=-1&amp;pn=1&amp;rn=1&amp;di=13315498485&amp;ln=2000&amp;fr=&amp;fmq=&amp;ic=0&amp;s=0&amp;se=1&amp;sme=0&amp;tab=&amp;width=&amp;height=&amp;face=0&amp;is=&amp;istype=2" TargetMode="External"/><Relationship Id="rId8" Type="http://schemas.openxmlformats.org/officeDocument/2006/relationships/image" Target="../media/image5.jpe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/moban/jieri/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9" descr="http://pic7.nipic.com/20100524/3426142_215804068908_2.jpg"/>
          <p:cNvPicPr/>
          <p:nvPr/>
        </p:nvPicPr>
        <p:blipFill>
          <a:blip r:embed="rId1"/>
          <a:srcRect l="-53" t="0" r="0" b="3805"/>
          <a:stretch/>
        </p:blipFill>
        <p:spPr>
          <a:xfrm>
            <a:off x="0" y="0"/>
            <a:ext cx="9144000" cy="6934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826920" y="206064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36280" y="1295280"/>
            <a:ext cx="295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9933"/>
                </a:solidFill>
                <a:latin typeface="Arial"/>
              </a:rPr>
              <a:t>父亲节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ppt</a:t>
            </a:r>
            <a:r>
              <a:rPr b="0" lang="zh-CN" sz="3600" spc="-1" strike="noStrike">
                <a:solidFill>
                  <a:srgbClr val="ff9933"/>
                </a:solidFill>
                <a:latin typeface="Arial"/>
              </a:rPr>
              <a:t>免费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http://img2.ooopic.cn/uploadfilepic/weili/2010-01-10/OOOPIC2_sina102_20100110d71a0855bd012eb6.jpg"/>
          <p:cNvPicPr/>
          <p:nvPr/>
        </p:nvPicPr>
        <p:blipFill>
          <a:blip r:embed="rId1"/>
          <a:stretch/>
        </p:blipFill>
        <p:spPr>
          <a:xfrm>
            <a:off x="-30240" y="-79200"/>
            <a:ext cx="9229680" cy="69372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F:\PPT图片\图片1.jpg"/>
          <p:cNvPicPr/>
          <p:nvPr/>
        </p:nvPicPr>
        <p:blipFill>
          <a:blip r:embed="rId2"/>
          <a:stretch/>
        </p:blipFill>
        <p:spPr>
          <a:xfrm>
            <a:off x="8083440" y="5943600"/>
            <a:ext cx="1041480" cy="914400"/>
          </a:xfrm>
          <a:prstGeom prst="rect">
            <a:avLst/>
          </a:prstGeom>
          <a:ln w="0">
            <a:noFill/>
          </a:ln>
        </p:spPr>
      </p:pic>
      <p:sp>
        <p:nvSpPr>
          <p:cNvPr id="46" name="TextBox 3"/>
          <p:cNvSpPr/>
          <p:nvPr/>
        </p:nvSpPr>
        <p:spPr>
          <a:xfrm>
            <a:off x="1371600" y="30240"/>
            <a:ext cx="662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父亲节的由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10"/>
          <p:cNvSpPr/>
          <p:nvPr/>
        </p:nvSpPr>
        <p:spPr>
          <a:xfrm>
            <a:off x="0" y="685800"/>
            <a:ext cx="9126360" cy="26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世界上第一个父亲节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,1910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年诞生在美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是由住在美国</a:t>
            </a:r>
            <a:r>
              <a:rPr b="0" lang="zh-CN" sz="20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3"/>
              </a:rPr>
              <a:t>华盛顿州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斯波坎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(Spokane) 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的布鲁斯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·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多德夫人 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(Mrs. Dodd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Sonora Louise Smart Dodd) 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倡导的。多德夫人的母亲在生育第六个孩子时，因难产而死；多德夫人的父亲威廉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·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斯马特先生 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(Mr. William Smart) 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曾参加过</a:t>
            </a:r>
            <a:r>
              <a:rPr b="0" lang="zh-CN" sz="20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4"/>
              </a:rPr>
              <a:t>南北战争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，他在妻子过世后，独自一人在华盛顿州东部的一个乡下农场，承担起抚养、教育六个孩子的重任。多德夫人排行老二，是家里唯一的女孩，女性的细心特质，让她更能体会父亲的辛劳：斯马特先生白天辛劳地工作，晚上回家还要照料家务与每一个孩子的生活。经过几十年的辛苦，儿女们终于长大成人。当子女们盼望能让斯马特先生好好安享晚年之际，斯马特先生却因多年的过度劳累于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909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年辞世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　　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909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年斯马特先生辞世之年，当多德夫人参加完教会的</a:t>
            </a:r>
            <a:r>
              <a:rPr b="0" lang="zh-CN" sz="20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5"/>
              </a:rPr>
              <a:t>母亲节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感恩礼拜后，她特别想念父亲；多德夫人心中明白，她的父亲在养育儿女过程中所付出的爱和艰辛，并不亚于任何一个母亲。多德夫人将她的感受告诉给教会的瑞马士牧师 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(Rev. Rasmus)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，希望能有一个特别的日子，纪念全天下伟大的父亲。她的这一想法得到了牧师的赞许，同时得到了各教会组织的支持；多德夫人随即写信向</a:t>
            </a:r>
            <a:r>
              <a:rPr b="0" lang="zh-CN" sz="20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6"/>
              </a:rPr>
              <a:t>市长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与州政府表达了自己的想法，并建议以她父亲的生日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——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每年的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月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日作为父亲节。斯波坎市市长与华盛顿州州长公开表示赞成，州政府采纳这一建议的同时，把节期改在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月的第三个星期日。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910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年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月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9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日，多德夫人所在的华盛顿州斯波坎市，举行了全世界的第一次父亲节庆祝活动。在差不多的时间里，美国各地其它城镇的人们也开始庆祝“父亲节”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http://img2.ooopic.cn/uploadfilepic/weili/2010-01-10/OOOPIC2_sina102_20100110d71a0855bd012eb6.jpg"/>
          <p:cNvPicPr/>
          <p:nvPr/>
        </p:nvPicPr>
        <p:blipFill>
          <a:blip r:embed="rId1"/>
          <a:stretch/>
        </p:blipFill>
        <p:spPr>
          <a:xfrm>
            <a:off x="0" y="-79200"/>
            <a:ext cx="9229680" cy="69372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5" descr="F:\PPT图片\图片1.jpg"/>
          <p:cNvPicPr/>
          <p:nvPr/>
        </p:nvPicPr>
        <p:blipFill>
          <a:blip r:embed="rId2"/>
          <a:stretch/>
        </p:blipFill>
        <p:spPr>
          <a:xfrm>
            <a:off x="8083440" y="5943600"/>
            <a:ext cx="1041480" cy="914400"/>
          </a:xfrm>
          <a:prstGeom prst="rect">
            <a:avLst/>
          </a:prstGeom>
          <a:ln w="0">
            <a:noFill/>
          </a:ln>
        </p:spPr>
      </p:pic>
      <p:sp>
        <p:nvSpPr>
          <p:cNvPr id="50" name="TextBox 5"/>
          <p:cNvSpPr/>
          <p:nvPr/>
        </p:nvSpPr>
        <p:spPr>
          <a:xfrm>
            <a:off x="2743200" y="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父亲节花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6"/>
          <p:cNvSpPr/>
          <p:nvPr/>
        </p:nvSpPr>
        <p:spPr>
          <a:xfrm>
            <a:off x="0" y="798480"/>
            <a:ext cx="7086600" cy="166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向日葵配剑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父爱如山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zh-CN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花语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：比海洋更宽阔的是天空，比天空更宽阔的是您的心胸，您额上的皱纹记载着坎坷，您的一生就是一首瑰丽的诗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灿烂时光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各色太阳花，绿叶适量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　　花语：青春是一颗星星眨着真诚的眼睛，青春是一个微笑，传递着流动的快乐，青春是一首歌，唱出了满怀的激情，青春是一首诗，写满了生活的喜怒哀乐。。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" descr="http://t1.baidu.com/it/u=1881937537,3139198926&amp;fm=2&amp;gp=0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989760" y="1360440"/>
            <a:ext cx="2154240" cy="1611360"/>
          </a:xfrm>
          <a:prstGeom prst="rect">
            <a:avLst/>
          </a:prstGeom>
          <a:ln w="0">
            <a:noFill/>
          </a:ln>
        </p:spPr>
      </p:pic>
      <p:sp>
        <p:nvSpPr>
          <p:cNvPr id="53" name="TextBox 7"/>
          <p:cNvSpPr/>
          <p:nvPr/>
        </p:nvSpPr>
        <p:spPr>
          <a:xfrm>
            <a:off x="0" y="3773520"/>
            <a:ext cx="7515360" cy="13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父亲节之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0" lang="zh-CN" sz="20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石斛兰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。由于石斛兰具有秉性刚强、祥和可亲的气质，有许多国家把它作为每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日的“父亲节之花。”在国外，石斛兰的花语为“欢迎你，亲爱的。”父亲节送石斛兰，这是父亲之花，表示坚毅、勇敢；石斛的花语是：欢迎、祝福、纯洁、吉祥、幸福。黄色的石斛兰是在父亲节或父亲的生日时赠送父亲的花，寓意父亲的刚毅、亲切而威严，表达对父亲的敬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http://t1.baidu.com/it/u=1800892017,1659295980&amp;fm=0&amp;gp=0.jpg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7467480" y="3733920"/>
            <a:ext cx="164160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n-US" sz="15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n-US" sz="15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D065B-C22C-42C7-B3BE-2C0ACC4A534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http://img2.ooopic.cn/uploadfilepic/weili/2010-01-10/OOOPIC2_sina102_20100110d71a0855bd012eb6.jpg"/>
          <p:cNvPicPr/>
          <p:nvPr/>
        </p:nvPicPr>
        <p:blipFill>
          <a:blip r:embed="rId1"/>
          <a:stretch/>
        </p:blipFill>
        <p:spPr>
          <a:xfrm>
            <a:off x="0" y="-6480"/>
            <a:ext cx="9229680" cy="69375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" descr="F:\PPT图片\图片1.jpg"/>
          <p:cNvPicPr/>
          <p:nvPr/>
        </p:nvPicPr>
        <p:blipFill>
          <a:blip r:embed="rId2"/>
          <a:stretch/>
        </p:blipFill>
        <p:spPr>
          <a:xfrm>
            <a:off x="8083440" y="5943600"/>
            <a:ext cx="1041480" cy="914400"/>
          </a:xfrm>
          <a:prstGeom prst="rect">
            <a:avLst/>
          </a:prstGeom>
          <a:ln w="0">
            <a:noFill/>
          </a:ln>
        </p:spPr>
      </p:pic>
      <p:sp>
        <p:nvSpPr>
          <p:cNvPr id="60" name="TextBox 5"/>
          <p:cNvSpPr/>
          <p:nvPr/>
        </p:nvSpPr>
        <p:spPr>
          <a:xfrm>
            <a:off x="2030400" y="71280"/>
            <a:ext cx="5105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父亲节非销话题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----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礼物选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6"/>
          <p:cNvSpPr/>
          <p:nvPr/>
        </p:nvSpPr>
        <p:spPr>
          <a:xfrm>
            <a:off x="152280" y="1219320"/>
            <a:ext cx="876312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.”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男孩父亲节就要到了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给爸爸选什么礼物了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?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没想好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?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我给你个建议吧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选条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SLT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牛皮腰带怎么样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?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父亲渐渐老去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但是不论何时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他在儿女心理总是那么伟大。这时候选购一条结实耐用的双面牛皮皮带送给她，让父亲感受到儿女的爱，感受到自身仍然有无穷大的力量和活力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祝愿他永远年轻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.”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美女看你一脸纠结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是不是在为父亲节选礼物发愁啊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?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记得小时候，每个新学期，父亲都给我们买个新书包，这是新学期让我们最开心的事情。到如今，我们长大了，但是爸爸的包包还是那一个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建议你挑选一款我们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SLT 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的包包送给爸爸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我想您父亲不是不换包包而是不记得换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因为他心里只有女儿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父亲节送个包包给爸爸让他知道到，我们心里有着他。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3.”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欢迎光临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帅哥一个人逛街啊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?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想给父亲选礼物吗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?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您送父亲旅游啊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?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真时尚现在最流行送旅游了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能留下美好的回忆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去哪啊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?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三亚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?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那正好我推荐几款服装您看下吧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今年椰树风格非常流行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正好适合您父亲旅游时穿着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而且我们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SLT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的服装不仅设计精良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面料也是相当舒适的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凉爽轻易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吸汗透气是我们夏季服装的最大特点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非常适合您父亲旅游时穿着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来这边请我给您详细介绍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http://www.xinimg.com/uploads/allimg/100409/1_100409082030_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TextBox 3"/>
          <p:cNvSpPr/>
          <p:nvPr/>
        </p:nvSpPr>
        <p:spPr>
          <a:xfrm>
            <a:off x="838080" y="1430280"/>
            <a:ext cx="7467840" cy="23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预祝天下所有父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黑体"/>
                <a:ea typeface="黑体"/>
              </a:rPr>
              <a:t>父亲节快乐</a:t>
            </a:r>
            <a:r>
              <a:rPr b="1" lang="en-US" sz="5400" spc="-1" strike="noStrike">
                <a:solidFill>
                  <a:srgbClr val="ff0000"/>
                </a:solidFill>
                <a:latin typeface="黑体"/>
                <a:ea typeface="黑体"/>
              </a:rPr>
              <a:t>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55640" y="2708280"/>
            <a:ext cx="6251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4876920"/>
            <a:ext cx="64990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节日ppt模板下载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jier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01T07:42:16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09T03:45:44Z</dcterms:modified>
  <cp:revision>8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  <property fmtid="{D5CDD505-2E9C-101B-9397-08002B2CF9AE}" pid="3" name="Version">
    <vt:r8>1</vt:r8>
  </property>
</Properties>
</file>