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42C-9ADA-4661-95FD-B486540E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793-F98C-4592-99AB-DB5A0515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E77-9AB8-489D-A2DE-39929FC3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DBD-0850-4209-81EA-AA30C3F2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76F-7D29-498D-A5AC-0FB21E3A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FE2-9ACF-4A50-B08F-05E73124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0BC-0F29-44A1-BBA2-623D68D5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D36-0C1C-48C8-B0A6-CE925C1B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1C4-EB91-46E2-A488-D19D096E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2E9-0385-4ACF-A03F-268B80BC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E40-53FA-4482-AE33-E5EDBE16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766-341B-4830-BE25-0E8E8B07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C0A9-A8D4-4318-AD64-48BC754F34D6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ppt宝藏_www.pptbz.com_古典扇子\ppt宝藏_www.pptbz.com_古典扇子\ppt宝藏_www.pptbz.com_古典扇子_3.jpg"/>
          <p:cNvPicPr/>
          <p:nvPr/>
        </p:nvPicPr>
        <p:blipFill>
          <a:blip r:embed="rId1"/>
          <a:stretch/>
        </p:blipFill>
        <p:spPr>
          <a:xfrm>
            <a:off x="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7728120" y="1197000"/>
            <a:ext cx="731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350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002840" y="2492280"/>
            <a:ext cx="26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古典扇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Administrator\桌面\ppt宝藏_www.pptbz.com_古典扇子\ppt宝藏_www.pptbz.com_古典扇子\ppt宝藏_www.pptbz.com_古典扇子_2.jpg"/>
          <p:cNvPicPr/>
          <p:nvPr/>
        </p:nvPicPr>
        <p:blipFill>
          <a:blip r:embed="rId1"/>
          <a:stretch/>
        </p:blipFill>
        <p:spPr>
          <a:xfrm>
            <a:off x="3240" y="600120"/>
            <a:ext cx="9140760" cy="5826240"/>
          </a:xfrm>
          <a:prstGeom prst="rect">
            <a:avLst/>
          </a:prstGeom>
          <a:ln w="0">
            <a:noFill/>
          </a:ln>
        </p:spPr>
      </p:pic>
      <p:sp>
        <p:nvSpPr>
          <p:cNvPr id="79" name="矩形 5"/>
          <p:cNvSpPr/>
          <p:nvPr/>
        </p:nvSpPr>
        <p:spPr>
          <a:xfrm>
            <a:off x="7864920" y="12549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谢谢观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istrator\桌面\ppt宝藏_www.pptbz.com_古典扇子\ppt宝藏_www.pptbz.com_古典扇子\ppt宝藏_www.pptbz.com_古典扇子_1.jpg"/>
          <p:cNvPicPr/>
          <p:nvPr/>
        </p:nvPicPr>
        <p:blipFill>
          <a:blip r:embed="rId1"/>
          <a:stretch/>
        </p:blipFill>
        <p:spPr>
          <a:xfrm>
            <a:off x="3240" y="600120"/>
            <a:ext cx="9140760" cy="5826240"/>
          </a:xfrm>
          <a:prstGeom prst="rect">
            <a:avLst/>
          </a:prstGeom>
          <a:ln w="0">
            <a:noFill/>
          </a:ln>
        </p:spPr>
      </p:pic>
      <p:sp>
        <p:nvSpPr>
          <p:cNvPr id="46" name="矩形 3"/>
          <p:cNvSpPr/>
          <p:nvPr/>
        </p:nvSpPr>
        <p:spPr>
          <a:xfrm>
            <a:off x="455760" y="2597040"/>
            <a:ext cx="5461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1692360" y="910080"/>
            <a:ext cx="5461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975040" y="910080"/>
            <a:ext cx="5461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istrator\桌面\ppt宝藏_www.pptbz.com_古典扇子\ppt宝藏_www.pptbz.com_古典扇子\ppt宝藏_www.pptbz.com_古典扇子_4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istrator\桌面\ppt宝藏_www.pptbz.com_古典扇子\ppt宝藏_www.pptbz.com_古典扇子\ppt宝藏_www.pptbz.com_古典扇子_5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54" name="矩形 3"/>
          <p:cNvSpPr/>
          <p:nvPr/>
        </p:nvSpPr>
        <p:spPr>
          <a:xfrm>
            <a:off x="507960" y="257400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1731960" y="88704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017880" y="88704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istrator\桌面\ppt宝藏_www.pptbz.com_古典扇子\ppt宝藏_www.pptbz.com_古典扇子\ppt宝藏_www.pptbz.com_古典扇子_7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58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istrator\桌面\ppt宝藏_www.pptbz.com_古典扇子\ppt宝藏_www.pptbz.com_古典扇子\ppt宝藏_www.pptbz.com_古典扇子_6.jpg"/>
          <p:cNvPicPr/>
          <p:nvPr/>
        </p:nvPicPr>
        <p:blipFill>
          <a:blip r:embed="rId1"/>
          <a:stretch/>
        </p:blipFill>
        <p:spPr>
          <a:xfrm>
            <a:off x="-6480" y="620640"/>
            <a:ext cx="9150480" cy="580572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331920" y="27525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1555560" y="10659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41480" y="10659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istrator\桌面\ppt宝藏_www.pptbz.com_古典扇子\ppt宝藏_www.pptbz.com_古典扇子\ppt宝藏_www.pptbz.com_古典扇子_8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66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eppt.com/moban/zhongguofeng/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30A-D7EB-45FA-822E-F608E7B978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istrator\桌面\ppt宝藏_www.pptbz.com_古典扇子\ppt宝藏_www.pptbz.com_古典扇子\ppt宝藏_www.pptbz.com_古典扇子_9.jpg"/>
          <p:cNvPicPr/>
          <p:nvPr/>
        </p:nvPicPr>
        <p:blipFill>
          <a:blip r:embed="rId1"/>
          <a:stretch/>
        </p:blipFill>
        <p:spPr>
          <a:xfrm>
            <a:off x="-19080" y="620640"/>
            <a:ext cx="9163080" cy="5805720"/>
          </a:xfrm>
          <a:prstGeom prst="rect">
            <a:avLst/>
          </a:prstGeom>
          <a:ln w="0">
            <a:noFill/>
          </a:ln>
        </p:spPr>
      </p:pic>
      <p:sp>
        <p:nvSpPr>
          <p:cNvPr id="74" name="矩形 3"/>
          <p:cNvSpPr/>
          <p:nvPr/>
        </p:nvSpPr>
        <p:spPr>
          <a:xfrm>
            <a:off x="5443560" y="2718360"/>
            <a:ext cx="54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一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666756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二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7953480" y="1031760"/>
            <a:ext cx="54612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孙过庭草体测试版"/>
                <a:ea typeface="孙过庭草体测试版"/>
              </a:rPr>
              <a:t>标题三：请输入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9097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8:50:3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40:4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