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040-D246-4774-82E1-EDEDE1BA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F85-E470-46C6-9B2B-5D60DC80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0E2-AAA3-4DE5-8DCF-CA958CBF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87A1-AE83-4D91-B901-7CDA2DF0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F15B-F237-4379-BBA1-B476F943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C119-3D56-4F4B-B8E0-8FDF3D03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52B7-E089-4511-8FD5-9AC91F94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2991-A5CD-40F3-B583-BA9FF29A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88E3-8B10-4A3E-93CB-C15BC52B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719F-0998-47FF-9ACF-C7A41AE6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8083-BC98-4071-8AE9-07BE8C15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B56-11F6-4FCE-B8E0-8A83BE15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0D57-C5D8-4381-8E7C-EC8C4BC8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D6F4-8AE8-4EA4-B2FB-F3BF7181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9887-0A7E-4079-9AF6-92170AC6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4165-6D73-48F6-9781-35EF449F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F58E-EB93-4579-BBDE-C1CEB82C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ADD21-B315-497E-BB5B-D84ED824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9F50-4B6B-404C-8CF5-307198AF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05AF-54BE-4264-9EB8-A6878DD8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181C9-11A1-4B19-834B-76236616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BC19B-A25B-43F9-AA5B-D182EBA0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752-80F0-4F8D-827B-8F53F53F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F047-4C93-42B4-A476-9FAED1FA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CA5AD-F8C5-4069-B95E-8485E22F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36B5-9EB9-4D12-B2BD-EE5A4EE6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25C2E-0870-4D27-B98F-E4E5860D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0349-5873-47C6-84BB-6BEEEE88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CAC4B-479B-4D4A-9986-0BF434D2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225C8-AAF9-4B37-BF69-EEC0C3A1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D08-0C3A-4AC8-B255-A7AD412D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63F-F70E-45C7-BF32-B4E2B5DB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3CD-3B62-42B1-9081-B1C657AA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F97-142F-486F-ABB2-7E28EC6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5F5-3707-4952-9F7B-01937F26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AB1-F2A6-4E63-8440-3C032EFD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DF75-61CB-4604-BEB7-607457F7F9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F190-4610-4FC8-A640-0FDFA2439C6C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9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3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5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5DEF-82CD-4CA6-A175-915AFCFAB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2484360" y="1341360"/>
            <a:ext cx="45007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3213000"/>
            <a:ext cx="46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37040" y="1773360"/>
            <a:ext cx="23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故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中年闰土"/>
          <p:cNvPicPr/>
          <p:nvPr/>
        </p:nvPicPr>
        <p:blipFill>
          <a:blip r:embed="rId1"/>
          <a:stretch/>
        </p:blipFill>
        <p:spPr>
          <a:xfrm>
            <a:off x="0" y="0"/>
            <a:ext cx="42372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6"/>
          <p:cNvSpPr/>
          <p:nvPr/>
        </p:nvSpPr>
        <p:spPr>
          <a:xfrm>
            <a:off x="4572000" y="119700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脸色灰黄   皱纹深  极薄的棉衣  眼肿得通红  破毡帽  手粗笨开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643280" y="2852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话吞吞吐吐    只是摇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谦恭又含糊     迟钝麻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5148360" y="45086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恭恭敬敬    呼“我”老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5364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悲哀痛苦    寄托神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3203640" y="162864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3203640" y="306864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2700360" y="4508640"/>
            <a:ext cx="19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我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2556000" y="573408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生活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5292720" y="26028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中年闰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6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6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6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6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6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6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6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6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6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b8fcf4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4357080" y="112536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多子、饥荒、苛税、兵、匪、官、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3097440" y="177336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社会落后愚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920120" y="2492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隶书"/>
              </a:rPr>
              <a:t>帝国主义侵略、封建社会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2268360" y="33336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闰土变化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9"/>
          <p:cNvSpPr/>
          <p:nvPr/>
        </p:nvSpPr>
        <p:spPr>
          <a:xfrm>
            <a:off x="1476360" y="119700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0" y="1413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表面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0" y="263700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深层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539640" y="35020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闰土的遭遇正是当时广大受压迫、受剥削农民的具体写照。作者塑造这一形象的目的，也就在于揭示帝国主义、封建社会双重压迫给中国人民带来的灾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0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6" descr="j0229389"/>
          <p:cNvPicPr/>
          <p:nvPr/>
        </p:nvPicPr>
        <p:blipFill>
          <a:blip r:embed="rId1"/>
          <a:stretch/>
        </p:blipFill>
        <p:spPr>
          <a:xfrm>
            <a:off x="250920" y="957240"/>
            <a:ext cx="8424720" cy="55404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4"/>
          <p:cNvSpPr/>
          <p:nvPr/>
        </p:nvSpPr>
        <p:spPr>
          <a:xfrm>
            <a:off x="5504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景物描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686160" y="1197000"/>
            <a:ext cx="70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段 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629280" y="22766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段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19200" y="3284640"/>
            <a:ext cx="79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7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段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611280" y="4581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华文行楷"/>
              </a:rPr>
              <a:t>景物描写有力地渲染了气氛，烘托出了人物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2484360" y="1474920"/>
            <a:ext cx="49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9"/>
          <p:cNvSpPr/>
          <p:nvPr/>
        </p:nvSpPr>
        <p:spPr>
          <a:xfrm>
            <a:off x="3060720" y="1268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农村的衰败和悲凉的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2124000" y="234936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明丽、五彩缤纷的图画和明朗愉快的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3708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静谧的气氛，情景交融的意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324000" y="25092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写作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0" y="3068640"/>
            <a:ext cx="125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260360" y="836640"/>
            <a:ext cx="7632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少年闰土和成年闰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农民命运的日益悲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我和闰土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封建等级的鸿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杨二嫂前后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黑暗社会已病入膏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故乡情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每况愈下的中国农村经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我和闰土的关系与宏儿水生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对未来生活的向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684360" y="1125360"/>
            <a:ext cx="368280" cy="5256360"/>
          </a:xfrm>
          <a:custGeom>
            <a:avLst/>
            <a:gdLst>
              <a:gd name="textAreaLeft" fmla="*/ 235440 w 368280"/>
              <a:gd name="textAreaRight" fmla="*/ 368640 w 36828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20"/>
                </a:lnTo>
                <a:cubicBezTo>
                  <a:pt x="10800" y="10020"/>
                  <a:pt x="5400" y="10920"/>
                  <a:pt x="0" y="10920"/>
                </a:cubicBezTo>
                <a:cubicBezTo>
                  <a:pt x="5400" y="10920"/>
                  <a:pt x="10800" y="11820"/>
                  <a:pt x="10800" y="12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5" descr="看戏河埠"/>
          <p:cNvPicPr/>
          <p:nvPr/>
        </p:nvPicPr>
        <p:blipFill>
          <a:blip r:embed="rId2"/>
          <a:stretch/>
        </p:blipFill>
        <p:spPr>
          <a:xfrm>
            <a:off x="5364000" y="3068640"/>
            <a:ext cx="3240360" cy="21366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9" descr="图像-32"/>
          <p:cNvPicPr/>
          <p:nvPr/>
        </p:nvPicPr>
        <p:blipFill>
          <a:blip r:embed="rId3"/>
          <a:stretch/>
        </p:blipFill>
        <p:spPr>
          <a:xfrm>
            <a:off x="5292720" y="569880"/>
            <a:ext cx="33829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6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6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6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3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俯首甘为儒子牛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"/>
          <p:cNvSpPr/>
          <p:nvPr/>
        </p:nvSpPr>
        <p:spPr>
          <a:xfrm>
            <a:off x="2117160" y="1125360"/>
            <a:ext cx="5301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希望是本无所谓有，无所谓无的。这正如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上的路，其实地上本没有路，走的人多了，也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成了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395280" y="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品味语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0" y="39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只空有希望而不去奋斗、追求，希望便“无所谓有”；有了希望并始终不渝地斗争、实践，希望便“无所谓无”。人们都满怀希望奋斗，就会迎来新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16TBC41"/>
          <p:cNvPicPr/>
          <p:nvPr/>
        </p:nvPicPr>
        <p:blipFill>
          <a:blip r:embed="rId1"/>
          <a:stretch/>
        </p:blipFill>
        <p:spPr>
          <a:xfrm>
            <a:off x="2771640" y="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读书图"/>
          <p:cNvPicPr/>
          <p:nvPr/>
        </p:nvPicPr>
        <p:blipFill>
          <a:blip r:embed="rId2"/>
          <a:stretch/>
        </p:blipFill>
        <p:spPr>
          <a:xfrm>
            <a:off x="1044720" y="3357720"/>
            <a:ext cx="3527280" cy="313992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9"/>
          <p:cNvSpPr/>
          <p:nvPr/>
        </p:nvSpPr>
        <p:spPr>
          <a:xfrm>
            <a:off x="468360" y="260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琥珀"/>
              </a:rPr>
              <a:t>思考题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826920" y="1125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作者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故乡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中描写了三个“故乡”你知道是那几个吗？作者重点写了那一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1258920" y="270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文中的“水生”“宏儿”起到了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4716360" y="3141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这篇小说的主题，有以下几种理解你赞同哪一种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4572000" y="422100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人的生命和活力被扼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纯真的人性被扭曲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愚味、落后、贫穷的轮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渴望理想的人与人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2454480" y="1992240"/>
            <a:ext cx="49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回忆中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乡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现实中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乡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理想中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乡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1600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250920" y="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谈谈小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39640" y="90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琥珀"/>
              </a:rPr>
              <a:t>小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619280" y="76500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以塑造人物为中心，通过完整的故事情节的叙述和环境的描写反映社会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0" y="2205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琥珀"/>
              </a:rPr>
              <a:t>小说分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1619280" y="198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908000" y="1700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长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908000" y="220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908000" y="270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短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3059280" y="198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3348000" y="2205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按篇幅长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5364000" y="2276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（小小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0" y="349092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琥珀"/>
              </a:rPr>
              <a:t>小说三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95640" y="3500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人物、故事情节、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0" y="422100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琥珀"/>
              </a:rPr>
              <a:t>人物塑造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2662200" y="4221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外貌、语言、动作、心理。 （神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0" y="508464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彩云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琥珀"/>
              </a:rPr>
              <a:t>故事情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1763640" y="508464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开端、发展、高潮、结局。 （序幕、尾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250920" y="595008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琥珀"/>
              </a:rPr>
              <a:t>环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2"/>
          <p:cNvSpPr/>
          <p:nvPr/>
        </p:nvSpPr>
        <p:spPr>
          <a:xfrm>
            <a:off x="1476360" y="5877000"/>
            <a:ext cx="142920" cy="72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1763640" y="5697360"/>
            <a:ext cx="26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自然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社会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6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6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6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6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6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E023-E978-4D45-82F7-C3213E7CC2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1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鲁迅像2"/>
          <p:cNvPicPr/>
          <p:nvPr/>
        </p:nvPicPr>
        <p:blipFill>
          <a:blip r:embed="rId16"/>
          <a:stretch/>
        </p:blipFill>
        <p:spPr>
          <a:xfrm>
            <a:off x="0" y="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6"/>
          <p:cNvSpPr/>
          <p:nvPr/>
        </p:nvSpPr>
        <p:spPr>
          <a:xfrm>
            <a:off x="3851280" y="476280"/>
            <a:ext cx="507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881—19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于浙江绍兴，原名周树人，字豫才，我国现代伟大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文学家、思想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革命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第一篇小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狂人日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鲁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笔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50920" y="3284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著名作品集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朝花夕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呐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彷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华盖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24000" y="42926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华文新魏"/>
              </a:rPr>
              <a:t>在初中我们学过他的作品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0" y="472428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从百草园到三味书屋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34920" y="51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社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34920" y="5661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阿长与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山海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34920" y="6165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鲁迅自传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354560" y="4724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朝花夕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354560" y="522936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呐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356000" y="57340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朝花夕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4356000" y="623736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集外集拾遗补篇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5504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作品介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1335240"/>
            <a:ext cx="8424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华文楷体"/>
                <a:ea typeface="华文楷体"/>
              </a:rPr>
              <a:t>     </a:t>
            </a:r>
            <a:r>
              <a:rPr b="1" lang="en-US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《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故乡</a:t>
            </a:r>
            <a:r>
              <a:rPr b="1" lang="en-US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》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运用了第一人称的叙述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通过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对故乡景色和人物前后变化的描写反映了当时旧中国的社会现实。作者深切地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触到故乡的衰败，并以此作为小说的情节基础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描写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以闰土为代表的旧中国农民的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惨生活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表达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</a:t>
            </a:r>
            <a:r>
              <a:rPr b="1" lang="zh-CN" sz="3200" spc="-1" strike="noStrike">
                <a:solidFill>
                  <a:srgbClr val="006600"/>
                </a:solidFill>
                <a:latin typeface="华文楷体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我</a:t>
            </a:r>
            <a:r>
              <a:rPr b="1" lang="zh-CN" sz="3200" spc="-1" strike="noStrike">
                <a:solidFill>
                  <a:srgbClr val="006600"/>
                </a:solidFill>
                <a:latin typeface="华文楷体"/>
                <a:ea typeface="方正姚体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对贫苦农民的深切同情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反映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农村经济的日益破产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揭示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民日益贫困的社会根源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抒发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热切向往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生活的愿望</a:t>
            </a:r>
            <a:r>
              <a:rPr b="1" lang="zh-CN" sz="3600" spc="-1" strike="noStrike">
                <a:solidFill>
                  <a:srgbClr val="006600"/>
                </a:solidFill>
                <a:latin typeface="方正姚体"/>
                <a:ea typeface="方正姚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0" y="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结构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611280" y="90792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一段：  写“我”渐近故乡时的悲凉心情和眼前故乡破败萧条的景象，交代了“我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时间和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11280" y="2997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段：叙述“我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在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见闻、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4360" y="458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三段：写“我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离开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心情、感想，表达了“我”对新生活的向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826920" y="2205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开头到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1042920" y="3573360"/>
            <a:ext cx="68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到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1835280" y="5516640"/>
            <a:ext cx="65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到结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226836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1619280" y="35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3995640" y="3500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2340000" y="54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6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6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0" y="9079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小说以“我”的行踪（回故乡、在故乡、离故乡）为经，以“我”的见闻、感受为纬，逐步展开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0" y="0"/>
            <a:ext cx="33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故事情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042920" y="2205000"/>
            <a:ext cx="129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方正姚体"/>
              </a:rPr>
              <a:t>回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1-5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2484360" y="2133720"/>
            <a:ext cx="71640" cy="9349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2627280" y="1916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回乡时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2700360" y="24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回乡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2700360" y="2924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所见景象及心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1042920" y="4005360"/>
            <a:ext cx="1368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方正姚体"/>
              </a:rPr>
              <a:t>在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6-77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4"/>
          <p:cNvSpPr/>
          <p:nvPr/>
        </p:nvSpPr>
        <p:spPr>
          <a:xfrm>
            <a:off x="2484360" y="4076640"/>
            <a:ext cx="73080" cy="115272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2556000" y="3789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到家那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6"/>
          <p:cNvSpPr/>
          <p:nvPr/>
        </p:nvSpPr>
        <p:spPr>
          <a:xfrm>
            <a:off x="4211640" y="3573360"/>
            <a:ext cx="73080" cy="8654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2484360" y="4581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过了三四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2556000" y="501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又过了九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1116000" y="5589720"/>
            <a:ext cx="129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方正姚体"/>
              </a:rPr>
              <a:t>离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78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-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2556000" y="5734080"/>
            <a:ext cx="71280" cy="79200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2700360" y="566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船上谈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2771640" y="6093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我”的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4356000" y="33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母子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4427640" y="37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回忆少年闰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435600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见到杨二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442764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见到了闰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427640" y="501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动身启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406728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严寒的冬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4067280" y="2421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卖屋、搬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5292720" y="2924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萧索、悲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2"/>
          <p:cNvSpPr/>
          <p:nvPr/>
        </p:nvSpPr>
        <p:spPr>
          <a:xfrm>
            <a:off x="-38880" y="2276640"/>
            <a:ext cx="911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3"/>
          <p:cNvSpPr/>
          <p:nvPr/>
        </p:nvSpPr>
        <p:spPr>
          <a:xfrm>
            <a:off x="-84960" y="3645000"/>
            <a:ext cx="911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发展与高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4"/>
          <p:cNvSpPr/>
          <p:nvPr/>
        </p:nvSpPr>
        <p:spPr>
          <a:xfrm>
            <a:off x="-38880" y="5734080"/>
            <a:ext cx="91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250920" y="260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人物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50920" y="1413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闰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798560" y="1197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是一个勤劳善良，质朴老实，痛苦麻木，但不觉悟的农民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50920" y="31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杨二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1763640" y="314172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是一个贪婪、尖刻、鄙俗，自私庸俗的小市民典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250920" y="4941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我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619280" y="5013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是一个对现实不满正在追求进步的知识分子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1908000" y="206064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哀其不幸，怒其不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1908000" y="371628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既可恨、可鄙又可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1692360" y="544500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寄希望于未来，却又对前途感到渺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1835280" y="2565360"/>
            <a:ext cx="73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揭示帝国主义、封建社会给中国人民带来的灾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1619280" y="429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在三座大山压榨下乡镇小市民也逃不了日益贫困的厄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1763640" y="58770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串联全文。（故乡及故乡人的变化都是通过“我”的观察与感受表现出来的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0" y="213372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0" y="3789360"/>
            <a:ext cx="205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0" y="544500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2"/>
          <p:cNvSpPr/>
          <p:nvPr/>
        </p:nvSpPr>
        <p:spPr>
          <a:xfrm>
            <a:off x="0" y="263700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33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3"/>
          <p:cNvSpPr/>
          <p:nvPr/>
        </p:nvSpPr>
        <p:spPr>
          <a:xfrm>
            <a:off x="0" y="4365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33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4"/>
          <p:cNvSpPr/>
          <p:nvPr/>
        </p:nvSpPr>
        <p:spPr>
          <a:xfrm>
            <a:off x="0" y="5950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33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8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0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155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1155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4" dur="1155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6" dur="1155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少年闰土"/>
          <p:cNvPicPr/>
          <p:nvPr/>
        </p:nvPicPr>
        <p:blipFill>
          <a:blip r:embed="rId1"/>
          <a:stretch/>
        </p:blipFill>
        <p:spPr>
          <a:xfrm>
            <a:off x="0" y="0"/>
            <a:ext cx="42372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6"/>
          <p:cNvSpPr/>
          <p:nvPr/>
        </p:nvSpPr>
        <p:spPr>
          <a:xfrm>
            <a:off x="4967280" y="1268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十一二岁  紫色圆脸   毡帽、银项圈   红活圆实的手 健康壮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4788000" y="2924280"/>
            <a:ext cx="43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活泼刚健  动作利落  有智有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语言朴质生动    热情纯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5076720" y="4508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友好热情   纯真平等友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5148360" y="566100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热爱生活 生活知识丰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天真活泼   无忧无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3492360" y="177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3492360" y="3141720"/>
            <a:ext cx="14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语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3059280" y="44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我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2916360" y="5805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生活的态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5219640" y="333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少年闰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6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6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6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6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6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6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6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6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6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4:37:2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1:41:51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