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8DF-3A49-4507-833C-9B6D9DE5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89154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3600" y="3671280"/>
            <a:ext cx="89154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08D-62F9-4E1C-A03D-8A4C68C4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220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3600" y="36712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2000" y="36712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7B9-4A23-401C-A0A3-990C62F2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3078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82880" y="13078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3600" y="36712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6712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82880" y="36712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8D9-BE16-4B56-8D01-AFF9E808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3600" y="1307880"/>
            <a:ext cx="891540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AFA-3C43-47CB-A38C-6C201D61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89154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2B6-0DAF-4FF3-9AFA-25D23BE0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43506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2000" y="1307880"/>
            <a:ext cx="43506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4E1-CE2B-437E-A514-F0F9DA03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585-B812-448C-AB0E-51B4D14F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3600" y="428760"/>
            <a:ext cx="891540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A16-D517-492F-A518-565569A4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2000" y="1307880"/>
            <a:ext cx="43506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600" y="36712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224-370D-4061-AC90-353C0F50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43506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20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2000" y="36712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6DD-BBDD-40BE-A61E-B458CEF5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20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3600" y="3671280"/>
            <a:ext cx="89154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D52-D904-44ED-8C96-869314C3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500" spc="-1" strike="noStrike">
                <a:solidFill>
                  <a:srgbClr val="00b0f0"/>
                </a:solidFill>
                <a:latin typeface="微软雅黑"/>
              </a:rPr>
              <a:t>Click to edit the title text format</a:t>
            </a: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3600" y="1307880"/>
            <a:ext cx="89154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79520" indent="47916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95868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438200" indent="-47952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1916280" indent="-95760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1916280" indent="-95760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1916280" indent="-95760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marL="958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58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32FC-D5BE-41D4-82E3-4F803411710D}" type="datetime">
              <a:rPr b="0" lang="zh-CN" sz="13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958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marL="95868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5868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49D3-A968-445D-A04F-E466C12031AD}" type="slidenum">
              <a:rPr b="0" lang="zh-CN" sz="13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圆角矩形 3"/>
          <p:cNvSpPr/>
          <p:nvPr/>
        </p:nvSpPr>
        <p:spPr>
          <a:xfrm>
            <a:off x="0" y="0"/>
            <a:ext cx="9906120" cy="765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12600" y="6524640"/>
            <a:ext cx="9902880" cy="333360"/>
            <a:chOff x="-12600" y="6524640"/>
            <a:chExt cx="9902880" cy="333360"/>
          </a:xfrm>
        </p:grpSpPr>
        <p:sp>
          <p:nvSpPr>
            <p:cNvPr id="7" name="圆角矩形 6"/>
            <p:cNvSpPr/>
            <p:nvPr/>
          </p:nvSpPr>
          <p:spPr>
            <a:xfrm>
              <a:off x="-12600" y="6524640"/>
              <a:ext cx="1987920" cy="333360"/>
            </a:xfrm>
            <a:prstGeom prst="roundRect">
              <a:avLst>
                <a:gd name="adj" fmla="val 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58680" indent="-95868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圆角矩形 7"/>
            <p:cNvSpPr/>
            <p:nvPr/>
          </p:nvSpPr>
          <p:spPr>
            <a:xfrm>
              <a:off x="1975320" y="6524640"/>
              <a:ext cx="7914960" cy="333360"/>
            </a:xfrm>
            <a:prstGeom prst="roundRect">
              <a:avLst>
                <a:gd name="adj" fmla="val 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58680" indent="-95868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5"/>
          <p:cNvSpPr/>
          <p:nvPr/>
        </p:nvSpPr>
        <p:spPr>
          <a:xfrm>
            <a:off x="237960" y="279360"/>
            <a:ext cx="990612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宋体"/>
                <a:ea typeface="宋体"/>
              </a:rPr>
              <a:t>汇报动态</a:t>
            </a:r>
            <a:r>
              <a:rPr b="0" lang="en-US" sz="19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1900" spc="-1" strike="noStrike">
                <a:solidFill>
                  <a:srgbClr val="ffffff"/>
                </a:solidFill>
                <a:latin typeface="宋体"/>
                <a:ea typeface="宋体"/>
              </a:rPr>
              <a:t>模板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3683160" y="2178000"/>
            <a:ext cx="1520640" cy="1467000"/>
          </a:xfrm>
          <a:prstGeom prst="rect">
            <a:avLst/>
          </a:prstGeom>
          <a:ln w="0">
            <a:noFill/>
          </a:ln>
        </p:spPr>
      </p:pic>
      <p:sp>
        <p:nvSpPr>
          <p:cNvPr id="47" name="圆角矩形 10"/>
          <p:cNvSpPr/>
          <p:nvPr/>
        </p:nvSpPr>
        <p:spPr>
          <a:xfrm>
            <a:off x="3710160" y="549360"/>
            <a:ext cx="1466640" cy="1466640"/>
          </a:xfrm>
          <a:prstGeom prst="roundRect">
            <a:avLst>
              <a:gd name="adj" fmla="val 86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圆角矩形 11"/>
          <p:cNvSpPr/>
          <p:nvPr/>
        </p:nvSpPr>
        <p:spPr>
          <a:xfrm>
            <a:off x="2081160" y="2178000"/>
            <a:ext cx="1467000" cy="1467000"/>
          </a:xfrm>
          <a:prstGeom prst="roundRect">
            <a:avLst>
              <a:gd name="adj" fmla="val 75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圆角矩形 12"/>
          <p:cNvSpPr/>
          <p:nvPr/>
        </p:nvSpPr>
        <p:spPr>
          <a:xfrm>
            <a:off x="5340240" y="2178000"/>
            <a:ext cx="1465200" cy="1467000"/>
          </a:xfrm>
          <a:custGeom>
            <a:avLst/>
            <a:gdLst>
              <a:gd name="textAreaLeft" fmla="*/ 32040 w 1465200"/>
              <a:gd name="textAreaRight" fmla="*/ 1433160 w 1465200"/>
              <a:gd name="textAreaTop" fmla="*/ 32040 h 1467000"/>
              <a:gd name="textAreaBottom" fmla="*/ 1434960 h 1467000"/>
            </a:gdLst>
            <a:ahLst/>
            <a:rect l="textAreaLeft" t="textAreaTop" r="textAreaRight" b="textAreaBottom"/>
            <a:pathLst>
              <a:path w="21600" h="21627">
                <a:moveTo>
                  <a:pt x="1620" y="0"/>
                </a:moveTo>
                <a:arcTo wR="1620" hR="1620" stAng="16200000" swAng="-5400000"/>
                <a:lnTo>
                  <a:pt x="0" y="20007"/>
                </a:lnTo>
                <a:arcTo wR="1620" hR="1620" stAng="10800000" swAng="-5400000"/>
                <a:lnTo>
                  <a:pt x="19980" y="21627"/>
                </a:lnTo>
                <a:arcTo wR="1620" hR="1620" stAng="5400000" swAng="-5400000"/>
                <a:lnTo>
                  <a:pt x="21600" y="1620"/>
                </a:lnTo>
                <a:arcTo wR="1620" hR="1620" stAng="0" swAng="-5400000"/>
                <a:close/>
              </a:path>
            </a:pathLst>
          </a:custGeom>
          <a:solidFill>
            <a:srgbClr val="5f4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10" descr=""/>
          <p:cNvPicPr/>
          <p:nvPr/>
        </p:nvPicPr>
        <p:blipFill>
          <a:blip r:embed="rId2"/>
          <a:srcRect l="16887" t="0" r="10487" b="5076"/>
          <a:stretch/>
        </p:blipFill>
        <p:spPr>
          <a:xfrm>
            <a:off x="2079720" y="549360"/>
            <a:ext cx="1504800" cy="14698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"/>
          <p:cNvPicPr/>
          <p:nvPr/>
        </p:nvPicPr>
        <p:blipFill>
          <a:blip r:embed="rId3"/>
          <a:srcRect l="26520" t="0" r="0" b="6260"/>
          <a:stretch/>
        </p:blipFill>
        <p:spPr>
          <a:xfrm>
            <a:off x="3683160" y="2138400"/>
            <a:ext cx="1536480" cy="15066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4"/>
          <a:srcRect l="3391" t="0" r="23946" b="8863"/>
          <a:stretch/>
        </p:blipFill>
        <p:spPr>
          <a:xfrm>
            <a:off x="6921360" y="2178000"/>
            <a:ext cx="1487520" cy="1467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5"/>
          <a:srcRect l="6649" t="14009" r="6972" b="2644"/>
          <a:stretch/>
        </p:blipFill>
        <p:spPr>
          <a:xfrm>
            <a:off x="200160" y="1133640"/>
            <a:ext cx="1730160" cy="2511360"/>
          </a:xfrm>
          <a:prstGeom prst="rect">
            <a:avLst/>
          </a:prstGeom>
          <a:ln w="0">
            <a:noFill/>
          </a:ln>
        </p:spPr>
      </p:pic>
      <p:sp>
        <p:nvSpPr>
          <p:cNvPr id="54" name="圆角矩形 14"/>
          <p:cNvSpPr/>
          <p:nvPr/>
        </p:nvSpPr>
        <p:spPr>
          <a:xfrm>
            <a:off x="258840" y="479520"/>
            <a:ext cx="1671480" cy="639720"/>
          </a:xfrm>
          <a:prstGeom prst="roundRect">
            <a:avLst>
              <a:gd name="adj" fmla="val 76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17"/>
          <p:cNvSpPr/>
          <p:nvPr/>
        </p:nvSpPr>
        <p:spPr>
          <a:xfrm>
            <a:off x="7832880" y="260280"/>
            <a:ext cx="18730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0" lang="en-US" sz="1900" spc="-1" strike="noStrike">
                <a:solidFill>
                  <a:srgbClr val="c00000"/>
                </a:solidFill>
                <a:latin typeface="Calibri"/>
                <a:ea typeface="Calibri"/>
              </a:rPr>
              <a:t>LOG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0160" y="4619160"/>
            <a:ext cx="9072360" cy="825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2500" spc="-1" strike="noStrike">
                <a:solidFill>
                  <a:srgbClr val="00b0f0"/>
                </a:solidFill>
                <a:latin typeface="微软雅黑"/>
              </a:rPr>
              <a:t> </a:t>
            </a: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31800" y="400536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XX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公司名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1569960" y="54198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8680" indent="-958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373120" y="4359240"/>
            <a:ext cx="45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8680" indent="-958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汇报动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圆角矩形 5"/>
          <p:cNvSpPr/>
          <p:nvPr/>
        </p:nvSpPr>
        <p:spPr>
          <a:xfrm>
            <a:off x="0" y="0"/>
            <a:ext cx="9906120" cy="3645000"/>
          </a:xfrm>
          <a:prstGeom prst="roundRect">
            <a:avLst>
              <a:gd name="adj" fmla="val 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239840" y="1263600"/>
            <a:ext cx="3706920" cy="1157400"/>
            <a:chOff x="1239840" y="1263600"/>
            <a:chExt cx="3706920" cy="1157400"/>
          </a:xfrm>
        </p:grpSpPr>
        <p:pic>
          <p:nvPicPr>
            <p:cNvPr id="62" name="Picture 7" descr=""/>
            <p:cNvPicPr/>
            <p:nvPr/>
          </p:nvPicPr>
          <p:blipFill>
            <a:blip r:embed="rId1"/>
            <a:stretch/>
          </p:blipFill>
          <p:spPr>
            <a:xfrm>
              <a:off x="2536920" y="1263600"/>
              <a:ext cx="1195560" cy="11527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pic>
          <p:nvPicPr>
            <p:cNvPr id="63" name="Picture 6" descr=""/>
            <p:cNvPicPr/>
            <p:nvPr/>
          </p:nvPicPr>
          <p:blipFill>
            <a:blip r:embed="rId2"/>
            <a:stretch/>
          </p:blipFill>
          <p:spPr>
            <a:xfrm>
              <a:off x="1239840" y="1263600"/>
              <a:ext cx="1217160" cy="11527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pic>
          <p:nvPicPr>
            <p:cNvPr id="64" name="Picture 8" descr=""/>
            <p:cNvPicPr/>
            <p:nvPr/>
          </p:nvPicPr>
          <p:blipFill>
            <a:blip r:embed="rId3"/>
            <a:srcRect l="0" t="5579" r="0" b="9538"/>
            <a:stretch/>
          </p:blipFill>
          <p:spPr>
            <a:xfrm>
              <a:off x="3810240" y="1268280"/>
              <a:ext cx="1136520" cy="11527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71560" y="2790360"/>
            <a:ext cx="6242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br>
              <a:rPr sz="2500"/>
            </a:b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1100880" y="2741760"/>
            <a:ext cx="27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1928880" y="3762360"/>
            <a:ext cx="367200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93895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38953"/>
                </a:solidFill>
                <a:latin typeface="微软雅黑"/>
                <a:ea typeface="微软雅黑"/>
              </a:rPr>
              <a:t>XXXXX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1158840" y="585936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8680" indent="-958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2500" spc="-1" strike="noStrike">
                <a:solidFill>
                  <a:srgbClr val="00b0f0"/>
                </a:solidFill>
                <a:latin typeface="微软雅黑"/>
              </a:rPr>
              <a:t>使用规范说明</a:t>
            </a: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8680" indent="-95868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319-271A-40DF-9DF6-81FFA25BD2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42840" y="4529160"/>
            <a:ext cx="9906120" cy="2313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1 Título"/>
          <p:cNvSpPr/>
          <p:nvPr/>
        </p:nvSpPr>
        <p:spPr>
          <a:xfrm>
            <a:off x="419040" y="1123920"/>
            <a:ext cx="5902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ts val="576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Rockwell"/>
              </a:rPr>
              <a:t>THANK  </a:t>
            </a:r>
            <a:r>
              <a:rPr b="1" lang="en-US" sz="4900" spc="-1" strike="noStrike">
                <a:solidFill>
                  <a:srgbClr val="c00000"/>
                </a:solidFill>
                <a:latin typeface="Rockwell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2 Marcador de contenido"/>
          <p:cNvSpPr/>
          <p:nvPr/>
        </p:nvSpPr>
        <p:spPr>
          <a:xfrm>
            <a:off x="622440" y="1917720"/>
            <a:ext cx="749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8680" indent="-95868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华文细黑"/>
                <a:ea typeface="华文细黑"/>
              </a:rPr>
              <a:t>联系人：</a:t>
            </a:r>
            <a:r>
              <a:rPr b="0" lang="en-US" sz="1800" spc="-1" strike="noStrike">
                <a:solidFill>
                  <a:srgbClr val="3f3f3f"/>
                </a:solidFill>
                <a:latin typeface="华文细黑"/>
                <a:ea typeface="华文细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58680" indent="-95868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华文细黑"/>
                <a:ea typeface="华文细黑"/>
              </a:rPr>
              <a:t>电话：</a:t>
            </a:r>
            <a:r>
              <a:rPr b="0" lang="en-US" sz="1800" spc="-1" strike="noStrike">
                <a:solidFill>
                  <a:srgbClr val="3f3f3f"/>
                </a:solidFill>
                <a:latin typeface="华文细黑"/>
                <a:ea typeface="华文细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58680" indent="-95868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华文细黑"/>
                <a:ea typeface="华文细黑"/>
              </a:rPr>
              <a:t>邮箱：</a:t>
            </a:r>
            <a:r>
              <a:rPr b="0" lang="en-US" sz="1800" spc="-1" strike="noStrike">
                <a:solidFill>
                  <a:srgbClr val="3f3f3f"/>
                </a:solidFill>
                <a:latin typeface="华文细黑"/>
                <a:ea typeface="华文细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58680" indent="-95868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华文细黑"/>
                <a:ea typeface="华文细黑"/>
              </a:rPr>
              <a:t>地址：</a:t>
            </a:r>
            <a:r>
              <a:rPr b="0" lang="en-US" sz="1800" spc="-1" strike="noStrike">
                <a:solidFill>
                  <a:srgbClr val="3f3f3f"/>
                </a:solidFill>
                <a:latin typeface="华文细黑"/>
                <a:ea typeface="华文细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58680" indent="-95868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rcRect l="0" t="0" r="0" b="4217"/>
          <a:stretch/>
        </p:blipFill>
        <p:spPr>
          <a:xfrm>
            <a:off x="6681960" y="420840"/>
            <a:ext cx="2711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50"/>
                            </p:stCondLst>
                            <p:childTnLst>
                              <p:par>
                                <p:cTn id="1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07:1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11:44:58Z</dcterms:modified>
  <cp:revision>8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