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20.jpeg" ContentType="image/jpeg"/>
  <Override PartName="/ppt/media/image17.png" ContentType="image/png"/>
  <Override PartName="/ppt/media/image14.png" ContentType="image/png"/>
  <Override PartName="/ppt/media/image13.png" ContentType="image/png"/>
  <Override PartName="/ppt/media/image16.png" ContentType="image/png"/>
  <Override PartName="/ppt/media/chimes.wav" ContentType="audio/x-wav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E33-224F-4C62-B3DF-3804DEBE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42C-34A8-4657-8786-C6E141D3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03A-9327-43B2-8560-11170808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29B-A1D6-4FF1-B26C-9F314B14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625-FFE5-4E3D-BBFF-2920390A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BCB-49DA-45EE-BB33-710F9E97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45C-0A19-4A91-AC34-C5BF0C36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D0A-5C3E-4934-BA00-59ACBCB1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598-2EDA-40E4-A5E2-70454A68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690-DF0F-41A6-9F81-90910A1C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F42-9F38-4BD5-9377-B5AE00B6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02B-E359-4651-B8ED-69B40492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D83E-49BF-4E5F-A720-A8463188C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0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F:\ppt\705a\人教版四年级语文上册《黄鹤楼送孟浩然之广陵》PPT课件\13107164_093018416302_2.jpg"/>
          <p:cNvPicPr/>
          <p:nvPr/>
        </p:nvPicPr>
        <p:blipFill>
          <a:blip r:embed="rId17"/>
          <a:stretch/>
        </p:blipFill>
        <p:spPr>
          <a:xfrm>
            <a:off x="34920" y="-67464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矩形 6" descr=""/>
          <p:cNvPicPr/>
          <p:nvPr/>
        </p:nvPicPr>
        <p:blipFill>
          <a:blip r:embed="rId18"/>
          <a:stretch/>
        </p:blipFill>
        <p:spPr>
          <a:xfrm>
            <a:off x="3511440" y="1968480"/>
            <a:ext cx="2737080" cy="117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F:\ppt\705a\人教版四年级语文上册《黄鹤楼送孟浩然之广陵》PPT课件\Nipic_8681688_20130725123126203174.gif"/>
          <p:cNvPicPr/>
          <p:nvPr/>
        </p:nvPicPr>
        <p:blipFill>
          <a:blip r:embed="rId19"/>
          <a:srcRect l="0" t="28043" r="69806" b="33129"/>
          <a:stretch/>
        </p:blipFill>
        <p:spPr>
          <a:xfrm>
            <a:off x="6251400" y="2847960"/>
            <a:ext cx="2892600" cy="4017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021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94480" y="836640"/>
            <a:ext cx="29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《黄鹤楼送孟浩然之广陵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0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D:\蒋春霞\备忘录\picture\qoo\P4371.gif"/>
          <p:cNvPicPr/>
          <p:nvPr/>
        </p:nvPicPr>
        <p:blipFill>
          <a:blip r:embed="rId2"/>
          <a:stretch/>
        </p:blipFill>
        <p:spPr>
          <a:xfrm>
            <a:off x="6705720" y="449568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33520" y="380880"/>
            <a:ext cx="72388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探究学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学校正在美化西河沿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让你来设计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打算怎样来布置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蒋凯炎\蒋春霞\图片\P4009.gif"/>
          <p:cNvPicPr/>
          <p:nvPr/>
        </p:nvPicPr>
        <p:blipFill>
          <a:blip r:embed="rId2"/>
          <a:stretch/>
        </p:blipFill>
        <p:spPr>
          <a:xfrm>
            <a:off x="68580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D:\蒋凯炎\蒋春霞\图片\P3959.gif"/>
          <p:cNvPicPr/>
          <p:nvPr/>
        </p:nvPicPr>
        <p:blipFill>
          <a:blip r:embed="rId3"/>
          <a:stretch/>
        </p:blipFill>
        <p:spPr>
          <a:xfrm>
            <a:off x="304920" y="42670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D:\蒋凯炎\蒋春霞\图片\P4009.gif"/>
          <p:cNvPicPr/>
          <p:nvPr/>
        </p:nvPicPr>
        <p:blipFill>
          <a:blip r:embed="rId4"/>
          <a:stretch/>
        </p:blipFill>
        <p:spPr>
          <a:xfrm>
            <a:off x="35812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124080" y="533520"/>
            <a:ext cx="60199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请多多指教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蒋凯炎\蒋春霞\图片\P3356.gif"/>
          <p:cNvPicPr/>
          <p:nvPr/>
        </p:nvPicPr>
        <p:blipFill>
          <a:blip r:embed="rId2"/>
          <a:stretch/>
        </p:blipFill>
        <p:spPr>
          <a:xfrm>
            <a:off x="6248520" y="44956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D:\蒋凯炎\蒋春霞\图片\P4010.gif"/>
          <p:cNvPicPr/>
          <p:nvPr/>
        </p:nvPicPr>
        <p:blipFill>
          <a:blip r:embed="rId3"/>
          <a:stretch/>
        </p:blipFill>
        <p:spPr>
          <a:xfrm>
            <a:off x="7391520" y="3276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:\蒋凯炎\蒋春霞\图片\P4010.gif"/>
          <p:cNvPicPr/>
          <p:nvPr/>
        </p:nvPicPr>
        <p:blipFill>
          <a:blip r:embed="rId4"/>
          <a:stretch/>
        </p:blipFill>
        <p:spPr>
          <a:xfrm>
            <a:off x="5715000" y="44197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1752480" y="15238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044800" y="380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耸构巍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2044800" y="99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标巃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96884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倚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河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2045160" y="472428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重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馆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2044800" y="403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四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闼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霞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204480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坐窥井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204480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俯拍云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380880" y="3049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高大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380880" y="3200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雄伟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3657600" y="609480"/>
            <a:ext cx="533520" cy="4419720"/>
          </a:xfrm>
          <a:custGeom>
            <a:avLst/>
            <a:gdLst>
              <a:gd name="textAreaLeft" fmla="*/ 0 w 533520"/>
              <a:gd name="textAreaRight" fmla="*/ 192600 w 5335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4114800" y="2438280"/>
            <a:ext cx="457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亦荆吴形胜之最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6D1-FAC4-4E76-B212-29B73DAEFA0F}" type="slidenum">
              <a:t>13</a:t>
            </a:fld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蒋春霞\1_00.jpg"/>
          <p:cNvPicPr/>
          <p:nvPr/>
        </p:nvPicPr>
        <p:blipFill>
          <a:blip r:embed="rId2"/>
          <a:stretch/>
        </p:blipFill>
        <p:spPr>
          <a:xfrm>
            <a:off x="0" y="0"/>
            <a:ext cx="289548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蒋春霞\5.jpg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D:\蒋春霞\1.jpg"/>
          <p:cNvPicPr/>
          <p:nvPr/>
        </p:nvPicPr>
        <p:blipFill>
          <a:blip r:embed="rId4"/>
          <a:stretch/>
        </p:blipFill>
        <p:spPr>
          <a:xfrm>
            <a:off x="2971800" y="2514600"/>
            <a:ext cx="31748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蒋春霞\22.jpg"/>
          <p:cNvPicPr/>
          <p:nvPr/>
        </p:nvPicPr>
        <p:blipFill>
          <a:blip r:embed="rId2"/>
          <a:stretch/>
        </p:blipFill>
        <p:spPr>
          <a:xfrm>
            <a:off x="0" y="0"/>
            <a:ext cx="4191120" cy="571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蒋春霞\11.jpg"/>
          <p:cNvPicPr/>
          <p:nvPr/>
        </p:nvPicPr>
        <p:blipFill>
          <a:blip r:embed="rId3"/>
          <a:stretch/>
        </p:blipFill>
        <p:spPr>
          <a:xfrm>
            <a:off x="4648320" y="1143000"/>
            <a:ext cx="449568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39640" y="981000"/>
            <a:ext cx="82296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系我们以前学过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展示华夏文化的魅力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黄鹤楼和于园在体现我国传统艺术上的表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出文中有关词句，谈谈你的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09480" y="304920"/>
            <a:ext cx="8077320" cy="58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黄鹤楼送孟浩然之广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　　　　　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(</a:t>
            </a:r>
            <a:r>
              <a:rPr b="1" lang="zh-CN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李白</a:t>
            </a:r>
            <a:r>
              <a:rPr b="1" lang="en-US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故人西辞黄鹤楼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烟花三月下扬州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孤帆远影碧空尽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唯见长江天际流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-372600" y="228600"/>
            <a:ext cx="57877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黄鹤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崔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昔人已乘黄鹤去，此地空余黄鹤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黄鹤一去不复返，白云千载空悠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晴川历历汉阳树，芳草萋萋鹦鹉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日暮乡关何处是？烟波江上使人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蒋春霞\备忘录\picture\岳阳楼\岳阳楼（湖南岳阳）.gif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4648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D:\蒋春霞\备忘录\picture\岳阳楼\岳阳楼.jpg"/>
          <p:cNvPicPr/>
          <p:nvPr/>
        </p:nvPicPr>
        <p:blipFill>
          <a:blip r:embed="rId3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204360" y="914400"/>
            <a:ext cx="2009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隶书"/>
              </a:rPr>
              <a:t>岳阳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762120" y="51055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位于湖南岳阳，以范仲淹的名篇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岳阳楼记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而名闻天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204360" y="914400"/>
            <a:ext cx="2009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隶书"/>
              </a:rPr>
              <a:t>腾王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:\My Documents\358d4586f6d331e5b2a0503af3fe62fe.jpg"/>
          <p:cNvPicPr/>
          <p:nvPr/>
        </p:nvPicPr>
        <p:blipFill>
          <a:blip r:embed="rId2"/>
          <a:stretch/>
        </p:blipFill>
        <p:spPr>
          <a:xfrm>
            <a:off x="5181480" y="0"/>
            <a:ext cx="3962520" cy="480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600200" y="51814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33520" y="51814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位于江西南昌，因王勃的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腾王阁序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而著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8" descr="D:\蒋春霞\02.jpg"/>
          <p:cNvPicPr/>
          <p:nvPr/>
        </p:nvPicPr>
        <p:blipFill>
          <a:blip r:embed="rId3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128040" y="990720"/>
            <a:ext cx="2009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黄鹤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D:\蒋春霞\1_00.jpg"/>
          <p:cNvPicPr/>
          <p:nvPr/>
        </p:nvPicPr>
        <p:blipFill>
          <a:blip r:embed="rId2"/>
          <a:stretch/>
        </p:blipFill>
        <p:spPr>
          <a:xfrm>
            <a:off x="0" y="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蒋春霞\5.jpg"/>
          <p:cNvPicPr/>
          <p:nvPr/>
        </p:nvPicPr>
        <p:blipFill>
          <a:blip r:embed="rId3"/>
          <a:stretch/>
        </p:blipFill>
        <p:spPr>
          <a:xfrm>
            <a:off x="5334120" y="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228600" y="46483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位于湖北武汉，历代名士崔颢、李白、白居易、贾岛、陆游、杨慎、张居正等都先后到这里游乐，吟诗作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蒋春霞\备忘录\picture\86\中国结.gif"/>
          <p:cNvPicPr/>
          <p:nvPr/>
        </p:nvPicPr>
        <p:blipFill>
          <a:blip r:embed="rId2"/>
          <a:stretch/>
        </p:blipFill>
        <p:spPr>
          <a:xfrm>
            <a:off x="7620120" y="-533520"/>
            <a:ext cx="652320" cy="3733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D:\蒋春霞\备忘录\picture\86\中国结.gif"/>
          <p:cNvPicPr/>
          <p:nvPr/>
        </p:nvPicPr>
        <p:blipFill>
          <a:blip r:embed="rId3"/>
          <a:stretch/>
        </p:blipFill>
        <p:spPr>
          <a:xfrm>
            <a:off x="7853400" y="-838080"/>
            <a:ext cx="1290600" cy="5105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533520" y="0"/>
            <a:ext cx="72388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用工具书及课文页下注释读懂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 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等常见文言实词和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等常见文言虚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本文严谨的结构和优美的语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欣赏黄鹤楼和于园两种不同建筑风格的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此品味中国的古代建筑艺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说说自己的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蒋春霞\备忘录\picture\baby.gif"/>
          <p:cNvPicPr/>
          <p:nvPr/>
        </p:nvPicPr>
        <p:blipFill>
          <a:blip r:embed="rId2"/>
          <a:stretch/>
        </p:blipFill>
        <p:spPr>
          <a:xfrm>
            <a:off x="7010280" y="4210200"/>
            <a:ext cx="2419560" cy="264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80880" y="0"/>
            <a:ext cx="838224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给下面的字词注释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州城西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隅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，有黄鹤楼者。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图经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云：“费祎登仙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尝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驾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）黄鹤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憩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此，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　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楼。”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事列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《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神仙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》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之传，迹存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《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述异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》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之志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。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）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耸构巍峨，高标巃嵏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，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倚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河汉，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临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江流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重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）馆翼，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闼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霞敞；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坐窥井邑，俯拍云烟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：亦荆吴形胜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 ）也。 何必濑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九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柱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  ），东阳八咏，乃可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赏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时物，会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灵仙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者哉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04812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9718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曾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724280" y="144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62012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21932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88620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5334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934320" y="2514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鹤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029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靠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6858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37339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层屋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76960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6094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好的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525780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泛指多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屋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指屋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320040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蒋春霞\备忘录\picture\86\圣诞礼包.gif"/>
          <p:cNvPicPr/>
          <p:nvPr/>
        </p:nvPicPr>
        <p:blipFill>
          <a:blip r:embed="rId2"/>
          <a:stretch/>
        </p:blipFill>
        <p:spPr>
          <a:xfrm>
            <a:off x="304920" y="3733920"/>
            <a:ext cx="251460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蒋春霞\备忘录\picture\86\圣诞礼包.gif"/>
          <p:cNvPicPr/>
          <p:nvPr/>
        </p:nvPicPr>
        <p:blipFill>
          <a:blip r:embed="rId3"/>
          <a:stretch/>
        </p:blipFill>
        <p:spPr>
          <a:xfrm>
            <a:off x="1828800" y="4876920"/>
            <a:ext cx="1654200" cy="1676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33520" y="990720"/>
            <a:ext cx="83055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找出文中能够体现黄鹤楼特征的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438280" y="2286000"/>
            <a:ext cx="6324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作者带着我们去黄鹤楼和于园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神游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了一番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你对此的总体印象如何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两者有何不同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你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神游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时的感受又是怎样的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2971800" y="2362320"/>
            <a:ext cx="380880" cy="45720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143000" y="1143000"/>
            <a:ext cx="380880" cy="45720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0" y="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课文品读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2:37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29:28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