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1A1-0F18-4693-B5F8-B916A5A1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7FC-054A-4686-97CC-D0340B2F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50E-A8BF-4776-80E6-355CE94B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636-B6AB-4535-A789-8D5D6A30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EE9-6FF0-4D97-8E58-E6C3D721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8CC-A008-4CAA-8E6C-678A12A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D66-3B72-4FC9-814B-9268F6B5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532-D0FA-49C2-8DE9-45D415A5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AF7-FC1F-471F-B97E-96ABA25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CFD-9753-46E3-B8C5-436D6EC3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25F-543F-4BE6-9663-3783ECA5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9C0-0A2D-4A08-964D-02959448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082-B156-4CCC-B139-529002252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1763640" y="463536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nt"/>
          <p:cNvSpPr/>
          <p:nvPr/>
        </p:nvSpPr>
        <p:spPr>
          <a:xfrm>
            <a:off x="8459640" y="5189400"/>
            <a:ext cx="505080" cy="505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nt"/>
          <p:cNvSpPr/>
          <p:nvPr/>
        </p:nvSpPr>
        <p:spPr>
          <a:xfrm>
            <a:off x="8388360" y="4540320"/>
            <a:ext cx="57636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图片"/>
          <p:cNvPicPr/>
          <p:nvPr/>
        </p:nvPicPr>
        <p:blipFill>
          <a:blip r:embed="rId16"/>
          <a:stretch/>
        </p:blipFill>
        <p:spPr>
          <a:xfrm>
            <a:off x="971640" y="1700280"/>
            <a:ext cx="6553080" cy="4973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631044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组织者：林丽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9880" y="836640"/>
            <a:ext cx="437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“红领巾”真好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914400" y="1752480"/>
            <a:ext cx="144792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914400" y="25146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600200" y="17524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666880" y="1752480"/>
            <a:ext cx="144792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2666880" y="25146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3352680" y="17524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6781680" y="1752480"/>
            <a:ext cx="144792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6781680" y="25146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990720" y="4191120"/>
            <a:ext cx="144756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990720" y="49528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676520" y="4191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858000" y="4191120"/>
            <a:ext cx="144792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858000" y="49528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7543800" y="4191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2743200" y="4191120"/>
            <a:ext cx="144792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43200" y="49528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3429000" y="4191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105520" y="4191120"/>
            <a:ext cx="144756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5105520" y="49528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5791320" y="4191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5029200" y="1752480"/>
            <a:ext cx="144792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5"/>
          <p:cNvSpPr/>
          <p:nvPr/>
        </p:nvSpPr>
        <p:spPr>
          <a:xfrm>
            <a:off x="5029200" y="25146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6"/>
          <p:cNvSpPr/>
          <p:nvPr/>
        </p:nvSpPr>
        <p:spPr>
          <a:xfrm>
            <a:off x="5715000" y="17524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0BD-CC23-4784-890E-A7A016496B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5640" y="907920"/>
            <a:ext cx="777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清晨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林中谁最幸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1835280" y="2565000"/>
            <a:ext cx="511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1187280" y="3573000"/>
            <a:ext cx="59058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1258920" y="450864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260280"/>
            <a:ext cx="946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晨，林中谁最快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可爱的小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jī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叽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zhā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喳，蹦蹦跳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会儿唱歌，一会儿梳理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éng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松的羽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3500280"/>
            <a:ext cx="797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晨，林中谁最活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yuè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机灵的小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扑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léng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棱，飞来飞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捕捉害虫，保护翠绿的树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68360" y="2060640"/>
            <a:ext cx="2158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43280" y="2060640"/>
            <a:ext cx="26654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-90360" y="-55440"/>
            <a:ext cx="9324720" cy="704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2438280"/>
            <a:ext cx="9144000" cy="4716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494160" y="0"/>
            <a:ext cx="322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晨，林中谁最快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可爱的小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叽叽喳喳，蹦蹦跳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会儿唱歌，一会儿梳理蓬松的羽毛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800" y="0"/>
            <a:ext cx="9324720" cy="704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2590920"/>
            <a:ext cx="9396360" cy="48290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-92160" y="-5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426760" y="0"/>
            <a:ext cx="408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晨，林中谁最活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机灵的小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扑棱棱，飞来飞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捕捉害虫，保护翠绿的树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830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0"/>
            <a:ext cx="1069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晨，林中谁来得最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“红领巾”来放鸟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cháo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zhǎn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的木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pái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写着：“请爱护小鸟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鸟在枝头高唱：“‘红领巾’真好！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4643280" y="2565360"/>
            <a:ext cx="33134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7"/>
          <p:cNvGrpSpPr/>
          <p:nvPr/>
        </p:nvGrpSpPr>
        <p:grpSpPr>
          <a:xfrm>
            <a:off x="250920" y="0"/>
            <a:ext cx="3455640" cy="1726920"/>
            <a:chOff x="250920" y="0"/>
            <a:chExt cx="3455640" cy="1726920"/>
          </a:xfrm>
        </p:grpSpPr>
        <p:sp>
          <p:nvSpPr>
            <p:cNvPr id="64" name="AutoShape 6"/>
            <p:cNvSpPr/>
            <p:nvPr/>
          </p:nvSpPr>
          <p:spPr>
            <a:xfrm>
              <a:off x="1775880" y="605160"/>
              <a:ext cx="1686240" cy="756720"/>
            </a:xfrm>
            <a:prstGeom prst="wedgeRoundRectCallout">
              <a:avLst>
                <a:gd name="adj1" fmla="val -46745"/>
                <a:gd name="adj2" fmla="val 3413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5" descr="10"/>
            <p:cNvPicPr/>
            <p:nvPr/>
          </p:nvPicPr>
          <p:blipFill>
            <a:blip r:embed="rId1"/>
            <a:stretch/>
          </p:blipFill>
          <p:spPr>
            <a:xfrm>
              <a:off x="250920" y="0"/>
              <a:ext cx="3455640" cy="17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Text Box 8"/>
          <p:cNvSpPr/>
          <p:nvPr/>
        </p:nvSpPr>
        <p:spPr>
          <a:xfrm>
            <a:off x="2050920" y="4986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.wav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10"/>
          <p:cNvGrpSpPr/>
          <p:nvPr/>
        </p:nvGrpSpPr>
        <p:grpSpPr>
          <a:xfrm>
            <a:off x="4500720" y="0"/>
            <a:ext cx="3455640" cy="1726920"/>
            <a:chOff x="4500720" y="0"/>
            <a:chExt cx="3455640" cy="1726920"/>
          </a:xfrm>
        </p:grpSpPr>
        <p:sp>
          <p:nvSpPr>
            <p:cNvPr id="69" name="AutoShape 11"/>
            <p:cNvSpPr/>
            <p:nvPr/>
          </p:nvSpPr>
          <p:spPr>
            <a:xfrm>
              <a:off x="6025680" y="605160"/>
              <a:ext cx="1686240" cy="756720"/>
            </a:xfrm>
            <a:prstGeom prst="wedgeRoundRectCallout">
              <a:avLst>
                <a:gd name="adj1" fmla="val -46745"/>
                <a:gd name="adj2" fmla="val 3413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12" descr="10"/>
            <p:cNvPicPr/>
            <p:nvPr/>
          </p:nvPicPr>
          <p:blipFill>
            <a:blip r:embed="rId3"/>
            <a:stretch/>
          </p:blipFill>
          <p:spPr>
            <a:xfrm>
              <a:off x="4500720" y="0"/>
              <a:ext cx="3455640" cy="17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13"/>
          <p:cNvGrpSpPr/>
          <p:nvPr/>
        </p:nvGrpSpPr>
        <p:grpSpPr>
          <a:xfrm>
            <a:off x="250920" y="1557360"/>
            <a:ext cx="3455640" cy="1726920"/>
            <a:chOff x="250920" y="1557360"/>
            <a:chExt cx="3455640" cy="1726920"/>
          </a:xfrm>
        </p:grpSpPr>
        <p:sp>
          <p:nvSpPr>
            <p:cNvPr id="72" name="AutoShape 14"/>
            <p:cNvSpPr/>
            <p:nvPr/>
          </p:nvSpPr>
          <p:spPr>
            <a:xfrm>
              <a:off x="1775880" y="2162520"/>
              <a:ext cx="1686240" cy="756720"/>
            </a:xfrm>
            <a:prstGeom prst="wedgeRoundRectCallout">
              <a:avLst>
                <a:gd name="adj1" fmla="val -46745"/>
                <a:gd name="adj2" fmla="val 3413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5" descr="10"/>
            <p:cNvPicPr/>
            <p:nvPr/>
          </p:nvPicPr>
          <p:blipFill>
            <a:blip r:embed="rId4"/>
            <a:stretch/>
          </p:blipFill>
          <p:spPr>
            <a:xfrm>
              <a:off x="250920" y="1557360"/>
              <a:ext cx="3455640" cy="17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16"/>
          <p:cNvGrpSpPr/>
          <p:nvPr/>
        </p:nvGrpSpPr>
        <p:grpSpPr>
          <a:xfrm>
            <a:off x="4284720" y="1484280"/>
            <a:ext cx="3455640" cy="1726920"/>
            <a:chOff x="4284720" y="1484280"/>
            <a:chExt cx="3455640" cy="1726920"/>
          </a:xfrm>
        </p:grpSpPr>
        <p:sp>
          <p:nvSpPr>
            <p:cNvPr id="75" name="AutoShape 17"/>
            <p:cNvSpPr/>
            <p:nvPr/>
          </p:nvSpPr>
          <p:spPr>
            <a:xfrm>
              <a:off x="5809680" y="2089440"/>
              <a:ext cx="1686240" cy="756720"/>
            </a:xfrm>
            <a:prstGeom prst="wedgeRoundRectCallout">
              <a:avLst>
                <a:gd name="adj1" fmla="val -46745"/>
                <a:gd name="adj2" fmla="val 3413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18" descr="10"/>
            <p:cNvPicPr/>
            <p:nvPr/>
          </p:nvPicPr>
          <p:blipFill>
            <a:blip r:embed="rId5"/>
            <a:stretch/>
          </p:blipFill>
          <p:spPr>
            <a:xfrm>
              <a:off x="4284720" y="1484280"/>
              <a:ext cx="3455640" cy="17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19"/>
          <p:cNvGrpSpPr/>
          <p:nvPr/>
        </p:nvGrpSpPr>
        <p:grpSpPr>
          <a:xfrm>
            <a:off x="324000" y="3141720"/>
            <a:ext cx="3455640" cy="1726920"/>
            <a:chOff x="324000" y="3141720"/>
            <a:chExt cx="3455640" cy="1726920"/>
          </a:xfrm>
        </p:grpSpPr>
        <p:sp>
          <p:nvSpPr>
            <p:cNvPr id="78" name="AutoShape 20"/>
            <p:cNvSpPr/>
            <p:nvPr/>
          </p:nvSpPr>
          <p:spPr>
            <a:xfrm>
              <a:off x="1848960" y="3746880"/>
              <a:ext cx="1686240" cy="756720"/>
            </a:xfrm>
            <a:prstGeom prst="wedgeRoundRectCallout">
              <a:avLst>
                <a:gd name="adj1" fmla="val -46745"/>
                <a:gd name="adj2" fmla="val 3413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21" descr="10"/>
            <p:cNvPicPr/>
            <p:nvPr/>
          </p:nvPicPr>
          <p:blipFill>
            <a:blip r:embed="rId6"/>
            <a:stretch/>
          </p:blipFill>
          <p:spPr>
            <a:xfrm>
              <a:off x="324000" y="3141720"/>
              <a:ext cx="3455640" cy="17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22"/>
          <p:cNvGrpSpPr/>
          <p:nvPr/>
        </p:nvGrpSpPr>
        <p:grpSpPr>
          <a:xfrm>
            <a:off x="4356000" y="3141720"/>
            <a:ext cx="3455640" cy="1726920"/>
            <a:chOff x="4356000" y="3141720"/>
            <a:chExt cx="3455640" cy="1726920"/>
          </a:xfrm>
        </p:grpSpPr>
        <p:sp>
          <p:nvSpPr>
            <p:cNvPr id="81" name="AutoShape 23"/>
            <p:cNvSpPr/>
            <p:nvPr/>
          </p:nvSpPr>
          <p:spPr>
            <a:xfrm>
              <a:off x="5880960" y="3746880"/>
              <a:ext cx="1686240" cy="756720"/>
            </a:xfrm>
            <a:prstGeom prst="wedgeRoundRectCallout">
              <a:avLst>
                <a:gd name="adj1" fmla="val -46745"/>
                <a:gd name="adj2" fmla="val 3413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24" descr="10"/>
            <p:cNvPicPr/>
            <p:nvPr/>
          </p:nvPicPr>
          <p:blipFill>
            <a:blip r:embed="rId7"/>
            <a:stretch/>
          </p:blipFill>
          <p:spPr>
            <a:xfrm>
              <a:off x="4356000" y="3141720"/>
              <a:ext cx="3455640" cy="17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25"/>
          <p:cNvGrpSpPr/>
          <p:nvPr/>
        </p:nvGrpSpPr>
        <p:grpSpPr>
          <a:xfrm>
            <a:off x="250920" y="4581360"/>
            <a:ext cx="3455640" cy="1726920"/>
            <a:chOff x="250920" y="4581360"/>
            <a:chExt cx="3455640" cy="1726920"/>
          </a:xfrm>
        </p:grpSpPr>
        <p:sp>
          <p:nvSpPr>
            <p:cNvPr id="84" name="AutoShape 26"/>
            <p:cNvSpPr/>
            <p:nvPr/>
          </p:nvSpPr>
          <p:spPr>
            <a:xfrm>
              <a:off x="1775880" y="5186520"/>
              <a:ext cx="1686240" cy="756720"/>
            </a:xfrm>
            <a:prstGeom prst="wedgeRoundRectCallout">
              <a:avLst>
                <a:gd name="adj1" fmla="val -46745"/>
                <a:gd name="adj2" fmla="val 3413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27" descr="10"/>
            <p:cNvPicPr/>
            <p:nvPr/>
          </p:nvPicPr>
          <p:blipFill>
            <a:blip r:embed="rId8"/>
            <a:stretch/>
          </p:blipFill>
          <p:spPr>
            <a:xfrm>
              <a:off x="250920" y="4581360"/>
              <a:ext cx="3455640" cy="17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28"/>
          <p:cNvGrpSpPr/>
          <p:nvPr/>
        </p:nvGrpSpPr>
        <p:grpSpPr>
          <a:xfrm>
            <a:off x="4284720" y="4653000"/>
            <a:ext cx="3455640" cy="1726920"/>
            <a:chOff x="4284720" y="4653000"/>
            <a:chExt cx="3455640" cy="1726920"/>
          </a:xfrm>
        </p:grpSpPr>
        <p:sp>
          <p:nvSpPr>
            <p:cNvPr id="87" name="AutoShape 29"/>
            <p:cNvSpPr/>
            <p:nvPr/>
          </p:nvSpPr>
          <p:spPr>
            <a:xfrm>
              <a:off x="5809680" y="5258160"/>
              <a:ext cx="1686240" cy="756720"/>
            </a:xfrm>
            <a:prstGeom prst="wedgeRoundRectCallout">
              <a:avLst>
                <a:gd name="adj1" fmla="val -46745"/>
                <a:gd name="adj2" fmla="val 3413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30" descr="10"/>
            <p:cNvPicPr/>
            <p:nvPr/>
          </p:nvPicPr>
          <p:blipFill>
            <a:blip r:embed="rId9"/>
            <a:stretch/>
          </p:blipFill>
          <p:spPr>
            <a:xfrm>
              <a:off x="4284720" y="4653000"/>
              <a:ext cx="3455640" cy="17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31"/>
          <p:cNvSpPr/>
          <p:nvPr/>
        </p:nvSpPr>
        <p:spPr>
          <a:xfrm>
            <a:off x="2124000" y="2060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2124000" y="359424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2124000" y="50356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5"/>
          <p:cNvSpPr/>
          <p:nvPr/>
        </p:nvSpPr>
        <p:spPr>
          <a:xfrm>
            <a:off x="6300720" y="40464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6300720" y="193824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6300720" y="357336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6372360" y="51577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49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52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几只鸟儿扑棱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几只鸟儿叫喳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红领巾们放鸟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鸟儿有了崭新的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鸟宝宝多可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都要保护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84"/>
          <p:cNvPicPr/>
          <p:nvPr/>
        </p:nvPicPr>
        <p:blipFill>
          <a:blip r:embed="rId1"/>
          <a:stretch/>
        </p:blipFill>
        <p:spPr>
          <a:xfrm>
            <a:off x="0" y="189000"/>
            <a:ext cx="7129440" cy="6154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730640" y="1052640"/>
            <a:ext cx="729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太平洋管舌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xin_20060127211540613641"/>
          <p:cNvPicPr/>
          <p:nvPr/>
        </p:nvPicPr>
        <p:blipFill>
          <a:blip r:embed="rId1"/>
          <a:stretch/>
        </p:blipFill>
        <p:spPr>
          <a:xfrm>
            <a:off x="250920" y="260280"/>
            <a:ext cx="5468760" cy="5905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684360" y="494172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940360" y="342900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渡渡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07:09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24:33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