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51F0-3BE2-4193-A464-B1DE189F4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6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1280" y="3948480"/>
            <a:ext cx="8076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BD3A-66F0-41F6-9789-D4E339AC0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9840" y="16002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1280" y="394848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9840" y="394848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DF1E-3310-4F6F-BC8B-F3A2D73C3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224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356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128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224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356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2B80-2E72-461D-AECB-3AFFB5BCEB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128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C62B-2802-4DE0-9AA3-C47397BBE9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E0C5D-4A1B-41E4-B39D-95A94C808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9840" y="160020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68DE2-C106-4C85-A9C9-6ED9AF996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8BB22-F11B-4E5A-99F0-A2409844A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37476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2031-3772-4B31-9F2B-4B372BD65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9840" y="160020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1280" y="394848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ABE5A-595C-4B05-8FB7-5392E8EE3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6002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9840" y="394848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2A118-0DCA-4DF4-A171-F69C58B93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6002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1280" y="3948480"/>
            <a:ext cx="8076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AFCC0-3DFE-42CA-AD81-96B908554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781320" y="-360"/>
            <a:ext cx="2057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1ppt.com</a:t>
            </a:r>
            <a:endParaRPr b="0" lang="en-US" sz="1000" spc="-1" strike="noStrike">
              <a:solidFill>
                <a:srgbClr val="ff9999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"/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"/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9999"/>
              </a:buClr>
              <a:buSzPct val="25000"/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9999"/>
              </a:buClr>
              <a:buSzPct val="25000"/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284360" y="6448320"/>
            <a:ext cx="765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6666"/>
                </a:solidFill>
                <a:latin typeface="Verdana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8271-0B59-4571-9A21-45618BBD31F0}" type="slidenum">
              <a:rPr b="1" lang="zh-CN" sz="1400" spc="-1" strike="noStrike">
                <a:solidFill>
                  <a:srgbClr val="0066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9999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tubiao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476360" y="5683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61272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ff9999"/>
              </a:solidFill>
              <a:latin typeface="Gulim"/>
            </a:endParaRPr>
          </a:p>
        </p:txBody>
      </p:sp>
      <p:sp>
        <p:nvSpPr>
          <p:cNvPr id="43" name=""/>
          <p:cNvSpPr/>
          <p:nvPr/>
        </p:nvSpPr>
        <p:spPr>
          <a:xfrm>
            <a:off x="2010600" y="909720"/>
            <a:ext cx="5048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9999"/>
                </a:solidFill>
                <a:latin typeface="Gulim"/>
                <a:ea typeface="宋体"/>
              </a:rPr>
              <a:t>灰绿色</a:t>
            </a:r>
            <a:r>
              <a:rPr b="1" lang="zh-CN" sz="4500" spc="-1" strike="noStrike">
                <a:solidFill>
                  <a:srgbClr val="ff9999"/>
                </a:solidFill>
                <a:latin typeface="Gulim"/>
                <a:ea typeface="宋体"/>
              </a:rPr>
              <a:t>PPT</a:t>
            </a:r>
            <a:r>
              <a:rPr b="1" lang="zh-CN" sz="4500" spc="-1" strike="noStrike">
                <a:solidFill>
                  <a:srgbClr val="ff9999"/>
                </a:solidFill>
                <a:latin typeface="Gulim"/>
                <a:ea typeface="宋体"/>
              </a:rPr>
              <a:t>图表</a:t>
            </a:r>
            <a:endParaRPr b="0" lang="en-US" sz="4500" spc="-1" strike="noStrike">
              <a:solidFill>
                <a:srgbClr val="ff9999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t Docu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" name="Object 3" descr=""/>
          <p:cNvPicPr/>
          <p:nvPr/>
        </p:nvPicPr>
        <p:blipFill>
          <a:blip r:embed="rId2"/>
          <a:stretch/>
        </p:blipFill>
        <p:spPr>
          <a:xfrm>
            <a:off x="2016000" y="1673280"/>
            <a:ext cx="5573880" cy="434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98FBB-F7A3-4849-906F-6370C32218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mpetitors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5000"/>
              <a:buFont typeface="Wingdings" charset="2"/>
              <a:buChar char="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may want to allocate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rengths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5000"/>
              <a:buFont typeface="Wingdings" charset="2"/>
              <a:buChar char="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r strengths relative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eakness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5000"/>
              <a:buFont typeface="Wingdings" charset="2"/>
              <a:buChar char="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r weaknesses relative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580536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197bb"/>
                </a:solidFill>
                <a:uFillTx/>
                <a:latin typeface="Gulim"/>
                <a:hlinkClick r:id="rId2"/>
              </a:rPr>
              <a:t>ppt图表</a:t>
            </a:r>
            <a:r>
              <a:rPr b="0" lang="en-US" sz="1800" spc="-1" strike="noStrike">
                <a:solidFill>
                  <a:srgbClr val="ff9999"/>
                </a:solidFill>
                <a:latin typeface="Gulim"/>
              </a:rPr>
              <a:t>http://www.eeppt.com/tubiao/</a:t>
            </a:r>
            <a:endParaRPr b="0" lang="en-US" sz="1800" spc="-1" strike="noStrike">
              <a:solidFill>
                <a:srgbClr val="ff9999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594A-F9E6-448E-BE14-7514EF1C60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197b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99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ff9999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06DA-5A16-4046-83EC-828C5C129A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01:4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12:4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