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gif" ContentType="image/gif"/>
  <Override PartName="/ppt/media/image12.jpeg" ContentType="image/jpeg"/>
  <Override PartName="/ppt/media/image7.jpeg" ContentType="image/jpeg"/>
  <Override PartName="/ppt/media/image1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F6C5-8A77-4349-929E-16DDDB735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051A-EF57-4711-A2C1-5B5DD05D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7D14-E62C-43C5-AE0B-C73EE28FC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767D-33FE-4122-AF21-0EC737158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E103-680C-4F5D-BD01-E1D23E97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A6DE-2078-4675-B6E7-C8C6421C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A46D-AF9B-4586-99B1-E9C93825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7368-4742-41F9-A76B-501DF210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0246-B0CD-4F38-987E-1B2E7A2C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9375-6F93-47E5-8A23-4764DD61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F5A0-2C4C-4532-82EB-55668E08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E262-97EA-4E0E-BE20-7C4A247D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6EFE-D184-4203-905C-F1C3B5BEC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27968"/>
          <p:cNvPicPr/>
          <p:nvPr/>
        </p:nvPicPr>
        <p:blipFill>
          <a:blip r:embed="rId2"/>
          <a:stretch/>
        </p:blipFill>
        <p:spPr>
          <a:xfrm>
            <a:off x="0" y="0"/>
            <a:ext cx="9144000" cy="541008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14" descr=""/>
          <p:cNvPicPr/>
          <p:nvPr/>
        </p:nvPicPr>
        <p:blipFill>
          <a:blip r:embed="rId3"/>
          <a:stretch/>
        </p:blipFill>
        <p:spPr>
          <a:xfrm>
            <a:off x="365040" y="324000"/>
            <a:ext cx="5370480" cy="1407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82440" y="2666880"/>
            <a:ext cx="309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《怀念母亲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课件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837720" y="2895480"/>
            <a:ext cx="76964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怅望灰天</a:t>
            </a: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，惆怅地望着天空。由于作者长期在外求学，留在母亲身边的时候不多，必然对母亲的音容笑貌记忆不深，对母亲的怀念更多的是一个模糊的影子，因此尽管作者想努力回想母亲的容颜，但无奈模糊不清，只能尽力地怀念，不断地回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752480" y="137160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２、我怅望灰天，在泪光里，幻出母亲的面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019as"/>
          <p:cNvPicPr/>
          <p:nvPr/>
        </p:nvPicPr>
        <p:blipFill>
          <a:blip r:embed="rId2"/>
          <a:stretch/>
        </p:blipFill>
        <p:spPr>
          <a:xfrm>
            <a:off x="457200" y="1219320"/>
            <a:ext cx="1133640" cy="1218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8" descr="780109963x0902007-fm02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352680" y="2514240"/>
            <a:ext cx="5105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66"/>
                </a:solidFill>
                <a:latin typeface="Arial"/>
                <a:ea typeface="黑体"/>
              </a:rPr>
              <a:t>对“祖国母亲”</a:t>
            </a:r>
            <a:br>
              <a:rPr sz="5400"/>
            </a:br>
            <a:r>
              <a:rPr b="1" i="1" lang="zh-CN" sz="5400" spc="-1" strike="noStrike">
                <a:solidFill>
                  <a:srgbClr val="ff0066"/>
                </a:solidFill>
                <a:latin typeface="Arial"/>
                <a:ea typeface="黑体"/>
              </a:rPr>
              <a:t>的感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752120" y="2895480"/>
            <a:ext cx="6629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频来入梦” 意思是祖国母亲经常到梦中来。作者身居异国他乡，心中无限思念祖国，心中不断涌现祖国的身影，不断回想起故国的生活、故国的亲人。句子中一个“也”字很巧妙地将祖国与母亲联系起来，可见在作者心目中两者的确有着同样重要的地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219320" y="15238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、我的祖国母亲，我是第一次离开她。不知道为什么，我这个母亲也频来入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2388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仿宋"/>
              </a:rPr>
              <a:t>        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凄凉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，寂寞冷落，凄惨。作者身在异国小城，心中十分忧愁；但是在远离家乡的日子里，能时常怀念起在故国的生活情景，不断回想起故国的亲朋好友，心中自然又多了一丝安慰、一些宽心、一点甜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828800" y="4648320"/>
            <a:ext cx="6477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、然而这凄凉并不同普通的凄凉一样，是甜蜜的，浓浓的，有说不出的味道，浓浓地糊在心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4267080"/>
            <a:ext cx="611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6"/>
          <p:cNvSpPr txBox="1"/>
          <p:nvPr/>
        </p:nvSpPr>
        <p:spPr>
          <a:xfrm>
            <a:off x="1447920" y="5029200"/>
            <a:ext cx="23335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宋体"/>
              </a:rPr>
              <a:t>我的中国心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01" name="Group 12"/>
          <p:cNvGrpSpPr/>
          <p:nvPr/>
        </p:nvGrpSpPr>
        <p:grpSpPr>
          <a:xfrm>
            <a:off x="457200" y="380880"/>
            <a:ext cx="8305920" cy="5459400"/>
            <a:chOff x="457200" y="380880"/>
            <a:chExt cx="8305920" cy="5459400"/>
          </a:xfrm>
        </p:grpSpPr>
        <p:pic>
          <p:nvPicPr>
            <p:cNvPr id="102" name="Picture 7" descr="pic_270694"/>
            <p:cNvPicPr/>
            <p:nvPr/>
          </p:nvPicPr>
          <p:blipFill>
            <a:blip r:embed="rId2"/>
            <a:stretch/>
          </p:blipFill>
          <p:spPr>
            <a:xfrm>
              <a:off x="4343400" y="380880"/>
              <a:ext cx="4419720" cy="54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10" descr="pic_27069402"/>
            <p:cNvPicPr/>
            <p:nvPr/>
          </p:nvPicPr>
          <p:blipFill>
            <a:blip r:embed="rId3"/>
            <a:stretch/>
          </p:blipFill>
          <p:spPr>
            <a:xfrm>
              <a:off x="457200" y="380880"/>
              <a:ext cx="3429000" cy="424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215849472006071002423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WordArt 4"/>
          <p:cNvSpPr txBox="1"/>
          <p:nvPr/>
        </p:nvSpPr>
        <p:spPr>
          <a:xfrm>
            <a:off x="4572000" y="914400"/>
            <a:ext cx="2666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华文行楷"/>
              </a:rPr>
              <a:t>再见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7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7"/>
          <p:cNvSpPr/>
          <p:nvPr/>
        </p:nvSpPr>
        <p:spPr>
          <a:xfrm>
            <a:off x="6934320" y="144792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41868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隶书"/>
              </a:rPr>
              <a:t>国学大师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隶书"/>
              </a:rPr>
              <a:t>——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隶书"/>
              </a:rPr>
              <a:t>季羡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1485720"/>
            <a:ext cx="5715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季羡林，北京大学教授、中科院院士、中国语言学家、文学翻译家，梵文、巴利文专家。山东清平（今临清）县人。１９３０年考入北京清华大学西语系。１９３５年考取清华大学交换研究生，赴德国留学，在哥廷根大学学习梵文、巴利文、吐火罗文等古代语言。１９４１年获哲学博士学位。１９４６年回国，历任北京大学教授兼东方语言文学系教授、系主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9"/>
          <p:cNvGrpSpPr/>
          <p:nvPr/>
        </p:nvGrpSpPr>
        <p:grpSpPr>
          <a:xfrm>
            <a:off x="6858000" y="1181160"/>
            <a:ext cx="1695600" cy="4495680"/>
            <a:chOff x="6858000" y="1181160"/>
            <a:chExt cx="1695600" cy="4495680"/>
          </a:xfrm>
        </p:grpSpPr>
        <p:pic>
          <p:nvPicPr>
            <p:cNvPr id="49" name="Picture 5" descr="1afa62cce4e634d2cb2292753dc69ae9"/>
            <p:cNvPicPr/>
            <p:nvPr/>
          </p:nvPicPr>
          <p:blipFill>
            <a:blip r:embed="rId2"/>
            <a:stretch/>
          </p:blipFill>
          <p:spPr>
            <a:xfrm>
              <a:off x="6858000" y="3238560"/>
              <a:ext cx="169560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8" descr="图片1"/>
            <p:cNvPicPr/>
            <p:nvPr/>
          </p:nvPicPr>
          <p:blipFill>
            <a:blip r:embed="rId3"/>
            <a:stretch/>
          </p:blipFill>
          <p:spPr>
            <a:xfrm>
              <a:off x="6858000" y="1181160"/>
              <a:ext cx="1682640" cy="1957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F286-CB2B-4545-BA3C-EC2F316F7C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2743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华文中宋"/>
              </a:rPr>
              <a:t>字词正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pic_27069301"/>
          <p:cNvPicPr/>
          <p:nvPr/>
        </p:nvPicPr>
        <p:blipFill>
          <a:blip r:embed="rId2"/>
          <a:stretch/>
        </p:blipFill>
        <p:spPr>
          <a:xfrm>
            <a:off x="914400" y="3352680"/>
            <a:ext cx="6934320" cy="1282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62"/>
          <p:cNvPicPr/>
          <p:nvPr/>
        </p:nvPicPr>
        <p:blipFill>
          <a:blip r:embed="rId3"/>
          <a:stretch/>
        </p:blipFill>
        <p:spPr>
          <a:xfrm>
            <a:off x="7696080" y="6858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1066680" y="2057400"/>
            <a:ext cx="1371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zh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真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1905120" y="4495680"/>
            <a:ext cx="198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qǐ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寝不安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743200" y="2057400"/>
            <a:ext cx="1828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p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频来入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3733920" y="4495680"/>
            <a:ext cx="2057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méng ló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朦    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5029200" y="2057400"/>
            <a:ext cx="1447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q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凄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5943600" y="4495680"/>
            <a:ext cx="1828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b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可见一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6705720" y="2057400"/>
            <a:ext cx="1143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pi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篇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91160" y="2971800"/>
            <a:ext cx="10666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华文中宋"/>
              </a:rPr>
              <a:t>词</a:t>
            </a:r>
            <a:br>
              <a:rPr sz="4400"/>
            </a:b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华文中宋"/>
              </a:rPr>
              <a:t>语</a:t>
            </a:r>
            <a:br>
              <a:rPr sz="4400"/>
            </a:b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华文中宋"/>
              </a:rPr>
              <a:t>积</a:t>
            </a:r>
            <a:br>
              <a:rPr sz="4400"/>
            </a:b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华文中宋"/>
              </a:rPr>
              <a:t>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352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真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弃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寝不安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终天之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薄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沮丧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思潮起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心潮腾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971800" y="1828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（感情）真诚恳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3200400" y="22860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婉辞，指父母死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3200400" y="28195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无法安然入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200400" y="33526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终身的遗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3200400" y="3809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昏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3200400" y="43434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灰心失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3200400" y="48006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接二连三的思想活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3200400" y="53341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心情跳跃、涌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021u"/>
          <p:cNvPicPr/>
          <p:nvPr/>
        </p:nvPicPr>
        <p:blipFill>
          <a:blip r:embed="rId2"/>
          <a:stretch/>
        </p:blipFill>
        <p:spPr>
          <a:xfrm>
            <a:off x="7238880" y="14479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20060429120302525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533376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Arial"/>
                <a:ea typeface="华文中宋"/>
              </a:rPr>
              <a:t>朗读课文，思考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2057400" y="1523880"/>
            <a:ext cx="6629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１、作者在文章中提到了哪两位母亲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２、作者对这两位母亲怀着怎样的感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b49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gaoxia8197200651213493812833"/>
          <p:cNvPicPr/>
          <p:nvPr/>
        </p:nvPicPr>
        <p:blipFill>
          <a:blip r:embed="rId3"/>
          <a:stretch/>
        </p:blipFill>
        <p:spPr>
          <a:xfrm>
            <a:off x="304920" y="1066680"/>
            <a:ext cx="2590560" cy="29718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294920" y="4648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对这两个母亲怀着同样崇高的敬意和同样真挚的爱慕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10"/>
          <p:cNvSpPr txBox="1"/>
          <p:nvPr/>
        </p:nvSpPr>
        <p:spPr>
          <a:xfrm>
            <a:off x="2971800" y="2590920"/>
            <a:ext cx="2057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华文中宋"/>
              </a:rPr>
              <a:t>两位母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83" name="WordArt 12"/>
          <p:cNvSpPr txBox="1"/>
          <p:nvPr/>
        </p:nvSpPr>
        <p:spPr>
          <a:xfrm>
            <a:off x="5715000" y="2057400"/>
            <a:ext cx="2209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76000"/>
                    </a:srgbClr>
                  </a:outerShdw>
                </a:effectLst>
                <a:latin typeface="黑体"/>
              </a:rPr>
              <a:t>生身母亲</a:t>
            </a:r>
            <a:endParaRPr b="1" i="1" lang="en-US" sz="1800" spc="-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76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4" name="WordArt 13"/>
          <p:cNvSpPr txBox="1"/>
          <p:nvPr/>
        </p:nvSpPr>
        <p:spPr>
          <a:xfrm>
            <a:off x="5791320" y="3352680"/>
            <a:ext cx="22096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76000"/>
                    </a:srgbClr>
                  </a:outerShdw>
                </a:effectLst>
                <a:latin typeface="黑体"/>
              </a:rPr>
              <a:t>祖国母亲</a:t>
            </a:r>
            <a:endParaRPr b="1" i="1" lang="en-US" sz="1800" spc="-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76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04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533520" y="4343400"/>
            <a:ext cx="57909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对</a:t>
            </a:r>
            <a:r>
              <a:rPr b="1" i="1" lang="zh-CN" sz="5400" spc="-1" strike="noStrike">
                <a:solidFill>
                  <a:srgbClr val="0000ff"/>
                </a:solidFill>
                <a:latin typeface="宋体"/>
                <a:ea typeface="黑体"/>
              </a:rPr>
              <a:t>“</a:t>
            </a:r>
            <a:r>
              <a:rPr b="1" i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生身母亲</a:t>
            </a:r>
            <a:r>
              <a:rPr b="1" i="1" lang="zh-CN" sz="5400" spc="-1" strike="noStrike">
                <a:solidFill>
                  <a:srgbClr val="0000ff"/>
                </a:solidFill>
                <a:latin typeface="宋体"/>
                <a:ea typeface="黑体"/>
              </a:rPr>
              <a:t>”</a:t>
            </a:r>
            <a:br>
              <a:rPr sz="5400"/>
            </a:br>
            <a:r>
              <a:rPr b="1" i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的感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0769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１、我痛哭了几天，食不下咽，寝不安席。我真想随母亲于地下。我的愿望没能实现，从此我就成了没有母亲的孤儿。一个缺少母爱的孩子，是灵魂不全的人。我怀着不全的灵魂，抱终天之恨。一想到母亲，就泪流不止，数十年如一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752480" y="4038480"/>
            <a:ext cx="632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这里写出了“我”失去母亲之后的伤心、痛苦和悔恨，文章通过这些描写写出了“我”对母亲的深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4T09:40:4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2:20:04Z</dcterms:modified>
  <cp:revision>27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