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1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6E0A-B78A-4845-840A-DE10A734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6034-5DE7-4537-AB00-B8DD4FA4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0AC3-30A8-40E8-892B-58CBCDF4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EE9B-ED89-4FD3-AEA7-24300345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82FF-23F4-4AC5-9E98-54CC740B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42CF-BABC-44BF-9410-94CA2EE8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CC35-0CDD-47EF-9730-F3F9B7DB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8E41-B597-4AB8-8934-6E81F532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1B6-03CD-4368-80A2-7C323F43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6BDE-F39B-4F1C-A822-2A3B125E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3889-BC9A-4B27-8FE5-47BA0699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FFB3-0D75-48B6-B01F-2D0DEA0F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4015-2C2D-4736-AF30-90F87CF7B6FA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E4F7-D1AA-4A6B-B792-9AE51CFD211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0720" cy="2251440"/>
            <a:chOff x="7169760" y="-84960"/>
            <a:chExt cx="2430720" cy="22514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0720" cy="2251440"/>
              <a:chOff x="7169760" y="-84960"/>
              <a:chExt cx="2430720" cy="22514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0720" cy="2251440"/>
                <a:chOff x="7169760" y="-84960"/>
                <a:chExt cx="2430720" cy="22514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75720" y="113040"/>
                  <a:ext cx="24408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08200" y="522000"/>
                  <a:ext cx="4291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5440" y="284400"/>
                  <a:ext cx="80568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920"/>
                  <a:ext cx="12092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3840" y="1421640"/>
                  <a:ext cx="26964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2200" y="1276920"/>
                  <a:ext cx="28872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05600" y="328320"/>
                  <a:ext cx="28872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49440" y="218160"/>
                  <a:ext cx="2858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300,4,&#22303;&#19968;&#26679;&#30340;&#32500;&#21566;&#23572;" TargetMode="External"/><Relationship Id="rId2" Type="http://schemas.openxmlformats.org/officeDocument/2006/relationships/hyperlink" Target="301,5,&#33457;&#19968;&#26679;&#30340;&#32500;&#21566;&#23572;" TargetMode="External"/><Relationship Id="rId3" Type="http://schemas.openxmlformats.org/officeDocument/2006/relationships/hyperlink" Target="302,6,&#35868;&#19968;&#26679;&#30340;&#32500;&#21566;&#23572;" TargetMode="External"/><Relationship Id="rId4" Type="http://schemas.openxmlformats.org/officeDocument/2006/relationships/hyperlink" Target="303,7,&#27468;&#19968;&#26679;&#30340;&#32500;&#21566;&#23572;" TargetMode="External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9"/>
          <p:cNvSpPr/>
          <p:nvPr/>
        </p:nvSpPr>
        <p:spPr>
          <a:xfrm>
            <a:off x="3492360" y="696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20055271128537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96720" y="62064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和田的维吾尔人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-243360"/>
            <a:ext cx="66643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Comic Sans MS"/>
                <a:ea typeface="华文隶书"/>
              </a:rPr>
              <a:t>歌一样的维吾尔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唱歌跳舞不受人员、场地和时间的限制；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他们想跳就跳，想唱就唱 ；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聚餐的目的不在于吃，而在于载歌载舞。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1332000" y="6381720"/>
            <a:ext cx="720720" cy="476280"/>
          </a:xfrm>
          <a:custGeom>
            <a:avLst/>
            <a:gdLst>
              <a:gd name="textAreaLeft" fmla="*/ 29520 w 720720"/>
              <a:gd name="textAreaRight" fmla="*/ 691200 w 72072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327" y="1350"/>
                </a:lnTo>
                <a:lnTo>
                  <a:pt x="1350" y="135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327" y="20250"/>
                </a:lnTo>
                <a:lnTo>
                  <a:pt x="31327" y="135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327" y="2025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677" h="21600">
                <a:moveTo>
                  <a:pt x="9295" y="10800"/>
                </a:moveTo>
                <a:lnTo>
                  <a:pt x="23382" y="3756"/>
                </a:lnTo>
                <a:lnTo>
                  <a:pt x="23382" y="17844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图片1"/>
          <p:cNvPicPr/>
          <p:nvPr/>
        </p:nvPicPr>
        <p:blipFill>
          <a:blip r:embed="rId1"/>
          <a:stretch/>
        </p:blipFill>
        <p:spPr>
          <a:xfrm>
            <a:off x="6372360" y="4508640"/>
            <a:ext cx="2771640" cy="2349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DSC00509"/>
          <p:cNvPicPr/>
          <p:nvPr/>
        </p:nvPicPr>
        <p:blipFill>
          <a:blip r:embed="rId2"/>
          <a:stretch/>
        </p:blipFill>
        <p:spPr>
          <a:xfrm>
            <a:off x="2771640" y="4508640"/>
            <a:ext cx="3600720" cy="2349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79280" y="239328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生活在豁达乐观、载歌载舞之中的和田维吾尔人，纵使生活再苦，感觉也是甜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1862111"/>
          <p:cNvPicPr/>
          <p:nvPr/>
        </p:nvPicPr>
        <p:blipFill>
          <a:blip r:embed="rId1"/>
          <a:stretch/>
        </p:blipFill>
        <p:spPr>
          <a:xfrm>
            <a:off x="4572000" y="3716280"/>
            <a:ext cx="3672000" cy="25923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468360" y="33336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隶书"/>
              </a:rPr>
              <a:t>谈一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775-4260-4FE7-B8C1-BDF63587F9D0}" type="slidenum">
              <a:t>12</a:t>
            </a:fld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30" descr="005e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084720" y="5078520"/>
            <a:ext cx="3059280" cy="17794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52" name="Picture 1031" descr="图片1"/>
          <p:cNvPicPr/>
          <p:nvPr/>
        </p:nvPicPr>
        <p:blipFill>
          <a:blip r:embed="rId2"/>
          <a:stretch/>
        </p:blipFill>
        <p:spPr>
          <a:xfrm>
            <a:off x="7415280" y="5557680"/>
            <a:ext cx="1728720" cy="1300320"/>
          </a:xfrm>
          <a:prstGeom prst="rect">
            <a:avLst/>
          </a:prstGeom>
          <a:ln w="0">
            <a:noFill/>
          </a:ln>
        </p:spPr>
      </p:pic>
      <p:sp>
        <p:nvSpPr>
          <p:cNvPr id="153" name="Line 1036"/>
          <p:cNvSpPr/>
          <p:nvPr/>
        </p:nvSpPr>
        <p:spPr>
          <a:xfrm>
            <a:off x="7451640" y="494172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41"/>
          <p:cNvSpPr/>
          <p:nvPr/>
        </p:nvSpPr>
        <p:spPr>
          <a:xfrm>
            <a:off x="900000" y="1341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开朗豁达，乐观豪迈，热爱土地，热爱生活，这使他们能够战胜一切生活的磨难。这是一个让人喜爱和尊敬的民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42"/>
          <p:cNvSpPr/>
          <p:nvPr/>
        </p:nvSpPr>
        <p:spPr>
          <a:xfrm>
            <a:off x="3780000" y="476280"/>
            <a:ext cx="20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</a:rPr>
              <a:t>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43"/>
          <p:cNvSpPr/>
          <p:nvPr/>
        </p:nvSpPr>
        <p:spPr>
          <a:xfrm>
            <a:off x="826920" y="285264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生活在沙漠中的和田维吾尔人，物质条件虽然很差，但是他们有豁达、乐观、善良、友好的品性；能歌善舞的特点使他们热爱生活，善于在生活中发现美、创造美、享受美。所以无论生活有多苦，他们仍感觉是甜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4360" y="189000"/>
            <a:ext cx="727236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03dff"/>
                </a:solidFill>
                <a:latin typeface="华文新魏"/>
                <a:ea typeface="华文新魏"/>
              </a:rPr>
              <a:t>作业</a:t>
            </a:r>
            <a:r>
              <a:rPr b="0" lang="en-US" sz="4000" spc="-1" strike="noStrike">
                <a:solidFill>
                  <a:srgbClr val="703dff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华文新魏"/>
                <a:ea typeface="华文新魏"/>
              </a:rPr>
              <a:t>1</a:t>
            </a:r>
            <a:r>
              <a:rPr b="0" lang="zh-CN" sz="4000" spc="-1" strike="noStrike">
                <a:solidFill>
                  <a:srgbClr val="703d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给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数字杂说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一课，加上小标题，使文章条理清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</a:t>
            </a:r>
            <a:r>
              <a:rPr b="0" lang="zh-CN" sz="4000" spc="-1" strike="noStrike">
                <a:solidFill>
                  <a:srgbClr val="703d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请利用查阅资料（可通过书籍或网络），至少解开维吾尔族的一个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29"/>
          <p:cNvPicPr/>
          <p:nvPr/>
        </p:nvPicPr>
        <p:blipFill>
          <a:blip r:embed="rId1"/>
          <a:stretch/>
        </p:blipFill>
        <p:spPr>
          <a:xfrm>
            <a:off x="4859280" y="4005360"/>
            <a:ext cx="4032360" cy="2698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116000" y="63817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b200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200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26"/>
          <p:cNvSpPr/>
          <p:nvPr/>
        </p:nvSpPr>
        <p:spPr>
          <a:xfrm>
            <a:off x="395280" y="12682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请用</a:t>
            </a:r>
            <a:r>
              <a:rPr b="1" lang="en-US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个字概括维吾尔风情特点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27"/>
          <p:cNvSpPr/>
          <p:nvPr/>
        </p:nvSpPr>
        <p:spPr>
          <a:xfrm>
            <a:off x="2050920" y="2727360"/>
            <a:ext cx="792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b200"/>
                </a:solidFill>
                <a:uFillTx/>
                <a:latin typeface="Arial"/>
                <a:ea typeface="华文彩云"/>
                <a:hlinkClick r:id="rId1"/>
              </a:rPr>
              <a:t>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28"/>
          <p:cNvSpPr/>
          <p:nvPr/>
        </p:nvSpPr>
        <p:spPr>
          <a:xfrm>
            <a:off x="3492360" y="2727360"/>
            <a:ext cx="719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b200"/>
                </a:solidFill>
                <a:uFillTx/>
                <a:latin typeface="Arial"/>
                <a:ea typeface="华文彩云"/>
                <a:hlinkClick r:id="rId2"/>
              </a:rPr>
              <a:t>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29"/>
          <p:cNvSpPr/>
          <p:nvPr/>
        </p:nvSpPr>
        <p:spPr>
          <a:xfrm>
            <a:off x="4932360" y="2727360"/>
            <a:ext cx="719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b200"/>
                </a:solidFill>
                <a:uFillTx/>
                <a:latin typeface="Arial"/>
                <a:ea typeface="华文彩云"/>
                <a:hlinkClick r:id="rId3"/>
              </a:rPr>
              <a:t>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30"/>
          <p:cNvSpPr/>
          <p:nvPr/>
        </p:nvSpPr>
        <p:spPr>
          <a:xfrm>
            <a:off x="6372360" y="2727360"/>
            <a:ext cx="720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b200"/>
                </a:solidFill>
                <a:uFillTx/>
                <a:latin typeface="Arial"/>
                <a:ea typeface="华文彩云"/>
                <a:hlinkClick r:id="rId4"/>
              </a:rPr>
              <a:t>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31" descr="x1pM0jCSUoiRhDjW1F47OhzpL4POgaKUudtRlAiQfxC4wL2OO8GfN4I88TCqmOJHO3lgaynW6INCt9Gct7xz3WKUYmsJuLRYPN_BAqd66RXF_nniDFsmHAsGznEumYbeyw1C8DBC4AWVLY"/>
          <p:cNvPicPr/>
          <p:nvPr/>
        </p:nvPicPr>
        <p:blipFill>
          <a:blip r:embed="rId5"/>
          <a:stretch/>
        </p:blipFill>
        <p:spPr>
          <a:xfrm>
            <a:off x="7236000" y="5084640"/>
            <a:ext cx="1368360" cy="1136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560" y="3071520"/>
            <a:ext cx="769644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某生写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珍惜生命中的四分之一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中，把生命分为“四分之一的绿色”、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四分之一的紫色”、“四分之一的灰色”、“四分之一的空白”，他们拼成了令人耳目一新的感觉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1030"/>
          <p:cNvSpPr/>
          <p:nvPr/>
        </p:nvSpPr>
        <p:spPr>
          <a:xfrm>
            <a:off x="1116000" y="1413000"/>
            <a:ext cx="69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某生写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《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胖子”变奏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时，拟设了“喜”、“怒”、“哀”、“乐”四个方面的小标题连缀，为文增色不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31"/>
          <p:cNvSpPr/>
          <p:nvPr/>
        </p:nvSpPr>
        <p:spPr>
          <a:xfrm>
            <a:off x="395280" y="260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某生的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班级演义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中，设置了“第一回选盟主”、“第二回唇舌之战”、“第三回笔墨之争”、“第四回男女联盟”四个小标题，以时间为顺序写出了男女生之间有趣的故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AutoShape 1028"/>
          <p:cNvSpPr/>
          <p:nvPr/>
        </p:nvSpPr>
        <p:spPr>
          <a:xfrm>
            <a:off x="7956720" y="6381720"/>
            <a:ext cx="792000" cy="476280"/>
          </a:xfrm>
          <a:custGeom>
            <a:avLst/>
            <a:gdLst>
              <a:gd name="textAreaLeft" fmla="*/ 29520 w 792000"/>
              <a:gd name="textAreaRight" fmla="*/ 762480 w 79200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58" y="1350"/>
                </a:lnTo>
                <a:lnTo>
                  <a:pt x="1350" y="135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58" y="20250"/>
                </a:lnTo>
                <a:lnTo>
                  <a:pt x="34558" y="135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4558" y="2025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5908" h="21600">
                <a:moveTo>
                  <a:pt x="10910" y="10800"/>
                </a:moveTo>
                <a:lnTo>
                  <a:pt x="24998" y="3756"/>
                </a:lnTo>
                <a:lnTo>
                  <a:pt x="24998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32"/>
          <p:cNvSpPr/>
          <p:nvPr/>
        </p:nvSpPr>
        <p:spPr>
          <a:xfrm>
            <a:off x="468360" y="40464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33"/>
          <p:cNvSpPr/>
          <p:nvPr/>
        </p:nvSpPr>
        <p:spPr>
          <a:xfrm>
            <a:off x="1619280" y="5300640"/>
            <a:ext cx="1368360" cy="433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华文行楷"/>
              </a:rPr>
              <a:t>行文中的小标题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便于将材料分门别类地组织，多方面多角度展示材料、表达主题，使行文条理清楚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能吸引读者，对主要内容有一个概括性的了解，更快速更准确地理解文章内容和写作意图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1030"/>
          <p:cNvSpPr/>
          <p:nvPr/>
        </p:nvSpPr>
        <p:spPr>
          <a:xfrm>
            <a:off x="1619280" y="5229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ff"/>
                </a:solidFill>
                <a:uFillTx/>
                <a:latin typeface="Comic Sans MS"/>
              </a:rPr>
              <a:t>小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31"/>
          <p:cNvSpPr/>
          <p:nvPr/>
        </p:nvSpPr>
        <p:spPr>
          <a:xfrm>
            <a:off x="2556000" y="530064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小标题一般用在篇幅较长、内容复杂的文章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032"/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200 w 826920"/>
              <a:gd name="textAreaRight" fmla="*/ 801720 w 826920"/>
              <a:gd name="textAreaTop" fmla="*/ 25200 h 404640"/>
              <a:gd name="textAreaBottom" fmla="*/ 37944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72" y="1350"/>
                </a:lnTo>
                <a:lnTo>
                  <a:pt x="1350" y="135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72" y="20250"/>
                </a:lnTo>
                <a:lnTo>
                  <a:pt x="42772" y="135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2772" y="2025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4122" h="21600">
                <a:moveTo>
                  <a:pt x="15017" y="10800"/>
                </a:moveTo>
                <a:lnTo>
                  <a:pt x="29105" y="3756"/>
                </a:lnTo>
                <a:lnTo>
                  <a:pt x="29105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552600"/>
            <a:ext cx="687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阅读课文，小组讨论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为什么是土一样的维吾尔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从“土一样的维吾尔”中你可以看出维吾尔民族怎样的特点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AutoShape 1028"/>
          <p:cNvSpPr/>
          <p:nvPr/>
        </p:nvSpPr>
        <p:spPr>
          <a:xfrm>
            <a:off x="8028000" y="6165720"/>
            <a:ext cx="576360" cy="358920"/>
          </a:xfrm>
          <a:custGeom>
            <a:avLst/>
            <a:gdLst>
              <a:gd name="textAreaLeft" fmla="*/ 22320 w 576360"/>
              <a:gd name="textAreaRight" fmla="*/ 554040 w 576360"/>
              <a:gd name="textAreaTop" fmla="*/ 22320 h 358920"/>
              <a:gd name="textAreaBottom" fmla="*/ 33660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323" y="1350"/>
                </a:lnTo>
                <a:lnTo>
                  <a:pt x="1350" y="135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323" y="20250"/>
                </a:lnTo>
                <a:lnTo>
                  <a:pt x="33323" y="135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323" y="2025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673" h="21600">
                <a:moveTo>
                  <a:pt x="10293" y="10800"/>
                </a:moveTo>
                <a:lnTo>
                  <a:pt x="24380" y="3756"/>
                </a:lnTo>
                <a:lnTo>
                  <a:pt x="24380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Comic Sans MS"/>
                <a:ea typeface="华文隶书"/>
              </a:rPr>
              <a:t>土一样的维吾尔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820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当沙尘暴铺天盖地地袭来时，一个汉子迎风引吭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沙尘漫天飞扬，人们长年摘不下“防尘装”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他们喜食土馕坑、沙土灰里烧制的食物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他们把衣服直接摊铺在沙漠上晾晒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" name="Picture 5" descr="5"/>
          <p:cNvPicPr/>
          <p:nvPr/>
        </p:nvPicPr>
        <p:blipFill>
          <a:blip r:embed="rId1"/>
          <a:stretch/>
        </p:blipFill>
        <p:spPr>
          <a:xfrm>
            <a:off x="6084720" y="4746600"/>
            <a:ext cx="3059280" cy="21114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029"/>
          <p:cNvSpPr/>
          <p:nvPr/>
        </p:nvSpPr>
        <p:spPr>
          <a:xfrm>
            <a:off x="5364000" y="6453360"/>
            <a:ext cx="720720" cy="404640"/>
          </a:xfrm>
          <a:custGeom>
            <a:avLst/>
            <a:gdLst>
              <a:gd name="textAreaLeft" fmla="*/ 25200 w 720720"/>
              <a:gd name="textAreaRight" fmla="*/ 695520 w 720720"/>
              <a:gd name="textAreaTop" fmla="*/ 25200 h 404640"/>
              <a:gd name="textAreaBottom" fmla="*/ 37944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108" y="1350"/>
                </a:lnTo>
                <a:lnTo>
                  <a:pt x="1350" y="135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108" y="20250"/>
                </a:lnTo>
                <a:lnTo>
                  <a:pt x="37108" y="135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108" y="2025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8458" h="21600">
                <a:moveTo>
                  <a:pt x="12185" y="10800"/>
                </a:moveTo>
                <a:lnTo>
                  <a:pt x="26273" y="3756"/>
                </a:lnTo>
                <a:lnTo>
                  <a:pt x="26273" y="17844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Comic Sans MS"/>
                <a:ea typeface="华文隶书"/>
              </a:rPr>
              <a:t>花一样的维吾尔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总说：和田维吾尔人尤为爱美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分述：他们爱花的天性和他们在许多物品上营造出的鲜花般的幽香和情调；维吾尔姑娘有花一样的容貌和花一般的名字；维吾尔姑娘的名字中还有激励自信的意味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788000" y="6381720"/>
            <a:ext cx="826920" cy="476280"/>
          </a:xfrm>
          <a:custGeom>
            <a:avLst/>
            <a:gdLst>
              <a:gd name="textAreaLeft" fmla="*/ 29520 w 826920"/>
              <a:gd name="textAreaRight" fmla="*/ 797400 w 82692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140" y="1350"/>
                </a:lnTo>
                <a:lnTo>
                  <a:pt x="1350" y="135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140" y="20250"/>
                </a:lnTo>
                <a:lnTo>
                  <a:pt x="36140" y="135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140" y="2025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490" h="21600">
                <a:moveTo>
                  <a:pt x="11701" y="10800"/>
                </a:moveTo>
                <a:lnTo>
                  <a:pt x="25789" y="3756"/>
                </a:lnTo>
                <a:lnTo>
                  <a:pt x="25789" y="17844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4b11cb554461aafbb705c"/>
          <p:cNvPicPr/>
          <p:nvPr/>
        </p:nvPicPr>
        <p:blipFill>
          <a:blip r:embed="rId1"/>
          <a:stretch/>
        </p:blipFill>
        <p:spPr>
          <a:xfrm>
            <a:off x="0" y="0"/>
            <a:ext cx="4419720" cy="781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地毯"/>
          <p:cNvPicPr/>
          <p:nvPr/>
        </p:nvPicPr>
        <p:blipFill>
          <a:blip r:embed="rId2"/>
          <a:stretch/>
        </p:blipFill>
        <p:spPr>
          <a:xfrm>
            <a:off x="5508720" y="4838760"/>
            <a:ext cx="3635280" cy="2019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Comic Sans MS"/>
                <a:ea typeface="华文隶书"/>
              </a:rPr>
              <a:t>谜一样的维吾尔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7056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生活并不富，却很好客；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维吾尔族人的睫毛长，维吾尔姑娘跳舞时“摆脖子”；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维吾尔族人单手提壶洗手洗脸；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他们少有戴近视眼镜的，少有单眼皮的，用“奥斯曼”草染过的头发浓黑发亮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8280360" y="6499080"/>
            <a:ext cx="863640" cy="358920"/>
          </a:xfrm>
          <a:custGeom>
            <a:avLst/>
            <a:gdLst>
              <a:gd name="textAreaLeft" fmla="*/ 22320 w 863640"/>
              <a:gd name="textAreaRight" fmla="*/ 841320 w 863640"/>
              <a:gd name="textAreaTop" fmla="*/ 22320 h 358920"/>
              <a:gd name="textAreaBottom" fmla="*/ 33660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94" y="1350"/>
                </a:lnTo>
                <a:lnTo>
                  <a:pt x="1350" y="135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94" y="20250"/>
                </a:lnTo>
                <a:lnTo>
                  <a:pt x="50594" y="135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0594" y="2025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1944" h="21600">
                <a:moveTo>
                  <a:pt x="18928" y="10800"/>
                </a:moveTo>
                <a:lnTo>
                  <a:pt x="33016" y="3756"/>
                </a:lnTo>
                <a:lnTo>
                  <a:pt x="33016" y="17844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17"/>
          <p:cNvPicPr/>
          <p:nvPr/>
        </p:nvPicPr>
        <p:blipFill>
          <a:blip r:embed="rId1"/>
          <a:stretch/>
        </p:blipFill>
        <p:spPr>
          <a:xfrm>
            <a:off x="7410600" y="2421000"/>
            <a:ext cx="1733400" cy="2276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4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4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4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2:10:1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0:00:20Z</dcterms:modified>
  <cp:revision>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