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png" ContentType="image/png"/>
  <Override PartName="/ppt/media/image6.gif" ContentType="image/gif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357-3EAB-4C4E-8E9C-32582DDF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F56-37EF-4793-B6CB-F7523394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8D5-9050-4E3A-A492-03B57B3D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B34-0E35-4EB7-A115-3B40377A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92F3-1946-4B36-8C44-4736660D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B61B-B400-49B7-84AF-44D4B203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D569-FC78-4601-9913-85E2ED0A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F295-3926-4AF1-85E4-96D71F30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8CC7-4371-45B4-9185-06977ADF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6D93-C3DB-4C2E-B29E-C454B852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92B7-8CD1-4837-B273-29D3BB55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E79-338E-47CF-B8DC-E2DB161F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C438-F8CD-4EB1-853C-33C1A9C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162D-F3AC-48F2-9E8E-AB797D09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E6F6-0D3C-408D-86DC-779D709C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34CB-D99B-4129-84BD-7436B4A6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869D-B93B-4270-A32D-2959E358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9F2F-62F7-4369-A587-53C611C7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9542-9144-488D-B86E-2BE58298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908F5-AEF5-472D-B792-AABCC584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73C9-9040-45C6-AC5D-CAB77B75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B559-755D-4EEE-B49C-8237B0B3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2AB-549A-45D8-8A74-CA53BA98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FF71-210C-4953-8864-F055C5E7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6DED-3B55-4DC3-A342-6DCCE86B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BE16-6F0D-4624-8D16-85A8628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67A49-D687-44CF-BF7E-74EE6549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9B82-B68B-4713-98B3-93B90FF4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51EB-7F0B-428E-B791-4DBFB0EC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6612-F8A6-429E-9766-622AEE61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50E6B-CBA2-4823-AC50-9B0AE592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4F66D-DE9A-478A-ABC9-69B8BC01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05104-CC08-4122-81FD-7D7021EB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2F1-72D7-450A-9DD9-34D1C7D4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E465-7A27-4607-8C7E-62638431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3F5E-3AE4-4F0B-B641-71C46759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E8AFE-918E-4007-ABC1-665A2230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109C1-36E7-464B-80CF-97DB2F09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41A8E-0772-4310-8EF7-76692799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9E8EC-4660-4EA4-AD6C-C75A02A6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56977-C68A-4FBA-8DCA-47A8E1AC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6905C-7C38-4383-A663-CA4DB6B7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33DF-4171-4BB3-995B-E72C847B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225-5190-4D50-A0BF-A58E7131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565-0A19-4620-A8F4-2896F234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F31-AD70-431A-A03B-55F9E19B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862-444A-4823-9797-BD2E7551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354-28FA-4159-9F94-72B3C47A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073E-8DDD-49D5-91AF-5D550871B6D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0720" cy="2251440"/>
            <a:chOff x="7169760" y="-84960"/>
            <a:chExt cx="2430720" cy="22514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0720" cy="2251440"/>
              <a:chOff x="7169760" y="-84960"/>
              <a:chExt cx="2430720" cy="22514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0720" cy="2251440"/>
                <a:chOff x="7169760" y="-84960"/>
                <a:chExt cx="2430720" cy="22514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5720" y="113040"/>
                  <a:ext cx="24408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200" y="522000"/>
                  <a:ext cx="4291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5440" y="284400"/>
                  <a:ext cx="80568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920"/>
                  <a:ext cx="12092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2200" y="127692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5600" y="32832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49440" y="218160"/>
                  <a:ext cx="2858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88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2184-9992-41CB-8EEA-949243CBA6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B9D8-1464-4145-8B60-230B069FB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626E-BD37-4FB4-AF12-B222ED5324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zsky.cn/pic/images2/200741472228872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3,12,&#24187;&#28783;&#29255; 12" TargetMode="External"/><Relationship Id="rId3" Type="http://schemas.openxmlformats.org/officeDocument/2006/relationships/hyperlink" Target="263,13,&#24187;&#28783;&#29255; 13" TargetMode="External"/><Relationship Id="rId4" Type="http://schemas.openxmlformats.org/officeDocument/2006/relationships/hyperlink" Target="263,14,&#24187;&#28783;&#29255; 14" TargetMode="External"/><Relationship Id="rId5" Type="http://schemas.openxmlformats.org/officeDocument/2006/relationships/hyperlink" Target="263,15,&#24187;&#28783;&#29255; 15" TargetMode="Externa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1219320" y="1600200"/>
            <a:ext cx="6781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7016760" y="6423120"/>
            <a:ext cx="20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3359880" y="2286000"/>
            <a:ext cx="21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《假如没有灰尘》课件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6"/>
          <p:cNvSpPr/>
          <p:nvPr/>
        </p:nvSpPr>
        <p:spPr>
          <a:xfrm>
            <a:off x="4267080" y="2286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5" descr="2007414722288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2860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638680" y="5562720"/>
            <a:ext cx="2743200" cy="711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914400" y="40384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假如大气中没有灰尘</a:t>
            </a:r>
            <a:r>
              <a:rPr b="0" lang="en-US" sz="44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0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强烈的阳光将使人无法睁开眼睛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8077320" y="594360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80880" y="1143000"/>
            <a:ext cx="830592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灰尘颗粒的直径一般在百万分之一毫米至几百分之一毫米之间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人眼能看见的灰尘是灰尘中的庞然大物，细小灰尘只有在电子显微镜下才能够看见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3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假如大气中没有灰尘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强烈的阳光将使人无法睁开眼睛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62120" y="533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Comic Sans MS"/>
                <a:ea typeface="华文新魏"/>
              </a:rPr>
              <a:t>领悟说明方法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6095880" y="1752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Comic Sans MS"/>
              </a:rPr>
              <a:t>（</a:t>
            </a:r>
            <a:r>
              <a:rPr b="0" lang="zh-CN" sz="3600" spc="-1" strike="noStrike">
                <a:solidFill>
                  <a:srgbClr val="cc0066"/>
                </a:solidFill>
                <a:latin typeface="Comic Sans MS"/>
                <a:ea typeface="隶书"/>
              </a:rPr>
              <a:t>列数字</a:t>
            </a:r>
            <a:r>
              <a:rPr b="0" lang="zh-CN" sz="3600" spc="-1" strike="noStrike">
                <a:solidFill>
                  <a:srgbClr val="cc0066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095880" y="37339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600" spc="-1" strike="noStrike">
                <a:solidFill>
                  <a:srgbClr val="cc0066"/>
                </a:solidFill>
                <a:latin typeface="Comic Sans MS"/>
              </a:rPr>
              <a:t>（</a:t>
            </a:r>
            <a:r>
              <a:rPr b="0" lang="zh-CN" sz="3600" spc="-1" strike="noStrike">
                <a:solidFill>
                  <a:srgbClr val="cc0066"/>
                </a:solidFill>
                <a:latin typeface="Comic Sans MS"/>
                <a:ea typeface="隶书"/>
              </a:rPr>
              <a:t>作比较</a:t>
            </a:r>
            <a:r>
              <a:rPr b="0" lang="zh-CN" sz="3600" spc="-1" strike="noStrike">
                <a:solidFill>
                  <a:srgbClr val="cc0066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095880" y="51814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(</a:t>
            </a:r>
            <a:r>
              <a:rPr b="0" lang="zh-CN" sz="3600" spc="-1" strike="noStrike">
                <a:solidFill>
                  <a:srgbClr val="990033"/>
                </a:solidFill>
                <a:latin typeface="Comic Sans MS"/>
              </a:rPr>
              <a:t>假设</a:t>
            </a:r>
            <a:r>
              <a:rPr b="0" lang="en-US" sz="3600" spc="-1" strike="noStrike">
                <a:solidFill>
                  <a:srgbClr val="990033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1066680" y="8380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WordArt 8"/>
          <p:cNvSpPr txBox="1"/>
          <p:nvPr/>
        </p:nvSpPr>
        <p:spPr>
          <a:xfrm>
            <a:off x="685800" y="304920"/>
            <a:ext cx="4267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小练笔：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80880" y="2133720"/>
            <a:ext cx="84582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运用掌握的说明方法仿写一个事物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例：</a:t>
            </a:r>
            <a:r>
              <a:rPr b="0" lang="en-US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假如没有风</a:t>
            </a:r>
            <a:r>
              <a:rPr b="0" lang="en-US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       </a:t>
            </a:r>
            <a:r>
              <a:rPr b="0" lang="en-US" sz="4000" spc="-1" strike="noStrike">
                <a:solidFill>
                  <a:srgbClr val="006600"/>
                </a:solidFill>
                <a:latin typeface="华文仿宋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20050801161247274"/>
          <p:cNvPicPr/>
          <p:nvPr/>
        </p:nvPicPr>
        <p:blipFill>
          <a:blip r:embed="rId2"/>
          <a:stretch/>
        </p:blipFill>
        <p:spPr>
          <a:xfrm>
            <a:off x="0" y="617400"/>
            <a:ext cx="9144000" cy="62406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916360" y="2133360"/>
            <a:ext cx="122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勿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564000" y="43718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lù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564000" y="2133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wù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4933800" y="213372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勿使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565440" y="32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āi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930920" y="328464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尘埃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4788000" y="43657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湿漉漉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WordArt 10"/>
          <p:cNvSpPr txBox="1"/>
          <p:nvPr/>
        </p:nvSpPr>
        <p:spPr>
          <a:xfrm>
            <a:off x="826920" y="1341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3419640" y="545148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yùn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4932360" y="54514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（日晕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60000"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{994B30E2-A8A3-4A16-AB4A-AD9B3794FE66}"/>
          <p:cNvPicPr/>
          <p:nvPr/>
        </p:nvPicPr>
        <p:blipFill>
          <a:blip r:embed="rId2"/>
          <a:stretch/>
        </p:blipFill>
        <p:spPr>
          <a:xfrm>
            <a:off x="179280" y="765000"/>
            <a:ext cx="8785440" cy="571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1954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  息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漉漉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  涸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晕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484360" y="177336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生活；生存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411280" y="2349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形容物体潮湿的样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411280" y="3500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日光通过云层中的冰晶时，经折射而形成的光现象。在太阳周围形成彩色光环，内红外紫。日晕常被看做天气变化的预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484360" y="2924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ff"/>
                </a:solidFill>
                <a:latin typeface="楷体_GB2312"/>
                <a:ea typeface="楷体_GB2312"/>
              </a:rPr>
              <a:t>没有水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800528"/>
          <p:cNvPicPr/>
          <p:nvPr/>
        </p:nvPicPr>
        <p:blipFill>
          <a:blip r:embed="rId2">
            <a:lum bright="18000"/>
          </a:blip>
          <a:srcRect l="0" t="0" r="0" b="16185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1116000" y="1197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因此，古往今来，人们总是“时时勤拂拭，勿使染尘埃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116000" y="270828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古往今来”是指从古代到现在；“拂拭”是指掸掉或擦掉灰尘，“勿”是“不要”的意思，“尘埃”就是尘土。这句话的字面意思是：从古代到现在，人们总是经常擦拭灰尘，使（物品）不沾染尘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800528"/>
          <p:cNvPicPr/>
          <p:nvPr/>
        </p:nvPicPr>
        <p:blipFill>
          <a:blip r:embed="rId2">
            <a:lum bright="18000"/>
          </a:blip>
          <a:srcRect l="0" t="0" r="0" b="16185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755640" y="9558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灰尘颗粒的直径一般在万分之一到百万分之一毫米之间。人眼能看到的灰尘，是灰尘中的庞然大物，细小的灰尘只有在高倍显微镜下才能看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826920" y="33577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       “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庞然大物”是指庞大的东西。这段话首先运用列举数字的方法介绍了灰尘的大小，接着又运用对比的方法突出了灰尘非常细小的特点。这两种说明方法的运用，使说明的事物更加具体、真实、生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800528"/>
          <p:cNvPicPr/>
          <p:nvPr/>
        </p:nvPicPr>
        <p:blipFill>
          <a:blip r:embed="rId2">
            <a:lum bright="18000"/>
          </a:blip>
          <a:srcRect l="0" t="0" r="0" b="16185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684360" y="1125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阳光经过灰尘的反射，强度大大削弱，因而变得柔和。假如大气中没有灰尘，强烈的阳光将使人无法睁开眼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55640" y="3068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削弱”就是变弱。这段话先写阳光经过灰尘的反射，强度变弱，因而光线柔和、不刺人眼；接着又运用假设，说明没有经过灰尘反射的阳光非常强烈，使人睁不开眼睛。通过对比说明，突出了灰尘的的重要作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157320" y="61945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800528"/>
          <p:cNvPicPr/>
          <p:nvPr/>
        </p:nvPicPr>
        <p:blipFill>
          <a:blip r:embed="rId2">
            <a:lum bright="18000"/>
          </a:blip>
          <a:srcRect l="0" t="0" r="0" b="16185"/>
          <a:stretch/>
        </p:blipFill>
        <p:spPr>
          <a:xfrm>
            <a:off x="179280" y="765000"/>
            <a:ext cx="8785440" cy="57596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1042920" y="141300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趣的是，灰尘还有个“怪脾气”，容易反射光波较短的紫、蓝、青三色光，而“喜欢”吸收光波较长的其他色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187280" y="350028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这句话运用拟人的手法，通过“怪脾气”“喜欢”这两个词语，将灰尘赋予人的性格特征，把灰尘的特点写得非常生动传神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强烈的阳光"/>
          <p:cNvPicPr/>
          <p:nvPr/>
        </p:nvPicPr>
        <p:blipFill>
          <a:blip r:embed="rId2"/>
          <a:stretch/>
        </p:blipFill>
        <p:spPr>
          <a:xfrm>
            <a:off x="179280" y="620640"/>
            <a:ext cx="8713800" cy="5904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"/>
          <p:cNvSpPr/>
          <p:nvPr/>
        </p:nvSpPr>
        <p:spPr>
          <a:xfrm>
            <a:off x="3338280" y="2637000"/>
            <a:ext cx="206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灰尘大多具有吸湿功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灰尘有的具有吸湿功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684360" y="400536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句好，“大多”指大多数，准确说明了灰尘中具有吸湿功能的灰尘的数量，而“有的”没有数量的意思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66996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826920" y="119700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比较下列句子，说说哪个表达效果更好，并说明理由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由读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节最后一个句子，同桌讨论发现了什么？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-6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小节最后一个句子，都讲了灰尘的特点，都讲了人类离开灰尘就无法生存。</a:t>
            </a:r>
            <a:r>
              <a:rPr b="0" lang="zh-CN" sz="1800" spc="-1" strike="noStrike">
                <a:solidFill>
                  <a:srgbClr val="ff0000"/>
                </a:solidFill>
                <a:latin typeface="Comic Sans MS"/>
              </a:rPr>
              <a:t>　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687680" y="3352680"/>
            <a:ext cx="439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默读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-6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小节，同桌合作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口头完成填空练习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64008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强烈的阳光"/>
          <p:cNvPicPr/>
          <p:nvPr/>
        </p:nvPicPr>
        <p:blipFill>
          <a:blip r:embed="rId2"/>
          <a:stretch/>
        </p:blipFill>
        <p:spPr>
          <a:xfrm>
            <a:off x="179280" y="620640"/>
            <a:ext cx="8713800" cy="5904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719280" y="1413000"/>
            <a:ext cx="75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分散的水汽便依附着灰尘而形成稳定的水滴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分散的水汽便依附着灰尘而变成稳定的水滴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11280" y="378936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句好，“形成”是逐渐发展生长而造成的，形象地写出了分散的水汽逐渐吸附灰尘所形成水滴的过程。而“变成” 则指改变而成，这里水的本质并没有改变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强烈的阳光"/>
          <p:cNvPicPr/>
          <p:nvPr/>
        </p:nvPicPr>
        <p:blipFill>
          <a:blip r:embed="rId2"/>
          <a:stretch/>
        </p:blipFill>
        <p:spPr>
          <a:xfrm>
            <a:off x="179280" y="620640"/>
            <a:ext cx="8713800" cy="5904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3"/>
          <p:cNvSpPr/>
          <p:nvPr/>
        </p:nvSpPr>
        <p:spPr>
          <a:xfrm>
            <a:off x="900000" y="13161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只有正确地认识它们，才能趋利避害，造富人类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只有认识它们，才能趋利避害，造富人类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11280" y="393372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句好，仅仅“认识”是不能区分利和弊的，“正确的认识”是趋利避害的前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{705B6624-B39B-413F-8B75-72B7EBC5AED6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755640" y="1413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“灰尘颗粒的直径一般在万分之一到百万分之一毫米之间。”中的“一般”能否删去？为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WordArt 4"/>
          <p:cNvSpPr txBox="1"/>
          <p:nvPr/>
        </p:nvSpPr>
        <p:spPr>
          <a:xfrm>
            <a:off x="539640" y="836640"/>
            <a:ext cx="3276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体味用词的准确性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539640" y="3429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不能，一般指通常，大多数情况，表明了灰尘的直径大多数是在万分之一到百万分之一的范围内，但也有特殊情况，这个词在这里有限制的作用，删去后不符合客观情况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{705B6624-B39B-413F-8B75-72B7EBC5AED6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"/>
          <p:cNvSpPr/>
          <p:nvPr/>
        </p:nvSpPr>
        <p:spPr>
          <a:xfrm>
            <a:off x="755640" y="141300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“庞然大物”的原意是什么？它与“灰尘的直径一般在万分之一到百万分之一毫米之间”是否矛盾？为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11280" y="3284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形容体积大而笨重的东西。不矛盾，这里的庞然大物是指颗粒比较大，人肉眼能够看到的灰尘，它们与在高倍显微镜下才能看到的细小灰尘相比，就显得巨大笨重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{705B6624-B39B-413F-8B75-72B7EBC5AED6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755640" y="198900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“阳光经过灰尘的反射，强度大大削弱一句中的“大大”有什么作用”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4760280" y="364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突出了反射后阳光强度被削弱的程度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157320" y="61945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{83973B90-4376-4433-932A-018D037C0026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314" name="WordArt 3"/>
          <p:cNvSpPr txBox="1"/>
          <p:nvPr/>
        </p:nvSpPr>
        <p:spPr>
          <a:xfrm>
            <a:off x="609480" y="685800"/>
            <a:ext cx="245772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华文彩云"/>
              </a:rPr>
              <a:t>灰尘的两面性</a:t>
            </a:r>
            <a:endParaRPr b="1" lang="en-US" sz="32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华文彩云"/>
              <a:ea typeface="华文彩云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914400" y="1828800"/>
            <a:ext cx="588960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有碍环境卫生，危害人体健康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6" name="WordArt 5"/>
          <p:cNvSpPr txBox="1"/>
          <p:nvPr/>
        </p:nvSpPr>
        <p:spPr>
          <a:xfrm>
            <a:off x="900000" y="2637000"/>
            <a:ext cx="75596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对人类、地球的生存及大自然，都具有巨大的作用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826920" y="386064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文告诉我们：“任何事物都有它的两面性”。请你联系周围的事物，举一两个例子来说明这个道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B7719-E3B0-4FA2-9863-69B101363BE4}" type="slidenum">
              <a:t>26</a:t>
            </a:fld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{83973B90-4376-4433-932A-018D037C0026}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421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611280" y="1773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灰尘，一方面，有碍卫生，对人体健康有一定的危害；另一方面，在削弱阳光调节气候等方面又有重要作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717120" y="3716280"/>
            <a:ext cx="7697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蛇毒，一方面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　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717120" y="5078520"/>
            <a:ext cx="7697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废品，一方面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　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611280" y="692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事物有两面性的观点，仿照下面的句子，再造两个句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pull dir="r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228600" y="1143000"/>
          <a:ext cx="8763120" cy="5089680"/>
        </p:xfrm>
        <a:graphic>
          <a:graphicData uri="http://schemas.openxmlformats.org/drawingml/2006/table">
            <a:tbl>
              <a:tblPr/>
              <a:tblGrid>
                <a:gridCol w="3689280"/>
                <a:gridCol w="50738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    </a:t>
                      </a:r>
                      <a:r>
                        <a:rPr b="0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灰尘的特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灰尘的作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660033"/>
                          </a:solidFill>
                          <a:latin typeface="Arial"/>
                          <a:ea typeface="黑体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40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WordArt 312"/>
          <p:cNvSpPr txBox="1"/>
          <p:nvPr/>
        </p:nvSpPr>
        <p:spPr>
          <a:xfrm>
            <a:off x="144792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填表：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6" name="Text Box 326"/>
          <p:cNvSpPr/>
          <p:nvPr/>
        </p:nvSpPr>
        <p:spPr>
          <a:xfrm>
            <a:off x="3200400" y="304920"/>
            <a:ext cx="266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330"/>
          <p:cNvSpPr/>
          <p:nvPr/>
        </p:nvSpPr>
        <p:spPr>
          <a:xfrm>
            <a:off x="457200" y="274320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Comic Sans MS"/>
                <a:ea typeface="黑体"/>
              </a:rPr>
              <a:t>不加选择地散射七色阳光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331"/>
          <p:cNvSpPr/>
          <p:nvPr/>
        </p:nvSpPr>
        <p:spPr>
          <a:xfrm>
            <a:off x="380880" y="1676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Comic Sans MS"/>
                <a:ea typeface="黑体"/>
              </a:rPr>
              <a:t>吸收太阳部分光线的同时散射光线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332"/>
          <p:cNvSpPr/>
          <p:nvPr/>
        </p:nvSpPr>
        <p:spPr>
          <a:xfrm>
            <a:off x="3352680" y="2286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333"/>
          <p:cNvSpPr/>
          <p:nvPr/>
        </p:nvSpPr>
        <p:spPr>
          <a:xfrm>
            <a:off x="5368320" y="1957320"/>
            <a:ext cx="22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Comic Sans MS"/>
                <a:ea typeface="黑体"/>
              </a:rPr>
              <a:t>使阳光强度削弱</a:t>
            </a:r>
            <a:r>
              <a:rPr b="0" lang="zh-CN" sz="3200" spc="-1" strike="noStrike">
                <a:solidFill>
                  <a:srgbClr val="3333cc"/>
                </a:solidFill>
                <a:latin typeface="Comic Sans MS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335"/>
          <p:cNvSpPr/>
          <p:nvPr/>
        </p:nvSpPr>
        <p:spPr>
          <a:xfrm>
            <a:off x="4267080" y="2743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Comic Sans MS"/>
                <a:ea typeface="黑体"/>
              </a:rPr>
              <a:t>使天空随高度降低而逐渐由蓝变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337"/>
          <p:cNvSpPr/>
          <p:nvPr/>
        </p:nvSpPr>
        <p:spPr>
          <a:xfrm>
            <a:off x="685800" y="3962520"/>
            <a:ext cx="3048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Comic Sans MS"/>
                <a:ea typeface="黑体"/>
              </a:rPr>
              <a:t>具有吸湿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338"/>
          <p:cNvSpPr/>
          <p:nvPr/>
        </p:nvSpPr>
        <p:spPr>
          <a:xfrm>
            <a:off x="4191120" y="3733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Comic Sans MS"/>
                <a:ea typeface="黑体"/>
              </a:rPr>
              <a:t>使地面万物保持干燥；形成云雾，雨雪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40"/>
          <p:cNvSpPr/>
          <p:nvPr/>
        </p:nvSpPr>
        <p:spPr>
          <a:xfrm>
            <a:off x="685800" y="5029200"/>
            <a:ext cx="297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Comic Sans MS"/>
                <a:ea typeface="黑体"/>
              </a:rPr>
              <a:t>折射阳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41"/>
          <p:cNvSpPr/>
          <p:nvPr/>
        </p:nvSpPr>
        <p:spPr>
          <a:xfrm>
            <a:off x="4038480" y="4952880"/>
            <a:ext cx="5105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黑体"/>
                <a:ea typeface="黑体"/>
              </a:rPr>
              <a:t>形成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2"/>
              </a:rPr>
              <a:t>晚霞</a:t>
            </a:r>
            <a:r>
              <a:rPr b="0" lang="zh-CN" sz="3200" spc="-1" strike="noStrike">
                <a:solidFill>
                  <a:srgbClr val="cc3399"/>
                </a:solidFill>
                <a:latin typeface="黑体"/>
                <a:ea typeface="黑体"/>
              </a:rPr>
              <a:t>朝晖、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3"/>
              </a:rPr>
              <a:t>闲云迷雾</a:t>
            </a:r>
            <a:r>
              <a:rPr b="0" lang="zh-CN" sz="3200" spc="-1" strike="noStrike">
                <a:solidFill>
                  <a:srgbClr val="cc3399"/>
                </a:solidFill>
                <a:latin typeface="黑体"/>
                <a:ea typeface="黑体"/>
              </a:rPr>
              <a:t>、 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4"/>
              </a:rPr>
              <a:t>彩虹</a:t>
            </a:r>
            <a:r>
              <a:rPr b="0" lang="zh-CN" sz="32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5"/>
              </a:rPr>
              <a:t>日晕</a:t>
            </a:r>
            <a:r>
              <a:rPr b="0" lang="zh-CN" sz="3200" spc="-1" strike="noStrike">
                <a:solidFill>
                  <a:srgbClr val="cc3399"/>
                </a:solidFill>
                <a:latin typeface="黑体"/>
                <a:ea typeface="黑体"/>
              </a:rPr>
              <a:t>等自然景色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34"/>
          <p:cNvSpPr/>
          <p:nvPr/>
        </p:nvSpPr>
        <p:spPr>
          <a:xfrm>
            <a:off x="8001000" y="20574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假如空中没有灰尘，地面上的万物都将是湿漉漉的（　　）更严重的是，天空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不可能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有云雾，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也不可能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形成雨、雪来调节气候，从地面上蒸发到上空的水也就不可能再回到地面上来。假如地球上的水越来越少，最后完全干涸，生物就不能生存（　　）此外，由于这些小水滴对阳光的折射作用，才会有晚霞朝晖、闲云迷雾、彩虹日晕等气象万千的自然景色。假如空中没有灰尘。大自然将多么单调啊！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4651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第三单元导语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习本组的说明性文章，要抓住课文的要点，了解基本的说明方法，并试着加以运用 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3581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0624"/>
                </a:solidFill>
                <a:latin typeface="Arial"/>
              </a:rPr>
              <a:t>文字材料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8540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优点：成本低，耐用，防水，质轻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原料：聚乙烯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废弃颗粒在垃圾中的比例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40%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缺点：易燃，燃烧时产生有毒气体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塑料在给人们的生活带来方便的同时，也给环境带来了“白色污染”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例如塑料燃烧时产生甲苯，这种物质会导致失明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80880" y="44197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用上面的这些材料，说一段完整的话。像第六段那样，用上“更严重的是”“此外”，注意条理性，还可以用上一些关联词语，如：虽然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但是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　因为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塑料在给人们的生活带来方便的同时，也给环境带来了“白色污染”。虽然塑料具有成本低，耐用，防水，质轻的优点，但是它燃烧时会产生有毒气体，废弃颗粒在垃圾中的比例也占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40%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此外，塑料燃烧时产生甲苯，这种物质会导致失明。　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塑料的原料是聚乙烯，它的优点是成本低，耐用，防水，质轻。它的缺点是易燃，燃烧时产生有毒气体。更严重的是塑料燃烧时产生甲苯，这种物质会导致失明 。因为废弃塑料在垃圾中的比例也占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40%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所以，塑料在给人们的生活带来方便的同时，也给环境带来了“白色污染”。　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1524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小结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在生活中，我们更好地利用像灰尘这样具有两面性的东西，为我们服务。　　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03:39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58:29Z</dcterms:modified>
  <cp:revision>9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