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86C-F1AD-467F-AB2D-ECA22ACC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C9D-F595-4D64-8E10-AE24AC42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FF5-90C0-45E8-BA1A-1E5BA6DD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FFD-DB16-496D-B201-805E2FDD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01D-BC0B-484C-AC2A-031EED57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188-9651-4D81-A055-52EC391C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A68-FDCF-495D-A705-36CDD001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85E-C6F7-486C-89BC-DA1AFAA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19B-4ED4-4636-9AEF-31DCAE8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034-057F-4313-9669-33F4D5E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341-00CB-40E2-8520-B0653C2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970-F735-4F72-9036-9D0F64B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16E-DECC-4A29-AA17-83DE07480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2"/>
          <p:cNvSpPr/>
          <p:nvPr/>
        </p:nvSpPr>
        <p:spPr>
          <a:xfrm>
            <a:off x="2085840" y="1486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76320" y="-76320"/>
            <a:ext cx="9143280" cy="6857640"/>
            <a:chOff x="76320" y="-76320"/>
            <a:chExt cx="9143280" cy="6857640"/>
          </a:xfrm>
        </p:grpSpPr>
        <p:grpSp>
          <p:nvGrpSpPr>
            <p:cNvPr id="44" name="Group 6"/>
            <p:cNvGrpSpPr/>
            <p:nvPr/>
          </p:nvGrpSpPr>
          <p:grpSpPr>
            <a:xfrm>
              <a:off x="76320" y="-76320"/>
              <a:ext cx="1828080" cy="6857640"/>
              <a:chOff x="76320" y="-76320"/>
              <a:chExt cx="1828080" cy="6857640"/>
            </a:xfrm>
          </p:grpSpPr>
          <p:pic>
            <p:nvPicPr>
              <p:cNvPr id="45" name="Picture 7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7632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8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7632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9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7632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0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7632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Group 11"/>
            <p:cNvGrpSpPr/>
            <p:nvPr/>
          </p:nvGrpSpPr>
          <p:grpSpPr>
            <a:xfrm>
              <a:off x="1904760" y="-76320"/>
              <a:ext cx="1828440" cy="6857640"/>
              <a:chOff x="1904760" y="-76320"/>
              <a:chExt cx="1828440" cy="6857640"/>
            </a:xfrm>
          </p:grpSpPr>
          <p:pic>
            <p:nvPicPr>
              <p:cNvPr id="50" name="Picture 12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904760" y="-76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13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904760" y="1638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4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904760" y="3352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5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1904760" y="5067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Group 16"/>
            <p:cNvGrpSpPr/>
            <p:nvPr/>
          </p:nvGrpSpPr>
          <p:grpSpPr>
            <a:xfrm>
              <a:off x="3733920" y="-76320"/>
              <a:ext cx="1828080" cy="6857640"/>
              <a:chOff x="3733920" y="-76320"/>
              <a:chExt cx="1828080" cy="6857640"/>
            </a:xfrm>
          </p:grpSpPr>
          <p:pic>
            <p:nvPicPr>
              <p:cNvPr id="55" name="Picture 17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73392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8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73392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9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73392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20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373392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21"/>
            <p:cNvGrpSpPr/>
            <p:nvPr/>
          </p:nvGrpSpPr>
          <p:grpSpPr>
            <a:xfrm>
              <a:off x="5562360" y="-76320"/>
              <a:ext cx="1828080" cy="6857640"/>
              <a:chOff x="5562360" y="-76320"/>
              <a:chExt cx="1828080" cy="6857640"/>
            </a:xfrm>
          </p:grpSpPr>
          <p:pic>
            <p:nvPicPr>
              <p:cNvPr id="60" name="Picture 22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56236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23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56236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24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56236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25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556236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26"/>
            <p:cNvGrpSpPr/>
            <p:nvPr/>
          </p:nvGrpSpPr>
          <p:grpSpPr>
            <a:xfrm>
              <a:off x="7391160" y="-76320"/>
              <a:ext cx="1828440" cy="6857640"/>
              <a:chOff x="7391160" y="-76320"/>
              <a:chExt cx="1828440" cy="6857640"/>
            </a:xfrm>
          </p:grpSpPr>
          <p:pic>
            <p:nvPicPr>
              <p:cNvPr id="65" name="Picture 27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91160" y="-76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28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91160" y="1638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29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91160" y="3352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30" descr="BGFL016"/>
              <p:cNvPicPr/>
              <p:nvPr/>
            </p:nvPicPr>
            <p:blipFill>
              <a:blip r:embed="rId21"/>
              <a:stretch/>
            </p:blipFill>
            <p:spPr>
              <a:xfrm>
                <a:off x="7391160" y="5067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Text Box 32"/>
          <p:cNvSpPr/>
          <p:nvPr/>
        </p:nvSpPr>
        <p:spPr>
          <a:xfrm>
            <a:off x="914400" y="1716120"/>
            <a:ext cx="762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808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行楷"/>
              </a:rPr>
              <a:t>北师大版三年级语文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1360" y="2057400"/>
            <a:ext cx="345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金色的草地》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9320" y="1752480"/>
            <a:ext cx="7391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自然里有植物、动物，各式各样的物种千千万万，它们色彩缤纷、形态独特、习性各异，经常亲近它们，仔细观察它们，你会有独特的发现、新颖的感受，因而你会激动、兴奋，由此产生眷恋、喜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大家把自己回到大自然的发现、经历、感受作为课余生活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小学语文（散文）02-5"/>
          <p:cNvPicPr/>
          <p:nvPr/>
        </p:nvPicPr>
        <p:blipFill>
          <a:blip r:embed="rId2"/>
          <a:stretch/>
        </p:blipFill>
        <p:spPr>
          <a:xfrm>
            <a:off x="998640" y="1241280"/>
            <a:ext cx="1668240" cy="435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462-8E1D-4477-A559-F414ED22A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52388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业超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课文中自己喜欢的句子抄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双休日和爸爸妈妈一起到郊外的草地上去踏青，仔细观察你所看到的草地，通过你喜欢的方式向同学们介绍你这次郊游所得。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838080" y="21337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小朋友们，大家去草地上玩过吗？展现在你眼前的草地是怎样的？在草地上你玩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1905120" y="1295280"/>
            <a:ext cx="6171840" cy="5028840"/>
            <a:chOff x="1905120" y="1295280"/>
            <a:chExt cx="6171840" cy="5028840"/>
          </a:xfrm>
        </p:grpSpPr>
        <p:pic>
          <p:nvPicPr>
            <p:cNvPr id="76" name="Picture 5" descr=""/>
            <p:cNvPicPr/>
            <p:nvPr/>
          </p:nvPicPr>
          <p:blipFill>
            <a:blip r:embed="rId2"/>
            <a:stretch/>
          </p:blipFill>
          <p:spPr>
            <a:xfrm>
              <a:off x="1905120" y="1295280"/>
              <a:ext cx="523296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"/>
            <p:cNvSpPr/>
            <p:nvPr/>
          </p:nvSpPr>
          <p:spPr>
            <a:xfrm>
              <a:off x="7409160" y="2408760"/>
              <a:ext cx="667800" cy="25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蒲公英花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34760" y="2133720"/>
            <a:ext cx="333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你见过“金色的草地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草地是金色的，这是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回事呢？我们一起来读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金色的草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0710562347584"/>
          <p:cNvPicPr/>
          <p:nvPr/>
        </p:nvPicPr>
        <p:blipFill>
          <a:blip r:embed="rId2"/>
          <a:srcRect l="0" t="13073" r="-2717" b="0"/>
          <a:stretch/>
        </p:blipFill>
        <p:spPr>
          <a:xfrm>
            <a:off x="1752480" y="1905120"/>
            <a:ext cx="52578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3520" y="190512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生思考：文中这片草地出现在哪里？为什么称这片草地为金色的草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生思考讨论后指名朗读相关的课文（第一自然段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941400" y="1322280"/>
            <a:ext cx="1725480" cy="354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676520" y="2362320"/>
            <a:ext cx="62481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自由朗读课文，同桌交流预习时画　　出的生字，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76520" y="3784680"/>
            <a:ext cx="6248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你最喜欢读哪个自然段，站起来读　　读，让我们感受你对它的喜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774800" y="1523880"/>
            <a:ext cx="347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草地是金色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小学语文（散文）02-3"/>
          <p:cNvPicPr/>
          <p:nvPr/>
        </p:nvPicPr>
        <p:blipFill>
          <a:blip r:embed="rId2"/>
          <a:stretch/>
        </p:blipFill>
        <p:spPr>
          <a:xfrm>
            <a:off x="952560" y="121932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853280" y="2146320"/>
            <a:ext cx="370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写了哪两件事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2819520"/>
            <a:ext cx="701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弟弟是怎样玩蒲公英的？请大家　　各自放声读一读，然后同桌间互相边说　　边演一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81080" y="4419720"/>
            <a:ext cx="6858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发现了什么，又发现了什么；两　　次发现有哪些不同，你从中受到了什　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0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0:0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