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gif" ContentType="image/gif"/>
  <Override PartName="/ppt/media/image11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2.jpeg" ContentType="image/jpeg"/>
  <Override PartName="/ppt/media/image8.gif" ContentType="image/gif"/>
  <Override PartName="/ppt/media/image13.gif" ContentType="image/gif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C08-CA5A-4437-A47E-DF822F8CC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081A-1E1E-4F54-9FC3-55F42B98F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B320-E15E-4037-8600-60F6BFB90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DBBE-1CEB-4460-8498-18D876E34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1E8B-A0E7-4D1D-8015-C6525692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27BC-7CE3-41EA-81EE-80B62E433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EA0-8FA0-450B-9165-3CC6E46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4A63-4F67-4CA2-83FB-71A1E28D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5ED0-7C5F-4CA1-8104-18481EA9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BC85-4CBD-4729-8428-7AC0531E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ECB1-4071-43A0-A06A-BB8E7E08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EB1F-2813-45E1-89B6-88275B3C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F7D3-643A-4434-84D3-7C1081BEEB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z.mp3" descr=""/>
          <p:cNvPicPr/>
          <p:nvPr/>
        </p:nvPicPr>
        <p:blipFill>
          <a:blip r:embed="rId2"/>
          <a:stretch/>
        </p:blipFill>
        <p:spPr>
          <a:xfrm>
            <a:off x="8028000" y="62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9"/>
          <p:cNvSpPr/>
          <p:nvPr/>
        </p:nvSpPr>
        <p:spPr>
          <a:xfrm>
            <a:off x="2060640" y="469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初读感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>
            <a:off x="3700440" y="46990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词语正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5284800" y="472356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朗读体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3"/>
          <p:cNvSpPr/>
          <p:nvPr/>
        </p:nvSpPr>
        <p:spPr>
          <a:xfrm>
            <a:off x="221148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14"/>
          <p:cNvSpPr/>
          <p:nvPr/>
        </p:nvSpPr>
        <p:spPr>
          <a:xfrm>
            <a:off x="385128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5435640" y="4292640"/>
            <a:ext cx="431640" cy="411120"/>
          </a:xfrm>
          <a:custGeom>
            <a:avLst/>
            <a:gdLst/>
            <a:ahLst/>
            <a:rect l="l" t="t" r="r" b="b"/>
            <a:pathLst>
              <a:path w="431800" h="411163">
                <a:moveTo>
                  <a:pt x="0" y="157050"/>
                </a:moveTo>
                <a:lnTo>
                  <a:pt x="164934" y="157051"/>
                </a:lnTo>
                <a:lnTo>
                  <a:pt x="215900" y="0"/>
                </a:lnTo>
                <a:lnTo>
                  <a:pt x="266866" y="157051"/>
                </a:lnTo>
                <a:lnTo>
                  <a:pt x="431800" y="157050"/>
                </a:lnTo>
                <a:lnTo>
                  <a:pt x="298365" y="254112"/>
                </a:lnTo>
                <a:lnTo>
                  <a:pt x="349333" y="411162"/>
                </a:lnTo>
                <a:lnTo>
                  <a:pt x="215900" y="314098"/>
                </a:lnTo>
                <a:lnTo>
                  <a:pt x="82467" y="411162"/>
                </a:lnTo>
                <a:lnTo>
                  <a:pt x="133435" y="254112"/>
                </a:lnTo>
                <a:lnTo>
                  <a:pt x="0" y="15705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2205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79360" y="98100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金色的鱼钩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500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84360" y="1628640"/>
            <a:ext cx="817236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1.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用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比较快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的速度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默读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课文，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意入眼看得快</a:t>
            </a: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入脑想得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隶书"/>
                <a:ea typeface="隶书"/>
              </a:rPr>
              <a:t>2. </a:t>
            </a: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课文主要讲了一件什么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隶书"/>
                <a:ea typeface="隶书"/>
              </a:rPr>
              <a:t>把和题目有关的句子用线划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7596360" y="6337440"/>
            <a:ext cx="154764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2" descr="0005"/>
          <p:cNvPicPr/>
          <p:nvPr/>
        </p:nvPicPr>
        <p:blipFill>
          <a:blip r:embed="rId2"/>
          <a:stretch/>
        </p:blipFill>
        <p:spPr>
          <a:xfrm>
            <a:off x="8101080" y="6021360"/>
            <a:ext cx="571320" cy="428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2479320" y="2204280"/>
            <a:ext cx="442188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颧骨  两鬓  搪瓷  收敛  疙瘩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粗糙  抽噎  红锈  宿营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青稞面  喜出望外  热气腾腾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无边无涯  昏迷不醒  奄奄一息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WordArt 6"/>
          <p:cNvSpPr txBox="1"/>
          <p:nvPr/>
        </p:nvSpPr>
        <p:spPr>
          <a:xfrm>
            <a:off x="3348000" y="1484280"/>
            <a:ext cx="2232000" cy="62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黑体"/>
              </a:rPr>
              <a:t>读一读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58" name="Picture 7" descr="0005"/>
          <p:cNvPicPr/>
          <p:nvPr/>
        </p:nvPicPr>
        <p:blipFill>
          <a:blip r:embed="rId4"/>
          <a:stretch/>
        </p:blipFill>
        <p:spPr>
          <a:xfrm>
            <a:off x="7524720" y="5734080"/>
            <a:ext cx="571680" cy="4287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6"/>
          <p:cNvSpPr/>
          <p:nvPr/>
        </p:nvSpPr>
        <p:spPr>
          <a:xfrm>
            <a:off x="2195640" y="2852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826920" y="2060640"/>
            <a:ext cx="70581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他坐在那里捧着搪瓷碗，嚼着几根草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和我们吃剩的鱼骨头，嚼了一会儿，就皱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眉头硬咽下去。我觉得有万根钢针扎着我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喉管，失声叫起来：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老班长，你怎么</a:t>
            </a:r>
            <a:r>
              <a:rPr b="1" lang="en-US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新宋体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新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我端起搪瓷碗，觉得这个碗有千斤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新宋体"/>
              </a:rPr>
              <a:t>怎么也送不到嘴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6300720" y="4581360"/>
            <a:ext cx="1366920" cy="6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324000" y="476280"/>
            <a:ext cx="83516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当我俯下身子，把鱼汤送到老班长嘴边的时候，老班长已经奄奄一息了。他微微地睁开眼睛，看见我端着的鱼汤头一句话就说：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小梁别浪费东西了。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我不行啦。你们吃吧！还有二十多里路，吃完了，一定要走出草地去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不，你们吃吧。你们一定要走出草地去！见着指导员，告诉他，我没有完成党交给我的任务，没把你们照顾好。看，你们都瘦得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老班长用粗糙的手抚摸我的头。突然间，他的手垂了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老班长！老班长！</a:t>
            </a: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华文中宋"/>
              </a:rPr>
              <a:t>我们叫起来。但是老班长，他，他的眼睛慢慢地闭上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835280" y="1484280"/>
            <a:ext cx="612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1042920" y="1484280"/>
            <a:ext cx="784872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在这个长满了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红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的鱼钩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上，闪烁着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华文新魏"/>
              </a:rPr>
              <a:t>烂的金色的光芒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3"/>
          <p:cNvSpPr/>
          <p:nvPr/>
        </p:nvSpPr>
        <p:spPr>
          <a:xfrm>
            <a:off x="4859280" y="2637000"/>
            <a:ext cx="1656000" cy="1439640"/>
          </a:xfrm>
          <a:prstGeom prst="ellipse">
            <a:avLst/>
          </a:prstGeom>
          <a:noFill/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3319560" y="4221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cc00"/>
                </a:solidFill>
                <a:latin typeface="Arial"/>
                <a:ea typeface="华文新魏"/>
              </a:rPr>
              <a:t>金色的光芒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36B7-291B-4F71-8708-C7F2EE161AD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835280" y="2363760"/>
            <a:ext cx="6335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你是怎样理解“在这个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满了红锈的鱼钩上，闪烁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灿烂的金色的光芒”这句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1908000" y="1341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Arial"/>
                <a:ea typeface="黑体"/>
              </a:rPr>
              <a:t>小组合作讨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4014360" y="2193120"/>
            <a:ext cx="1108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复述课文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搜集长征中发生的感人的故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201I3141350"/>
          <p:cNvPicPr/>
          <p:nvPr/>
        </p:nvPicPr>
        <p:blipFill>
          <a:blip r:embed="rId2"/>
          <a:stretch/>
        </p:blipFill>
        <p:spPr>
          <a:xfrm rot="470400">
            <a:off x="6948360" y="1268280"/>
            <a:ext cx="8478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2:08:3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4T13:31:40Z</dcterms:modified>
  <cp:revision>5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