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6DE-7AB7-4CAB-BBEC-9E5F2D6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0A9-2306-407F-9CDB-24F722A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ECE-10C1-48D2-A8BD-ABCA4D08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A35-89FB-4BFE-A448-864E4C6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F0E-0E42-45DB-A967-7BB0354B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C20-E580-45F7-9770-66AAB933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027-4CFD-41C5-A327-4E5E2F3F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7F7-997C-4401-B59F-FA9C76AB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615-9E80-44EC-BA38-06C8836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A33-BA50-4560-8CBC-FA46E65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3B7-77AE-422C-9747-1B17667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1B8-6048-4D8E-8565-0A0CF968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581-335C-4E4A-991A-8920E27A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&#12298;&#37329;&#33394;&#30340;&#40060;&#38057;&#12299;&#35829;&#35835;.swf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801880" y="1539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chatu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3"/>
          <p:cNvSpPr txBox="1"/>
          <p:nvPr/>
        </p:nvSpPr>
        <p:spPr>
          <a:xfrm>
            <a:off x="468360" y="404640"/>
            <a:ext cx="813744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（北师大版）六年级语文第六单元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2960" y="2276640"/>
            <a:ext cx="2126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《金色的鱼钩》课件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2EA-DADC-4AE5-A202-1DCD94A31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《长征》剧照——过草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767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过草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学习目标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朗读课文，体会课文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作者抓住人物的语言、动作、神态展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物内心的表达方法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练习快速阅读，简要地复述故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480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课文主要讲了一件什么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清课文的叙述顺序，各部分主要讲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内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19280" y="476280"/>
            <a:ext cx="6600960" cy="82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速读课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、思考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细读课文、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什么地方最能打动你，从中你感受到了什么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你对“在这个长满了红锈的鱼钩上，闪烁着灿烂的金色的光芒”这句话的理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中着重写了老班长，课文名字为什么不用“老班长”，而用金色的鱼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rcRect l="0" t="0" r="7371" b="0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4"/>
          <p:cNvPicPr/>
          <p:nvPr/>
        </p:nvPicPr>
        <p:blipFill>
          <a:blip r:embed="rId2"/>
          <a:srcRect l="6452" t="28126" r="28126" b="50007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5638680" y="457200"/>
            <a:ext cx="2667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/>
              </a:rPr>
              <a:t>金色的鱼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72000" y="15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闪烁着灿烂的光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-117720" y="4800600"/>
            <a:ext cx="10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066680" y="38862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447920" y="3657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肩负重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47920" y="4191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弯钩钓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47920" y="4738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钓鱼不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447920" y="5272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安定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447920" y="5805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困难重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447920" y="6338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壮烈牺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6"/>
          <p:cNvGrpSpPr/>
          <p:nvPr/>
        </p:nvGrpSpPr>
        <p:grpSpPr>
          <a:xfrm>
            <a:off x="4038480" y="2438280"/>
            <a:ext cx="3429000" cy="2209680"/>
            <a:chOff x="4038480" y="2438280"/>
            <a:chExt cx="3429000" cy="2209680"/>
          </a:xfrm>
        </p:grpSpPr>
        <p:sp>
          <p:nvSpPr>
            <p:cNvPr id="69" name="AutoShape 17"/>
            <p:cNvSpPr/>
            <p:nvPr/>
          </p:nvSpPr>
          <p:spPr>
            <a:xfrm>
              <a:off x="4038480" y="2438280"/>
              <a:ext cx="3429000" cy="2209680"/>
            </a:xfrm>
            <a:prstGeom prst="wedgeRoundRectCallout">
              <a:avLst>
                <a:gd name="adj1" fmla="val -74212"/>
                <a:gd name="adj2" fmla="val 85273"/>
                <a:gd name="adj3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4267080" y="266688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忠于革命    忠于党        舍己为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263320" y="1412280"/>
            <a:ext cx="4421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颧骨  两鬓  搪瓷  收敛  疙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粗糙  抽噎  红锈  宿营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青稞面  喜出望外  热气腾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无边无涯  昏迷不醒  奄奄一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971640" y="476280"/>
            <a:ext cx="22320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读一读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0920" y="765000"/>
            <a:ext cx="889308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ahoma"/>
                <a:ea typeface="黑体"/>
              </a:rPr>
              <a:t>     </a:t>
            </a:r>
            <a:r>
              <a:rPr b="0" lang="zh-CN" sz="6600" spc="-1" strike="noStrike">
                <a:solidFill>
                  <a:srgbClr val="ffff00"/>
                </a:solidFill>
                <a:latin typeface="Tahoma"/>
                <a:ea typeface="黑体"/>
              </a:rPr>
              <a:t>文章主要写的是老班长，题目为什么却叫“金色的鱼钩”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70305155929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1476360" y="1413000"/>
            <a:ext cx="748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向老班长敬礼！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9" name="中国少年先锋队队歌[歌曲]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中国少年先锋队队歌[歌曲]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0506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506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"/>
          <p:cNvPicPr/>
          <p:nvPr/>
        </p:nvPicPr>
        <p:blipFill>
          <a:blip r:embed="rId1"/>
          <a:srcRect l="15237" t="18751" r="29928" b="406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352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假如你是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革命烈士纪念馆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解说员，你怎样向前来参观的人介绍金色的鱼钩的故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480" y="2403360"/>
            <a:ext cx="5334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理要清楚，讲清鱼钩的来历以及围绕鱼钩所发生的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意把课文感人的场面说出来，体现出人物的思想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意用口语讲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84360" y="2133000"/>
            <a:ext cx="8057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复述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搜集长征中发生的感人的故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1I3141350"/>
          <p:cNvPicPr/>
          <p:nvPr/>
        </p:nvPicPr>
        <p:blipFill>
          <a:blip r:embed="rId2"/>
          <a:stretch/>
        </p:blipFill>
        <p:spPr>
          <a:xfrm rot="470400">
            <a:off x="6948360" y="1268280"/>
            <a:ext cx="8478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229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7:28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4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