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297-F6E5-4E0A-841F-4FBDF85C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685-4FBB-40C5-B741-94E23D97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CBF-AE37-47D7-87A4-B4A24B7B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0EF-FE2A-4824-90E8-D87FEE6D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7A8-D586-41EA-B1E0-88908B16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D9E-7C81-4C81-9669-B14595E5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D63-C300-4DF5-9DAF-BDEEBC17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01F-5812-4845-835A-EB3E15DA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97C-849E-4E51-85F7-ED307CA6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25D-FA83-4F36-BFC6-F33C0D59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9A9-D470-4B91-9E1B-A943FA8E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4EA-0DFB-427F-A729-093D15D3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AB25-D2E0-4FA1-BFE9-224FAF79AF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410080" y="2306520"/>
            <a:ext cx="39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Arial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7080" y="38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135240" y="3213000"/>
            <a:ext cx="5461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64760" y="3213000"/>
            <a:ext cx="9118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217480" y="3213000"/>
            <a:ext cx="91188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6514560" y="3213000"/>
            <a:ext cx="91188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573408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3CF-3EB2-402C-BD7D-204C1923C5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995640" y="141300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362120" y="313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290840" y="4581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877000" y="2755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54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816520" y="57340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068720" y="1123920"/>
            <a:ext cx="47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924360" y="249228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556000" y="386064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332000" y="515772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7:29:1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