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009-225B-4889-BD1B-F9059E91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7FC-462F-4AA7-9FC2-16013F02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E7A-7B29-4B2A-A3CB-E3720922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835-20FD-4F77-981E-DB3AB2E2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31F7-B56E-4581-95D7-FF93F684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35C4-F629-4593-BD12-6B0D8C76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EB79-3049-4031-B8EB-89D6D9B4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5764-39D5-4EF9-AFB0-449F4FC2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86D4-2F7C-4662-B8AA-F9328C64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2EDB-AF9F-4F94-B9ED-B69463B6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15EE-4644-4445-949E-DC9697E7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44B-050A-48BD-A24A-7999C5F7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4419-0D1D-461D-8F6A-DF4E0F39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AE6A-CBDE-494C-BF3B-7171E65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89CC-88D6-4B75-A8CE-09BCB96D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521B-E1DD-4538-8191-7E770CC2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1B7E-717D-4EC2-980C-6188CEF7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728-2ADF-48B9-99FC-EC4821B0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05A-324C-4F55-BF88-663185A5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D9C-8E79-4AC3-8DDF-12A8012B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B3F-E25A-4A6F-AC85-CB8F70B6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229-8ECE-463B-BA26-2400786C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72F-905A-4DA7-8EA8-DE1DF2DA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350-7C6B-40BB-B361-39E5148F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EDE9-9365-476C-A2E8-06B183F2D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64DB-F9BA-497E-ADA0-7132B7E7B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1.jpeg"/><Relationship Id="rId2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Xc828004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68480" y="5302080"/>
            <a:ext cx="25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《九色鹿》精品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课件模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400536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山林之中，春光明媚。九色鹿在开满鲜花的草地上睡得正香。突然，乌鸦高声叫喊道：“九色鹿，九色鹿，快醒一醒吧，国王的军队捉你来了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Xc828010"/>
          <p:cNvPicPr/>
          <p:nvPr/>
        </p:nvPicPr>
        <p:blipFill>
          <a:blip r:embed="rId1"/>
          <a:stretch/>
        </p:blipFill>
        <p:spPr>
          <a:xfrm>
            <a:off x="250920" y="189000"/>
            <a:ext cx="867564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4338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陛下，您知道吗？正是这个人，在快要淹死时，我救了他。他发誓永不暴露我的住地，谁知他竟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见利忘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！您与这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灵魂肮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小人一起来残害无辜，难道不怕天下人笑话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Xc828012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4436640"/>
            <a:ext cx="914400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国王非常惭愧。他斥责调达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背信弃义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恩将仇报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，并重重惩罚了他，还下令全国臣民永远不许伤害九色鹿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Picture 4" descr="Xc828013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4176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804-D0DA-4ADA-B58A-231114262697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作业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540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九色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故事讲给家长听，准备下次课复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搜集诚实守信的故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象九色鹿今后的生活，续写一段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Picture 5" descr="1010370040[1]"/>
          <p:cNvPicPr/>
          <p:nvPr/>
        </p:nvPicPr>
        <p:blipFill>
          <a:blip r:embed="rId1"/>
          <a:stretch/>
        </p:blipFill>
        <p:spPr>
          <a:xfrm>
            <a:off x="179280" y="59500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1010370040[1]"/>
          <p:cNvPicPr/>
          <p:nvPr/>
        </p:nvPicPr>
        <p:blipFill>
          <a:blip r:embed="rId2"/>
          <a:stretch/>
        </p:blipFill>
        <p:spPr>
          <a:xfrm>
            <a:off x="4076640" y="59500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010370040[1]"/>
          <p:cNvPicPr/>
          <p:nvPr/>
        </p:nvPicPr>
        <p:blipFill>
          <a:blip r:embed="rId3"/>
          <a:stretch/>
        </p:blipFill>
        <p:spPr>
          <a:xfrm>
            <a:off x="0" y="4762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1010370040[1]"/>
          <p:cNvPicPr/>
          <p:nvPr/>
        </p:nvPicPr>
        <p:blipFill>
          <a:blip r:embed="rId4"/>
          <a:stretch/>
        </p:blipFill>
        <p:spPr>
          <a:xfrm>
            <a:off x="4076640" y="476280"/>
            <a:ext cx="5067360" cy="33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5373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谢谢指导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fl179"/>
          <p:cNvPicPr/>
          <p:nvPr/>
        </p:nvPicPr>
        <p:blipFill>
          <a:blip r:embed="rId1"/>
          <a:stretch/>
        </p:blipFill>
        <p:spPr>
          <a:xfrm>
            <a:off x="0" y="0"/>
            <a:ext cx="2411280" cy="1903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fl178"/>
          <p:cNvPicPr/>
          <p:nvPr/>
        </p:nvPicPr>
        <p:blipFill>
          <a:blip r:embed="rId2"/>
          <a:stretch/>
        </p:blipFill>
        <p:spPr>
          <a:xfrm>
            <a:off x="3780000" y="4780080"/>
            <a:ext cx="5364000" cy="207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奴仆             发誓                  灵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榜             斥责                   惭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见 利 忘 义                  背 信 弃 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恩 将 仇 报                  知  恩 图 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010370040[1]"/>
          <p:cNvPicPr/>
          <p:nvPr/>
        </p:nvPicPr>
        <p:blipFill>
          <a:blip r:embed="rId1"/>
          <a:stretch/>
        </p:blipFill>
        <p:spPr>
          <a:xfrm>
            <a:off x="0" y="4762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1010370040[1]"/>
          <p:cNvPicPr/>
          <p:nvPr/>
        </p:nvPicPr>
        <p:blipFill>
          <a:blip r:embed="rId2"/>
          <a:stretch/>
        </p:blipFill>
        <p:spPr>
          <a:xfrm>
            <a:off x="4076640" y="47628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1010370040[1]"/>
          <p:cNvPicPr/>
          <p:nvPr/>
        </p:nvPicPr>
        <p:blipFill>
          <a:blip r:embed="rId3"/>
          <a:stretch/>
        </p:blipFill>
        <p:spPr>
          <a:xfrm>
            <a:off x="0" y="5877000"/>
            <a:ext cx="5067360" cy="333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1010370040[1]"/>
          <p:cNvPicPr/>
          <p:nvPr/>
        </p:nvPicPr>
        <p:blipFill>
          <a:blip r:embed="rId4"/>
          <a:stretch/>
        </p:blipFill>
        <p:spPr>
          <a:xfrm>
            <a:off x="4087800" y="5880240"/>
            <a:ext cx="5067360" cy="3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5"/>
          <p:cNvSpPr/>
          <p:nvPr/>
        </p:nvSpPr>
        <p:spPr>
          <a:xfrm>
            <a:off x="1692360" y="2060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33cc"/>
                </a:solidFill>
                <a:latin typeface="Arial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yuwen/167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它双角洁白如雪，身上有九种鲜艳的毛色，漂亮极了，人们都称它九色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Xc828004"/>
          <p:cNvPicPr/>
          <p:nvPr/>
        </p:nvPicPr>
        <p:blipFill>
          <a:blip r:embed="rId19"/>
          <a:stretch/>
        </p:blipFill>
        <p:spPr>
          <a:xfrm>
            <a:off x="324000" y="260280"/>
            <a:ext cx="842472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11280" y="364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天，九色鹿在河边散步。突然，耳边传来“救命啊，救命！”的呼喊，只见一个人在汹涌的波涛中奋力挣扎。九色鹿立即纵身跳进河中，将落水人救上岸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Xc828005"/>
          <p:cNvPicPr/>
          <p:nvPr/>
        </p:nvPicPr>
        <p:blipFill>
          <a:blip r:embed="rId1"/>
          <a:stretch/>
        </p:blipFill>
        <p:spPr>
          <a:xfrm>
            <a:off x="971640" y="189000"/>
            <a:ext cx="7488000" cy="338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9640" y="407664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落水人名叫调达，得救后连连向九色鹿叩头，感激地说：“谢谢你的救命之恩。我愿意永远做你的奴仆，终身受你的驱使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……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6" descr="Xc828006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50920" y="18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九色鹿打断了调达的话说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救你并不是要你做我的奴仆。快回家吧。只要你不向任何人泄露我的住处 ，就算是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知恩图报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了。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Picture 5" descr="Xc828006"/>
          <p:cNvPicPr/>
          <p:nvPr/>
        </p:nvPicPr>
        <p:blipFill>
          <a:blip r:embed="rId1"/>
          <a:stretch/>
        </p:blipFill>
        <p:spPr>
          <a:xfrm>
            <a:off x="395280" y="2781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95280" y="692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调达郑重起誓，决不说出九色鹿的住处，然后千恩万谢地走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Picture 6" descr="Xc828006"/>
          <p:cNvPicPr/>
          <p:nvPr/>
        </p:nvPicPr>
        <p:blipFill>
          <a:blip r:embed="rId1"/>
          <a:stretch/>
        </p:blipFill>
        <p:spPr>
          <a:xfrm>
            <a:off x="179280" y="2421000"/>
            <a:ext cx="864252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537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国王无奈，只好张贴皇榜，重金悬赏捕捉九色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Xc828008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11280" y="49417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调达看了皇榜，心想发财的机会来啦，就进宫告密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3851280" y="2492280"/>
            <a:ext cx="6095880" cy="3276720"/>
            <a:chOff x="3851280" y="2492280"/>
            <a:chExt cx="6095880" cy="3276720"/>
          </a:xfrm>
        </p:grpSpPr>
        <p:sp>
          <p:nvSpPr>
            <p:cNvPr id="113" name="AutoShape 5"/>
            <p:cNvSpPr/>
            <p:nvPr/>
          </p:nvSpPr>
          <p:spPr>
            <a:xfrm>
              <a:off x="3851280" y="2492280"/>
              <a:ext cx="6095880" cy="3276720"/>
            </a:xfrm>
            <a:prstGeom prst="irregularSeal2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5146560" y="3681360"/>
              <a:ext cx="4267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调达看到皇榜，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一心想到的是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——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，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他完全忘记了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———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。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15" name="Picture 8" descr="Xc828009"/>
          <p:cNvPicPr/>
          <p:nvPr/>
        </p:nvPicPr>
        <p:blipFill>
          <a:blip r:embed="rId1"/>
          <a:stretch/>
        </p:blipFill>
        <p:spPr>
          <a:xfrm>
            <a:off x="179280" y="189000"/>
            <a:ext cx="6264360" cy="3527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6:58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42:36Z</dcterms:modified>
  <cp:revision>1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