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wmf" ContentType="image/x-wmf"/>
  <Override PartName="/ppt/media/image12.wmf" ContentType="image/x-wmf"/>
  <Override PartName="/ppt/media/image11.wmf" ContentType="image/x-wmf"/>
  <Override PartName="/ppt/media/image9.gif" ContentType="image/gif"/>
  <Override PartName="/ppt/media/image7.gif" ContentType="image/gif"/>
  <Override PartName="/ppt/media/image20.wmf" ContentType="image/x-wmf"/>
  <Override PartName="/ppt/media/image6.png" ContentType="image/png"/>
  <Override PartName="/ppt/media/image14.wmf" ContentType="image/x-wmf"/>
  <Override PartName="/ppt/media/image5.gif" ContentType="image/gif"/>
  <Override PartName="/ppt/media/image16.wmf" ContentType="image/x-wmf"/>
  <Override PartName="/ppt/media/image25.gif" ContentType="image/gif"/>
  <Override PartName="/ppt/media/image17.png" ContentType="image/png"/>
  <Override PartName="/ppt/media/image24.jpeg" ContentType="image/jpeg"/>
  <Override PartName="/ppt/media/image21.wmf" ContentType="image/x-wmf"/>
  <Override PartName="/ppt/media/image1.jpeg" ContentType="image/jpeg"/>
  <Override PartName="/ppt/media/image23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3.wmf" ContentType="image/x-wmf"/>
  <Override PartName="/ppt/media/image4.jpeg" ContentType="image/jpe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BF3-C1F8-4047-86EE-5B148C06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225-8090-467B-B7ED-02E2B4C1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846-1CB0-49EE-9C2B-2119574A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753-AC60-47A8-BBBB-DB29D69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854-3628-4B1D-9DDE-B6164C24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542-AF1A-4FD5-9972-111ACFFD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205-8F2D-4F8F-8E3C-3327EF57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905-2C22-47D2-8EE2-6C14CFC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041-1482-4074-BBC1-F5CE2118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1EB-752A-426C-A825-2D8C592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4BF-E706-4737-8273-4F4FD70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69B-A0F6-4531-AD8B-AC72728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7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9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41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36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7AB-745B-4506-B0A8-7F2526174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夜圖9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66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bac010008"/>
          <p:cNvPicPr/>
          <p:nvPr/>
        </p:nvPicPr>
        <p:blipFill>
          <a:blip r:embed="rId2"/>
          <a:stretch/>
        </p:blipFill>
        <p:spPr>
          <a:xfrm>
            <a:off x="1835280" y="1197000"/>
            <a:ext cx="594360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974880" y="2714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0000" y="63817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836640"/>
            <a:ext cx="504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静夜思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4"/>
          <p:cNvSpPr/>
          <p:nvPr/>
        </p:nvSpPr>
        <p:spPr>
          <a:xfrm>
            <a:off x="1828800" y="914400"/>
            <a:ext cx="6629400" cy="4876920"/>
          </a:xfrm>
          <a:prstGeom prst="cloudCallout">
            <a:avLst>
              <a:gd name="adj1" fmla="val -57879"/>
              <a:gd name="adj2" fmla="val -45148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想不想知道</a:t>
            </a:r>
            <a:r>
              <a:rPr b="1" lang="en-US" sz="60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霜</a:t>
            </a:r>
            <a:r>
              <a:rPr b="1" lang="en-US" sz="6000" spc="-1" strike="noStrike">
                <a:solidFill>
                  <a:srgbClr val="000000"/>
                </a:solidFill>
                <a:latin typeface="DFKai-SB"/>
                <a:ea typeface="DFKai-SB"/>
              </a:rPr>
              <a:t>]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是</a:t>
            </a:r>
            <a:r>
              <a:rPr b="1" lang="zh-CN" sz="6000" spc="-1" strike="noStrike">
                <a:solidFill>
                  <a:srgbClr val="000000"/>
                </a:solidFill>
                <a:latin typeface="DFKai-SB"/>
                <a:ea typeface="DFKai-SB"/>
              </a:rPr>
              <a:t>长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什</a:t>
            </a:r>
            <a:r>
              <a:rPr b="1" lang="zh-CN" sz="6000" spc="-1" strike="noStrike">
                <a:solidFill>
                  <a:srgbClr val="000000"/>
                </a:solidFill>
                <a:latin typeface="DFKai-SB"/>
                <a:ea typeface="DFKai-SB"/>
              </a:rPr>
              <a:t>么样</a:t>
            </a:r>
            <a:r>
              <a:rPr b="1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子的呢</a:t>
            </a:r>
            <a:r>
              <a:rPr b="1" lang="en-US" sz="60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00"/>
                </a:solidFill>
                <a:latin typeface="DFKai-SB"/>
                <a:ea typeface="DFKai-SB"/>
              </a:rPr>
              <a:t>举起</a:t>
            </a:r>
            <a:endParaRPr b="0" lang="en-US" sz="7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2590920"/>
            <a:ext cx="671508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有往上伸的意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例如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举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起手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j0089048[1]"/>
          <p:cNvPicPr/>
          <p:nvPr/>
        </p:nvPicPr>
        <p:blipFill>
          <a:blip r:embed="rId1"/>
          <a:stretch/>
        </p:blipFill>
        <p:spPr>
          <a:xfrm>
            <a:off x="6443640" y="3357720"/>
            <a:ext cx="1808280" cy="3182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静</a:t>
            </a: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夜思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0740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安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静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思念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着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5003640" y="3357720"/>
            <a:ext cx="3456000" cy="1944360"/>
          </a:xfrm>
          <a:prstGeom prst="wedgeEllipseCallout">
            <a:avLst>
              <a:gd name="adj1" fmla="val -46143"/>
              <a:gd name="adj2" fmla="val 60203"/>
            </a:avLst>
          </a:prstGeom>
          <a:solidFill>
            <a:srgbClr val="ffffff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李白在夜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里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思念的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会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谁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呢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搧涼豬"/>
          <p:cNvPicPr/>
          <p:nvPr/>
        </p:nvPicPr>
        <p:blipFill>
          <a:blip r:embed="rId1"/>
          <a:stretch/>
        </p:blipFill>
        <p:spPr>
          <a:xfrm>
            <a:off x="3419640" y="4724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明月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2204640"/>
            <a:ext cx="628164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badi MT Condensed Light"/>
                <a:ea typeface="DFKai-SB"/>
              </a:rPr>
              <a:t>明亮的月亮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j0078945[1]"/>
          <p:cNvPicPr/>
          <p:nvPr/>
        </p:nvPicPr>
        <p:blipFill>
          <a:blip r:embed="rId1"/>
          <a:stretch/>
        </p:blipFill>
        <p:spPr>
          <a:xfrm>
            <a:off x="5724360" y="3429000"/>
            <a:ext cx="3146760" cy="2995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04000" y="63817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地上霜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43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地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结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了一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层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白色的霜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3635280" y="3789360"/>
            <a:ext cx="4753080" cy="2160720"/>
          </a:xfrm>
          <a:prstGeom prst="cloudCallout">
            <a:avLst>
              <a:gd name="adj1" fmla="val -60990"/>
              <a:gd name="adj2" fmla="val -81375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还记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得霜是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长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什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么样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子的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吗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举头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就是抬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起來向上看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635280" y="3789360"/>
            <a:ext cx="4753080" cy="2448000"/>
          </a:xfrm>
          <a:prstGeom prst="cloudCallout">
            <a:avLst>
              <a:gd name="adj1" fmla="val -60990"/>
              <a:gd name="adj2" fmla="val -65953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举头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]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抬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头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哪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个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听</a:t>
            </a:r>
            <a:r>
              <a:rPr b="1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呢</a:t>
            </a:r>
            <a:r>
              <a:rPr b="1" lang="en-US" sz="3600" spc="-1" strike="noStrike">
                <a:solidFill>
                  <a:srgbClr val="000000"/>
                </a:solidFill>
                <a:latin typeface="DFKai-SB"/>
                <a:ea typeface="DFKai-SB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低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头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21836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这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首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诗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指放下原本抬起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动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作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780000" y="4437000"/>
            <a:ext cx="4752720" cy="2160720"/>
          </a:xfrm>
          <a:prstGeom prst="cloudCallout">
            <a:avLst>
              <a:gd name="adj1" fmla="val -60990"/>
              <a:gd name="adj2" fmla="val -81375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听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清楚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低头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] </a:t>
            </a:r>
            <a:r>
              <a:rPr b="1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喔</a:t>
            </a:r>
            <a:r>
              <a:rPr b="1" lang="en-US" sz="3200" spc="-1" strike="noStrike">
                <a:solidFill>
                  <a:srgbClr val="000000"/>
                </a:solidFill>
                <a:latin typeface="DFKai-SB"/>
                <a:ea typeface="DFKai-SB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j0227942[1]"/>
          <p:cNvPicPr/>
          <p:nvPr/>
        </p:nvPicPr>
        <p:blipFill>
          <a:blip r:embed="rId2"/>
          <a:stretch/>
        </p:blipFill>
        <p:spPr>
          <a:xfrm>
            <a:off x="7524720" y="5300640"/>
            <a:ext cx="912960" cy="1125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思故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乡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9740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这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指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离开家乡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人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外地想念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家乡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心情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j0078750[1]"/>
          <p:cNvPicPr/>
          <p:nvPr/>
        </p:nvPicPr>
        <p:blipFill>
          <a:blip r:embed="rId1"/>
          <a:stretch/>
        </p:blipFill>
        <p:spPr>
          <a:xfrm>
            <a:off x="7308720" y="3933720"/>
            <a:ext cx="1362240" cy="2414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腳印"/>
          <p:cNvPicPr/>
          <p:nvPr/>
        </p:nvPicPr>
        <p:blipFill>
          <a:blip r:embed="rId2"/>
          <a:stretch/>
        </p:blipFill>
        <p:spPr>
          <a:xfrm>
            <a:off x="468360" y="5950080"/>
            <a:ext cx="5337000" cy="39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夜圖9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bac010011"/>
          <p:cNvPicPr/>
          <p:nvPr/>
        </p:nvPicPr>
        <p:blipFill>
          <a:blip r:embed="rId2"/>
          <a:stretch/>
        </p:blipFill>
        <p:spPr>
          <a:xfrm>
            <a:off x="914400" y="3645000"/>
            <a:ext cx="8229600" cy="3213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195640" y="1125360"/>
            <a:ext cx="405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床前明月光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疑是地上霜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举头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望明月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低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思故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乡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82640" y="43920"/>
            <a:ext cx="278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静</a:t>
            </a: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DFKai-SB"/>
              </a:rPr>
              <a:t>夜思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床前明月光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夜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里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醒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来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時候，我看見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一片雪白明亮的月光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107440" y="39337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疑是地上霜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306240" y="5084640"/>
            <a:ext cx="34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我以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为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地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结满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了白霜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" y="6369120"/>
            <a:ext cx="21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5840" y="981000"/>
            <a:ext cx="61578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小朋友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，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你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欣赏过美丽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的夜景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吗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DFKai-SB"/>
              </a:rPr>
              <a:t>？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9" name="Picture 5" descr="j0203160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880-7C00-43E2-9325-E956228AF542}" type="slidenum">
              <a:t>20</a:t>
            </a:fld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举头</a:t>
            </a: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望明月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6035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我慢慢抬起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着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天上的月亮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91440" y="2997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低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头</a:t>
            </a:r>
            <a:r>
              <a:rPr b="1" lang="zh-TW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思故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DFKai-SB"/>
              </a:rPr>
              <a:t>乡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22240" y="4168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皎洁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明亮的月亮，使我忍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不住低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头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來思念我可愛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故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乡</a:t>
            </a: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DFKai-SB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652120" y="62064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各位小朋友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学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到这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里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，相</a:t>
            </a:r>
            <a:br>
              <a:rPr sz="4800"/>
            </a:b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信你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对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「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静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夜思」这首诗已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经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相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当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熟悉，接下來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让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我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们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来练习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DFKai-SB"/>
              </a:rPr>
              <a:t>唱唱看吧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3" descr="動物樂團"/>
          <p:cNvPicPr/>
          <p:nvPr/>
        </p:nvPicPr>
        <p:blipFill>
          <a:blip r:embed="rId1"/>
          <a:stretch/>
        </p:blipFill>
        <p:spPr>
          <a:xfrm>
            <a:off x="1116000" y="4365720"/>
            <a:ext cx="6697800" cy="200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44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各位小朋友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请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你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细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想一想，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回答下面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问题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。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组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题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  <a:ea typeface="DFKai-SB"/>
              </a:rPr>
              <a:t>）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你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个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在外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夜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经验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那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么样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觉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42920" y="32846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想想看，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静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夜晚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适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合做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066680" y="407664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说说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看，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赏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月亮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时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会联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想到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么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042920" y="479736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说说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看，你思念朋友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亲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时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心情如何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夜圖9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433520" y="-6984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書法秀隸（注音一）"/>
                <a:ea typeface="書法秀隸（注音一）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743200" y="2362320"/>
            <a:ext cx="51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床前明月光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疑是地上霜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举头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望明月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低头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思故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乡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360" y="47628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静</a:t>
            </a:r>
            <a:r>
              <a:rPr b="1" lang="zh-TW" sz="7200" spc="-1" strike="noStrike">
                <a:solidFill>
                  <a:srgbClr val="ffff00"/>
                </a:solidFill>
                <a:latin typeface="华文楷体"/>
                <a:ea typeface="华文楷体"/>
              </a:rPr>
              <a:t>夜思</a:t>
            </a:r>
            <a:r>
              <a:rPr b="1" lang="zh-TW" sz="5400" spc="-1" strike="noStrike">
                <a:solidFill>
                  <a:srgbClr val="ffff00"/>
                </a:solidFill>
                <a:latin typeface="华文楷体"/>
                <a:ea typeface="华文楷体"/>
              </a:rPr>
              <a:t>  李白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0" name="Picture 9" descr=" 閃亮星"/>
          <p:cNvPicPr/>
          <p:nvPr/>
        </p:nvPicPr>
        <p:blipFill>
          <a:blip r:embed="rId2"/>
          <a:stretch/>
        </p:blipFill>
        <p:spPr>
          <a:xfrm>
            <a:off x="7315200" y="502920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 閃亮星"/>
          <p:cNvPicPr/>
          <p:nvPr/>
        </p:nvPicPr>
        <p:blipFill>
          <a:blip r:embed="rId3"/>
          <a:stretch/>
        </p:blipFill>
        <p:spPr>
          <a:xfrm>
            <a:off x="1143000" y="236232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 閃亮星"/>
          <p:cNvPicPr/>
          <p:nvPr/>
        </p:nvPicPr>
        <p:blipFill>
          <a:blip r:embed="rId4"/>
          <a:stretch/>
        </p:blipFill>
        <p:spPr>
          <a:xfrm>
            <a:off x="7696080" y="20574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 閃亮星"/>
          <p:cNvPicPr/>
          <p:nvPr/>
        </p:nvPicPr>
        <p:blipFill>
          <a:blip r:embed="rId5"/>
          <a:stretch/>
        </p:blipFill>
        <p:spPr>
          <a:xfrm>
            <a:off x="1523880" y="39625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 閃亮星"/>
          <p:cNvPicPr/>
          <p:nvPr/>
        </p:nvPicPr>
        <p:blipFill>
          <a:blip r:embed="rId6"/>
          <a:stretch/>
        </p:blipFill>
        <p:spPr>
          <a:xfrm>
            <a:off x="8047080" y="358128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 閃亮星"/>
          <p:cNvPicPr/>
          <p:nvPr/>
        </p:nvPicPr>
        <p:blipFill>
          <a:blip r:embed="rId7"/>
          <a:stretch/>
        </p:blipFill>
        <p:spPr>
          <a:xfrm>
            <a:off x="1295280" y="548640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6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9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>
            <a:off x="2556000" y="549360"/>
            <a:ext cx="6048360" cy="4032000"/>
          </a:xfrm>
          <a:prstGeom prst="cloudCallout">
            <a:avLst>
              <a:gd name="adj1" fmla="val -37504"/>
              <a:gd name="adj2" fmla="val 625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看你懂得多少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</a:t>
            </a:r>
            <a:r>
              <a:rPr b="1" lang="zh-TW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字和新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词</a:t>
            </a:r>
            <a:r>
              <a:rPr b="1" lang="zh-TW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吧</a:t>
            </a: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和尚念經"/>
          <p:cNvPicPr/>
          <p:nvPr/>
        </p:nvPicPr>
        <p:blipFill>
          <a:blip r:embed="rId2"/>
          <a:stretch/>
        </p:blipFill>
        <p:spPr>
          <a:xfrm>
            <a:off x="826920" y="4581360"/>
            <a:ext cx="2087640" cy="182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20000" y="6381720"/>
            <a:ext cx="20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1628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00"/>
                </a:solidFill>
                <a:latin typeface="DFKai-SB"/>
                <a:ea typeface="DFKai-SB"/>
              </a:rPr>
              <a:t>疑</a:t>
            </a:r>
            <a:endParaRPr b="0" lang="en-US" sz="7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6786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有不相信、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觉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得有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问题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的意思。例如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怀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在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这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首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诗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是「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以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DFKai-SB"/>
              </a:rPr>
              <a:t>为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」的意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7" descr="AN02323_[1]"/>
          <p:cNvPicPr/>
          <p:nvPr/>
        </p:nvPicPr>
        <p:blipFill>
          <a:blip r:embed="rId1"/>
          <a:stretch/>
        </p:blipFill>
        <p:spPr>
          <a:xfrm>
            <a:off x="6622920" y="4437000"/>
            <a:ext cx="1892520" cy="2143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 rot="20359800">
            <a:off x="6659640" y="429264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cc"/>
                </a:solidFill>
                <a:latin typeface="Times New Roman"/>
              </a:rPr>
              <a:t>?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12193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猜猜这</a:t>
            </a: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宋体"/>
              </a:rPr>
              <a:t>是什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宋体"/>
              </a:rPr>
              <a:t>么</a:t>
            </a:r>
            <a:r>
              <a:rPr b="1" lang="zh-TW" sz="5400" spc="-1" strike="noStrike">
                <a:solidFill>
                  <a:srgbClr val="ffff00"/>
                </a:solidFill>
                <a:latin typeface="Arial"/>
                <a:ea typeface="宋体"/>
              </a:rPr>
              <a:t>字？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4" name="Picture 5" descr="j0173982"/>
          <p:cNvPicPr/>
          <p:nvPr/>
        </p:nvPicPr>
        <p:blipFill>
          <a:blip r:embed="rId1"/>
          <a:stretch/>
        </p:blipFill>
        <p:spPr>
          <a:xfrm>
            <a:off x="2895480" y="457200"/>
            <a:ext cx="5181840" cy="384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G00630_"/>
          <p:cNvPicPr/>
          <p:nvPr/>
        </p:nvPicPr>
        <p:blipFill>
          <a:blip r:embed="rId2"/>
          <a:stretch/>
        </p:blipFill>
        <p:spPr>
          <a:xfrm>
            <a:off x="1447920" y="2819520"/>
            <a:ext cx="3809880" cy="33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j0281284"/>
          <p:cNvPicPr/>
          <p:nvPr/>
        </p:nvPicPr>
        <p:blipFill>
          <a:blip r:embed="rId3"/>
          <a:stretch/>
        </p:blipFill>
        <p:spPr>
          <a:xfrm>
            <a:off x="5257800" y="3657600"/>
            <a:ext cx="342900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170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ff00"/>
                </a:solidFill>
                <a:latin typeface="DFKai-SB"/>
                <a:ea typeface="DFKai-SB"/>
              </a:rPr>
              <a:t>霜</a:t>
            </a:r>
            <a:endParaRPr b="0" lang="en-US" sz="7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43436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接近地面的水蒸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气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或露水，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遇冷结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成白色的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细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粒叫「霜」。大都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发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生在秋天的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里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DFKai-SB"/>
              </a:rPr>
              <a:t>或清晨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HH00917_[1]"/>
          <p:cNvPicPr/>
          <p:nvPr/>
        </p:nvPicPr>
        <p:blipFill>
          <a:blip r:embed="rId1"/>
          <a:stretch/>
        </p:blipFill>
        <p:spPr>
          <a:xfrm>
            <a:off x="6443640" y="5157720"/>
            <a:ext cx="1451160" cy="12906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7812000" y="4941720"/>
            <a:ext cx="719280" cy="503280"/>
          </a:xfrm>
          <a:prstGeom prst="cloudCallout">
            <a:avLst>
              <a:gd name="adj1" fmla="val -34328"/>
              <a:gd name="adj2" fmla="val 52837"/>
            </a:avLst>
          </a:prstGeom>
          <a:solidFill>
            <a:srgbClr val="ffff99">
              <a:alpha val="87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4:29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2:32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