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2D3-E9A8-4E31-8D5C-66D57F91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58C-5B47-4EFC-AC4E-E6595E7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ACD-EE1D-4F46-9F86-C85C95C8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77F-6806-4275-8731-89714D4A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175-F767-498D-8EA6-37AC2565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9AD-8D20-41E4-8327-80D9485F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3D0-010A-4B7C-80B1-49ED018E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0F1-D11C-415C-B8C2-657143AF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A68-6DB1-40DA-A6D0-883E748A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3AD-2C7C-4550-BA16-6311233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051-763F-4709-9AFA-C250670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E43-020C-45DC-8804-77AF7E0B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739-477C-4FB1-83E7-D91DC17BD9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eople.com.cn/GB/14857/22238/28834/2883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1476360" y="1378080"/>
            <a:ext cx="61912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437080" y="234936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山海经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80640" y="1052640"/>
            <a:ext cx="349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夸父逐日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26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27"/>
          <p:cNvSpPr/>
          <p:nvPr/>
        </p:nvSpPr>
        <p:spPr>
          <a:xfrm>
            <a:off x="609480" y="228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补充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8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大荒之中，有山名曰成都，载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有人，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两黄蛇，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两黄蛇，名曰夸父。后土生信，信生夸父。夸父不量力，欲追日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之于禺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饮河而不足也，将走大泽，未至，死于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4191120" y="4267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山海经•大荒北经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0"/>
          <p:cNvSpPr/>
          <p:nvPr/>
        </p:nvSpPr>
        <p:spPr>
          <a:xfrm>
            <a:off x="0" y="4940280"/>
            <a:ext cx="914400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载天：即“戴天”，山顶连接着天，形容极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珥：戴在耳朵上的饰物。这里作动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把：手里攒着。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日景：日影，即日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逮：追上。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禺谷：又叫“虞渊”，是神话中太阳所入之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将：乃，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2F1-640C-46A6-B99F-AAD3E029E9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905120" y="22860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四、小结全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609480" y="1143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则奇妙的深化表现了夸父无比的英雄气概，反映了古代人民探索、征服大自然的强烈愿望和顽强意志。结尾化手杖为桃林，丰富了神话的内涵，丰满了夸父的形象，使整个神话更具有浪漫主义的魅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1498680" y="105264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828800" y="25909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81080" y="2590920"/>
            <a:ext cx="518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Times New Roman"/>
                <a:ea typeface="隶书"/>
              </a:rPr>
              <a:t>一、文学常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1600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神话是人类面对无力征服的大自然而产生的幻想，企图以此呼唤回天之力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神话中的人物具有超凡的能力和力量，东方有孙悟空，西方则有超人——美国电影《超人》中的超人。通常借用瑰丽的想象和神奇的夸张，具有非凡的浪漫主义魅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52280" y="4572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33520" y="4572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（一）神话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6094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（二）《山海经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24000" y="2895480"/>
            <a:ext cx="849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《山海经》是一部内容丰富、风貌独特的古代著作，包含历史地理、民族、神话、 宗教、生物、水利、矿产、医学等诸方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书中保存了许多神话传说。它是一部早期的百科全书。《影响中国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本书》（张秀平 王晓明）中就收录了《山海经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295280" y="25146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疏通文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09480" y="1066680"/>
            <a:ext cx="81536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夸父与日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逐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入日；渴，欲得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河、渭；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渭不足，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饮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泽。未至，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渴而死。弃其杖，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邓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971800" y="17524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竟跑，赛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172200" y="1981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动词作名词，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219320" y="3733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733920" y="3733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黄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867280" y="3733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状语，往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124080" y="55627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状语，在半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04920" y="228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80880" y="13716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夸父与太阳竞跑，一直追赶到太阳落下的地方；他感到口渴，想要喝水，就到黄河、渭水喝水。黄河、渭水的水不够，又去北方的大湖喝水。还没赶到大湖，就半路渴死了。他遗弃的手杖，化成桃林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4572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译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3222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981080" y="2209680"/>
            <a:ext cx="541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三、探究文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F2003071818364100000">
            <a:hlinkClick r:id="rId1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80880" y="11430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说你对夸父这一神话人物的认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33520" y="220968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提示：在夸父前面的加上修饰语，并说明理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具有无比的英雄的气概，勇敢追求、死而不已、甘为人类造福的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16:17Z</dcterms:created>
  <dc:creator>An</dc:creator>
  <dc:description/>
  <dc:language>en-US</dc:language>
  <cp:lastModifiedBy/>
  <dcterms:modified xsi:type="dcterms:W3CDTF">2015-07-14T14:13:01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