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99B1-B1AD-4DF3-B715-C44B46D7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4820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AB15-D958-4A1C-A59E-A7602E39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4820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9120" y="11426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9120" y="38890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2C7-3FB2-40A7-AA10-2A8528EC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4820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1120" y="11426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65040" y="11426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1120" y="38890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65040" y="38890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30A2-365D-4067-8426-E7266916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4820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8E74-D4E6-46A6-B331-65C6FC49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4820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9C2-5DBA-45F9-9125-10262767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4820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9120" y="11426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E5D-953E-4081-A79F-6EAB808B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4820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FC2-F1E8-4D78-8B15-40A8E472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94FA-0C21-43A0-A0F3-35140096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4820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9120" y="11426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29D-4771-4097-AFE1-9B1CA369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4820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9120" y="11426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9120" y="38890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08D-CDB8-4A16-8BA9-3EC53464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4820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9120" y="11426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A9F-1AC8-47A4-AB1B-49F3C1AA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 Black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300000"/>
              <a:buFont typeface="Arial Black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300000"/>
              <a:buFont typeface="Arial Black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300000"/>
              <a:buFont typeface="Arial Black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300000"/>
              <a:buFont typeface="Arial Black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68952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68952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05C3-F582-4DC2-8323-894D0B555777}" type="slidenum">
              <a:rPr b="0" lang="zh-CN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tretch/>
        </p:blipFill>
        <p:spPr>
          <a:xfrm>
            <a:off x="6877080" y="49528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4280" y="61419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0240" y="828720"/>
            <a:ext cx="6138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科幻动态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ffffff"/>
              </a:buClr>
              <a:buSzPct val="300000"/>
              <a:buFont typeface="Arial Black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Your subtopic goes he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600120" y="369108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 Black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 Black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144-F8B0-49BD-9B86-C7F7BB72F383}" type="slidenum">
              <a:t>3</a:t>
            </a:fld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1454760"/>
            <a:ext cx="914400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905200" y="2643120"/>
            <a:ext cx="3333600" cy="1571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SzPct val="300000"/>
              <a:buFont typeface="Arial Black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宋体"/>
              </a:rPr>
              <a:t>Your subtopic goes he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08:1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9:42:0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