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shangwu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3995640" y="5357880"/>
            <a:ext cx="55008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矩形 4"/>
          <p:cNvSpPr/>
          <p:nvPr/>
        </p:nvSpPr>
        <p:spPr>
          <a:xfrm>
            <a:off x="8439120" y="479736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0253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10253f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10253f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10253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10253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10253f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0253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10253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10253f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10253f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10253f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0253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10253f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10253f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10253f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10253f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0253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10253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10253f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10253f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10253f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10253f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0253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10253f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10253f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10253f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10253f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0253f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10253f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10253f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0253f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10253f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10253f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10253f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0253f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10253f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0253f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657160" y="407844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科技商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占位符 12" descr=""/>
          <p:cNvPicPr/>
          <p:nvPr/>
        </p:nvPicPr>
        <p:blipFill>
          <a:blip r:embed="rId2"/>
          <a:srcRect l="9638" t="0" r="9638" b="0"/>
          <a:stretch/>
        </p:blipFill>
        <p:spPr>
          <a:xfrm>
            <a:off x="642960" y="714240"/>
            <a:ext cx="4643280" cy="4572000"/>
          </a:xfrm>
          <a:prstGeom prst="rect">
            <a:avLst/>
          </a:prstGeom>
          <a:ln cap="sq" w="38160">
            <a:solidFill>
              <a:srgbClr val="17365d"/>
            </a:solidFill>
            <a:miter/>
          </a:ln>
        </p:spPr>
      </p:pic>
      <p:sp>
        <p:nvSpPr>
          <p:cNvPr id="43" name=""/>
          <p:cNvSpPr txBox="1"/>
          <p:nvPr/>
        </p:nvSpPr>
        <p:spPr>
          <a:xfrm>
            <a:off x="5643360" y="713880"/>
            <a:ext cx="2786040" cy="30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0c0c"/>
                </a:solidFill>
                <a:latin typeface="Calibri"/>
              </a:rPr>
              <a:t>Commercial affai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rst is in the knowledgeconomy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ime, in has satisfied in the materia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mand situation, the people star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o pursue own individualit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ment and the emotio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mand gradually, the desig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ust have emphatically to carr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n the consideration to human'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motion deman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71680" y="5571720"/>
            <a:ext cx="46432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243e"/>
                </a:solidFill>
                <a:latin typeface="Calibri"/>
              </a:rPr>
              <a:t>Commercial affai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9360" y="1584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占位符 6" descr=""/>
          <p:cNvPicPr/>
          <p:nvPr/>
        </p:nvPicPr>
        <p:blipFill>
          <a:blip r:embed="rId2"/>
          <a:srcRect l="1225" t="0" r="1225" b="0"/>
          <a:stretch/>
        </p:blipFill>
        <p:spPr>
          <a:xfrm>
            <a:off x="4929120" y="642960"/>
            <a:ext cx="3643560" cy="2428920"/>
          </a:xfrm>
          <a:prstGeom prst="rect">
            <a:avLst/>
          </a:prstGeom>
          <a:ln cap="sq" w="38160">
            <a:solidFill>
              <a:srgbClr val="17365d"/>
            </a:solidFill>
            <a:miter/>
          </a:ln>
        </p:spPr>
      </p:pic>
      <p:sp>
        <p:nvSpPr>
          <p:cNvPr id="47" name=""/>
          <p:cNvSpPr txBox="1"/>
          <p:nvPr/>
        </p:nvSpPr>
        <p:spPr>
          <a:xfrm>
            <a:off x="4928760" y="3143160"/>
            <a:ext cx="37148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rst is in the knowledge economy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ime, in ha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tisfied in the material demand situ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42960" y="5571720"/>
            <a:ext cx="46432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243e"/>
                </a:solidFill>
                <a:latin typeface="Calibri"/>
              </a:rPr>
              <a:t>Commercial affai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714240" y="928800"/>
            <a:ext cx="3786480" cy="4286160"/>
            <a:chOff x="714240" y="928800"/>
            <a:chExt cx="3786480" cy="4286160"/>
          </a:xfrm>
        </p:grpSpPr>
        <p:sp>
          <p:nvSpPr>
            <p:cNvPr id="54" name="Rectangle 3"/>
            <p:cNvSpPr/>
            <p:nvPr/>
          </p:nvSpPr>
          <p:spPr>
            <a:xfrm>
              <a:off x="714240" y="1412640"/>
              <a:ext cx="3786480" cy="82656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25560">
              <a:solidFill>
                <a:srgbClr val="c050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4"/>
            <p:cNvSpPr/>
            <p:nvPr/>
          </p:nvSpPr>
          <p:spPr>
            <a:xfrm>
              <a:off x="903240" y="928800"/>
              <a:ext cx="2650680" cy="968040"/>
            </a:xfrm>
            <a:prstGeom prst="roundRect">
              <a:avLst>
                <a:gd name="adj" fmla="val 16667"/>
              </a:avLst>
            </a:prstGeom>
            <a:solidFill>
              <a:srgbClr val="c0504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5"/>
            <p:cNvSpPr/>
            <p:nvPr/>
          </p:nvSpPr>
          <p:spPr>
            <a:xfrm>
              <a:off x="903240" y="928800"/>
              <a:ext cx="26506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6"/>
            <p:cNvSpPr/>
            <p:nvPr/>
          </p:nvSpPr>
          <p:spPr>
            <a:xfrm>
              <a:off x="714240" y="2900520"/>
              <a:ext cx="3786480" cy="82656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25560">
              <a:solidFill>
                <a:srgbClr val="bd99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7"/>
            <p:cNvSpPr/>
            <p:nvPr/>
          </p:nvSpPr>
          <p:spPr>
            <a:xfrm>
              <a:off x="903240" y="2416680"/>
              <a:ext cx="2650680" cy="968040"/>
            </a:xfrm>
            <a:prstGeom prst="roundRect">
              <a:avLst>
                <a:gd name="adj" fmla="val 16667"/>
              </a:avLst>
            </a:prstGeom>
            <a:solidFill>
              <a:srgbClr val="bd994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903240" y="2416680"/>
              <a:ext cx="26506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714240" y="4388400"/>
              <a:ext cx="3786480" cy="82656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25560">
              <a:solidFill>
                <a:srgbClr val="99ba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10"/>
            <p:cNvSpPr/>
            <p:nvPr/>
          </p:nvSpPr>
          <p:spPr>
            <a:xfrm>
              <a:off x="903240" y="3904560"/>
              <a:ext cx="2650680" cy="968040"/>
            </a:xfrm>
            <a:prstGeom prst="roundRect">
              <a:avLst>
                <a:gd name="adj" fmla="val 16667"/>
              </a:avLst>
            </a:prstGeom>
            <a:solidFill>
              <a:srgbClr val="99ba5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903240" y="3904560"/>
              <a:ext cx="26506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 txBox="1"/>
          <p:nvPr/>
        </p:nvSpPr>
        <p:spPr>
          <a:xfrm>
            <a:off x="4642920" y="928440"/>
            <a:ext cx="371484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0c0c"/>
                </a:solidFill>
                <a:latin typeface="Calibri"/>
              </a:rPr>
              <a:t>Commercial affai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rst is in the knowledge economy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ime, i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s satisfied in the material deman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tuation, the people start to pursue ow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dividuality development and the emotio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mand gradually, the design must hav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mphatically to carry on the consideratio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o human's emotion deman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42960" y="5571720"/>
            <a:ext cx="46432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243e"/>
                </a:solidFill>
                <a:latin typeface="Calibri"/>
              </a:rPr>
              <a:t>Commercial affai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177840" y="6383160"/>
            <a:ext cx="6251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商务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5143680" y="5429160"/>
            <a:ext cx="371448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ank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01:1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8:45:40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