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gif" ContentType="image/gif"/>
  <Override PartName="/ppt/media/image9.jpeg" ContentType="image/jpeg"/>
  <Override PartName="/ppt/media/image12.gif" ContentType="image/gif"/>
  <Override PartName="/ppt/media/image18.jpeg" ContentType="image/jpeg"/>
  <Override PartName="/ppt/media/image3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C26-57C0-48BD-89C7-A19594C6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201-3959-4895-A443-740B6BF1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6F5-9567-482C-9C20-983634E4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F5A-B463-4573-B45D-1203A0CB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C01E-9EBA-4F12-ABE5-C0833DB8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BAB8-3BDF-4163-A6C8-888A05DB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BA9-5068-4ACE-BF56-9C712517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E2C-9DBE-4E72-8825-0376016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5BEC-019B-49AE-B1C1-DA76B6AB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59FC-B7FF-4ADB-831D-958F975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077-6E84-4EB3-AE27-63F0EB7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8D1-DA78-437B-8262-B84366D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5AC-030E-4ADC-BDFB-A417E94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38FF-63F9-42CB-A9A6-EB7EF4C7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CBED-D9CC-4F41-9364-952FEC3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803F-57ED-490C-898A-8A964989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393-0C8B-4357-AD69-D137372B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50170-4114-4724-96A4-FCEEEAD2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32B4E-37FA-437E-B765-E99BC72B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7EEC1-E906-49A1-9D94-3C7413F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ABA66-2F46-4A79-BE33-1C188A4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038E2-770B-4048-9F7B-143EF33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446-BC75-45A0-B885-7DB4174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8DC17-7DAF-4345-A0BB-64CC4F2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2542F-1496-4D01-ABF4-939987A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99C98-23FC-4CD9-9FC5-2BE5200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974AF-D0C1-4B02-861E-3A1617C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D9371-E160-400A-A1FC-03F7BF99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AF25C-43F9-426F-BE85-22D7DECC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6EEBB-81E0-49DD-AC0F-8CEA8222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A38-A686-4D3F-B884-1BD1E89B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6BB-6276-462E-AF0A-DE105299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99F-7AB6-4E86-ABEE-810954B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BEE-DFE4-4A0E-9A05-E1EA5D1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A88-F7B3-49F2-BD3D-7E4DC2C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963-EDFD-4B8B-8DC9-E05AFBD6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7C2-6771-4ADF-A00C-27E13C8B0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922D-4AF4-4A44-93CC-8AF26BD0E9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8F9F-0EA9-4A7D-8287-EEE3687A8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7,10,&#24187;&#28783;&#29255; 1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atu"/>
          <p:cNvPicPr/>
          <p:nvPr/>
        </p:nvPicPr>
        <p:blipFill>
          <a:blip r:embed="rId1"/>
          <a:stretch/>
        </p:blipFill>
        <p:spPr>
          <a:xfrm>
            <a:off x="762120" y="11588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295280" y="152280"/>
            <a:ext cx="6782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236232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科利亚的木匣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80880" y="914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一部分：（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埋木匣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8088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二部分：（ 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挖木匣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335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三部分：（ 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得到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80988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038480" y="24382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4—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038480" y="39625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523880" y="54864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57200" y="4952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围绕这三个小标题，简单谈谈这篇文章主要讲了件什么事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2585520" y="1398600"/>
            <a:ext cx="4385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轻声朗读课文第一段（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思考问题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19040" y="3095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埋木匣和木箱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302920" y="388620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利亚的木匣里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样埋木匣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木匣里盛着各种各样好玩的东西，有冰鞋、小斧头、小手锯和其他小玩意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724280" y="380880"/>
            <a:ext cx="24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各种各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129528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科利亚从家门口向前走，数了十步，就用铲子挖起坑来。坑挖好了，他把一个木匣放进坑里。他放好了木匣，盖上土，用脚踩实，还在上面撒了一层细沙，免得被人发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37916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03676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8174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25608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2597400" y="190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13784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62550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43584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0" y="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和妈妈是怎样埋东西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195640" y="1413000"/>
            <a:ext cx="4392360" cy="301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科利亚从家门口向前走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十步，就用铲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起坑来。坑（       ）好了，他把一个木匣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进坑里。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好了木匣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上土，用脚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实，还在上面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一层细沙，免得被人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133720" y="1981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635280" y="19130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340000" y="393372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363528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5364000" y="378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995640" y="4289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3606840" y="234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276720" y="486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4"/>
          <p:cNvSpPr txBox="1"/>
          <p:nvPr/>
        </p:nvSpPr>
        <p:spPr>
          <a:xfrm>
            <a:off x="3419640" y="47628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会填吗？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271116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>
            <a:off x="6443640" y="476280"/>
            <a:ext cx="2700360" cy="2016000"/>
          </a:xfrm>
          <a:prstGeom prst="cloudCallout">
            <a:avLst>
              <a:gd name="adj1" fmla="val -45472"/>
              <a:gd name="adj2" fmla="val 44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这些动作词，你觉得科利亚是个怎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4419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0" y="3048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0" y="5867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0" y="1676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思考，科利亚终于挖到了木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83808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读第二部分，重新排列顺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0" y="533520"/>
            <a:ext cx="762120" cy="6858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838080" y="1295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4800600"/>
            <a:ext cx="8915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科利亚终于挖到了木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0" y="342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761280" y="53352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小组合作学习、讨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2307960" y="1828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从埋东西到挖东西经过了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line151"/>
          <p:cNvPicPr/>
          <p:nvPr/>
        </p:nvPicPr>
        <p:blipFill>
          <a:blip r:embed="rId1"/>
          <a:stretch/>
        </p:blipFill>
        <p:spPr>
          <a:xfrm>
            <a:off x="1371600" y="1371600"/>
            <a:ext cx="4971960" cy="171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198320" y="2895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找出妈妈挖箱子和科利亚挖木匣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671920" y="39625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科利亚为什么开始时找不到木匣子，后来找到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从家门口朝前走了三十步，挖出了她埋的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高兴地说：“算术真有用。如果当初我随便挖个坑把箱子埋了，现在就不好找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038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33520" y="228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7864"/>
                </a:solidFill>
                <a:latin typeface="华文新魏"/>
                <a:ea typeface="华文新魏"/>
              </a:rPr>
              <a:t>科利亚开始是怎样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09480" y="18288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也拿来铲子，从家门口向前走了十步，动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起来。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呀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呀，坑已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得很深了，还没找到匣子。他又朝左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朝右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仍然没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243828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1c06"/>
                </a:solidFill>
                <a:latin typeface="Tahoma"/>
                <a:ea typeface="幼圆"/>
              </a:rPr>
              <a:t>     </a:t>
            </a:r>
            <a:r>
              <a:rPr b="1" lang="zh-CN" sz="4400" spc="-1" strike="noStrike">
                <a:solidFill>
                  <a:srgbClr val="ee1c06"/>
                </a:solidFill>
                <a:latin typeface="Tahoma"/>
                <a:ea typeface="幼圆"/>
              </a:rPr>
              <a:t>现在的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幼圆"/>
              </a:rPr>
              <a:t>和</a:t>
            </a:r>
            <a:r>
              <a:rPr b="1" lang="zh-CN" sz="4400" spc="-1" strike="noStrike">
                <a:solidFill>
                  <a:srgbClr val="ee1c06"/>
                </a:solidFill>
                <a:latin typeface="Tahoma"/>
                <a:ea typeface="幼圆"/>
              </a:rPr>
              <a:t>小时候的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幼圆"/>
              </a:rPr>
              <a:t>相比有什么变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3429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说说看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1066680" y="380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也拿来铲子，从家门口向前走了十步，动手挖起来。他挖呀，挖呀，坑已经挖得很深了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还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找到匣子。他又朝左边挖，朝右边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仍然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2743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仍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"/>
          <p:cNvSpPr/>
          <p:nvPr/>
        </p:nvSpPr>
        <p:spPr>
          <a:xfrm>
            <a:off x="2895480" y="3352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562720" y="2666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依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200400" y="2590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 flipH="1">
            <a:off x="1828080" y="123984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利亚丢下铲子，坐在台阶上，用手摸着脑门儿想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3360" y="2205000"/>
            <a:ext cx="8540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当时在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找不到木匣的可能性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木匣可能被法西斯挖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数步法可能不管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挖的方法可能不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己的步子可能有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-1395360"/>
            <a:ext cx="854064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line151"/>
          <p:cNvPicPr/>
          <p:nvPr/>
        </p:nvPicPr>
        <p:blipFill>
          <a:blip r:embed="rId1"/>
          <a:stretch/>
        </p:blipFill>
        <p:spPr>
          <a:xfrm>
            <a:off x="2627280" y="-1324080"/>
            <a:ext cx="496908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一种可能性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木匣可能被法西斯挖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伴们说：“也许，法西斯把你的宝贝挖走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说：“不会的，敌人连我们家的大箱子都没挖走，还能找到我的小木匣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，想一想，从他们的对话中可以找到什么依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line151"/>
          <p:cNvPicPr/>
          <p:nvPr/>
        </p:nvPicPr>
        <p:blipFill>
          <a:blip r:embed="rId1"/>
          <a:stretch/>
        </p:blipFill>
        <p:spPr>
          <a:xfrm>
            <a:off x="1835280" y="1628640"/>
            <a:ext cx="4971960" cy="171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line151"/>
          <p:cNvPicPr/>
          <p:nvPr/>
        </p:nvPicPr>
        <p:blipFill>
          <a:blip r:embed="rId2"/>
          <a:stretch/>
        </p:blipFill>
        <p:spPr>
          <a:xfrm>
            <a:off x="2050920" y="1844640"/>
            <a:ext cx="49723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步法可能不管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找出描写妈妈埋箱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挖箱子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妈妈把有些东西放进箱子里，从家门口向前走了三十步，把箱子埋在地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妈妈从家门口朝前走了三十步，挖出了她埋的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读读这两句，想一想妈妈用的是什么方法埋箱子、挖箱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line151"/>
          <p:cNvPicPr/>
          <p:nvPr/>
        </p:nvPicPr>
        <p:blipFill>
          <a:blip r:embed="rId1"/>
          <a:stretch/>
        </p:blipFill>
        <p:spPr>
          <a:xfrm>
            <a:off x="2195640" y="1413000"/>
            <a:ext cx="4971960" cy="1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挖的方法可能不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540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家的房子还在，屋里的东西却被法西斯抢走了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房子还在”告诉我们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利亚不可能把方向搞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r05"/>
          <p:cNvPicPr/>
          <p:nvPr/>
        </p:nvPicPr>
        <p:blipFill>
          <a:blip r:embed="rId1"/>
          <a:stretch/>
        </p:blipFill>
        <p:spPr>
          <a:xfrm>
            <a:off x="5651640" y="3733920"/>
            <a:ext cx="186984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line151"/>
          <p:cNvPicPr/>
          <p:nvPr/>
        </p:nvPicPr>
        <p:blipFill>
          <a:blip r:embed="rId2"/>
          <a:stretch/>
        </p:blipFill>
        <p:spPr>
          <a:xfrm>
            <a:off x="2050920" y="1557360"/>
            <a:ext cx="4972320" cy="171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四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的步子可能有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就在那一天，妈妈、奶奶带着科利亚到喀山去了，在那儿住了差不多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个年头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年头，科利亚会发生什么变化呢？（同桌互相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line151"/>
          <p:cNvPicPr/>
          <p:nvPr/>
        </p:nvPicPr>
        <p:blipFill>
          <a:blip r:embed="rId1"/>
          <a:stretch/>
        </p:blipFill>
        <p:spPr>
          <a:xfrm>
            <a:off x="2124000" y="1844640"/>
            <a:ext cx="49719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我知道是怎么回事啦！木匣是我四年前埋的，那时候我还小，步子也小。我现在九岁啦，步子比那时候大了一倍，所以应该走的不是十步，而是五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04920" y="30448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段话讲科利亚经过自己的思考，终于找出了问题的症结。从中又可以看出科利亚非常善于动脑筋，善于独立思考，善于分析问题和解决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914400" y="22860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利亚量了五步，又动手挖起来，不多一会儿，他果然找到了木匣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215320" y="28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7951"/>
                </a:solidFill>
                <a:latin typeface="Arial"/>
                <a:ea typeface="楷体_GB2312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6"/>
          <p:cNvSpPr/>
          <p:nvPr/>
        </p:nvSpPr>
        <p:spPr>
          <a:xfrm flipH="1">
            <a:off x="1828080" y="-188424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143000" y="2362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74320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867280" y="2590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124080" y="22860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1523880"/>
            <a:ext cx="9524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xi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á</a:t>
            </a: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   j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ù</a:t>
            </a: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jiē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木匣   手锯  台阶  测量  数数  难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挖坑   冰鞋  斧头  免得    房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抢走   当初  管事    敌人  懂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喀山   仍然   玩意   随便   算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457200" y="4572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059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16765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请画出科利亚第一次和第二次挖木匣时怎样量步子</a:t>
            </a:r>
            <a:r>
              <a:rPr b="1" lang="en-US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怎样挖到木匣的示意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2273400" y="176688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埋木匣   只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步子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273400" y="327672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挖木匣  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以后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步子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1620720" y="2590920"/>
            <a:ext cx="3256920" cy="457200"/>
            <a:chOff x="1620720" y="2590920"/>
            <a:chExt cx="3256920" cy="457200"/>
          </a:xfrm>
        </p:grpSpPr>
        <p:sp>
          <p:nvSpPr>
            <p:cNvPr id="350" name="Line 6"/>
            <p:cNvSpPr/>
            <p:nvPr/>
          </p:nvSpPr>
          <p:spPr>
            <a:xfrm>
              <a:off x="1620720" y="304812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7"/>
            <p:cNvSpPr/>
            <p:nvPr/>
          </p:nvSpPr>
          <p:spPr>
            <a:xfrm flipV="1">
              <a:off x="16207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8"/>
            <p:cNvSpPr/>
            <p:nvPr/>
          </p:nvSpPr>
          <p:spPr>
            <a:xfrm flipV="1">
              <a:off x="19256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"/>
            <p:cNvSpPr/>
            <p:nvPr/>
          </p:nvSpPr>
          <p:spPr>
            <a:xfrm flipV="1">
              <a:off x="22302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 flipV="1">
              <a:off x="25351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 flipV="1">
              <a:off x="28400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 flipV="1">
              <a:off x="34495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V="1">
              <a:off x="37544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40590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 flipV="1">
              <a:off x="43639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 flipV="1">
              <a:off x="46688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7"/>
            <p:cNvSpPr/>
            <p:nvPr/>
          </p:nvSpPr>
          <p:spPr>
            <a:xfrm flipV="1">
              <a:off x="31446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8061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211068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24156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1"/>
            <p:cNvSpPr/>
            <p:nvPr/>
          </p:nvSpPr>
          <p:spPr>
            <a:xfrm>
              <a:off x="27205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302508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33300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36349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39078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42444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4516920" y="2590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8"/>
          <p:cNvGrpSpPr/>
          <p:nvPr/>
        </p:nvGrpSpPr>
        <p:grpSpPr>
          <a:xfrm>
            <a:off x="1676520" y="3886200"/>
            <a:ext cx="6304680" cy="900000"/>
            <a:chOff x="1676520" y="3886200"/>
            <a:chExt cx="6304680" cy="900000"/>
          </a:xfrm>
        </p:grpSpPr>
        <p:sp>
          <p:nvSpPr>
            <p:cNvPr id="373" name="Rectangle 29"/>
            <p:cNvSpPr/>
            <p:nvPr/>
          </p:nvSpPr>
          <p:spPr>
            <a:xfrm>
              <a:off x="1744920" y="3886200"/>
              <a:ext cx="8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第一次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676520" y="478620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 flipV="1">
              <a:off x="16765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2"/>
            <p:cNvSpPr/>
            <p:nvPr/>
          </p:nvSpPr>
          <p:spPr>
            <a:xfrm flipV="1">
              <a:off x="22860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V="1">
              <a:off x="28958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4"/>
            <p:cNvSpPr/>
            <p:nvPr/>
          </p:nvSpPr>
          <p:spPr>
            <a:xfrm flipV="1">
              <a:off x="35053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5"/>
            <p:cNvSpPr/>
            <p:nvPr/>
          </p:nvSpPr>
          <p:spPr>
            <a:xfrm flipV="1">
              <a:off x="41594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6"/>
            <p:cNvSpPr/>
            <p:nvPr/>
          </p:nvSpPr>
          <p:spPr>
            <a:xfrm flipV="1">
              <a:off x="5378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7"/>
            <p:cNvSpPr/>
            <p:nvPr/>
          </p:nvSpPr>
          <p:spPr>
            <a:xfrm flipV="1">
              <a:off x="59882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8"/>
            <p:cNvSpPr/>
            <p:nvPr/>
          </p:nvSpPr>
          <p:spPr>
            <a:xfrm flipV="1">
              <a:off x="6629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9"/>
            <p:cNvSpPr/>
            <p:nvPr/>
          </p:nvSpPr>
          <p:spPr>
            <a:xfrm flipV="1">
              <a:off x="72072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0"/>
            <p:cNvSpPr/>
            <p:nvPr/>
          </p:nvSpPr>
          <p:spPr>
            <a:xfrm flipV="1">
              <a:off x="7772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1"/>
            <p:cNvSpPr/>
            <p:nvPr/>
          </p:nvSpPr>
          <p:spPr>
            <a:xfrm flipV="1">
              <a:off x="47689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2"/>
            <p:cNvSpPr/>
            <p:nvPr/>
          </p:nvSpPr>
          <p:spPr>
            <a:xfrm>
              <a:off x="21664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3"/>
            <p:cNvSpPr/>
            <p:nvPr/>
          </p:nvSpPr>
          <p:spPr>
            <a:xfrm>
              <a:off x="27763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4"/>
            <p:cNvSpPr/>
            <p:nvPr/>
          </p:nvSpPr>
          <p:spPr>
            <a:xfrm>
              <a:off x="33858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40399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6"/>
            <p:cNvSpPr/>
            <p:nvPr/>
          </p:nvSpPr>
          <p:spPr>
            <a:xfrm>
              <a:off x="46494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7"/>
            <p:cNvSpPr/>
            <p:nvPr/>
          </p:nvSpPr>
          <p:spPr>
            <a:xfrm>
              <a:off x="52588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8"/>
            <p:cNvSpPr/>
            <p:nvPr/>
          </p:nvSpPr>
          <p:spPr>
            <a:xfrm>
              <a:off x="58687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9"/>
            <p:cNvSpPr/>
            <p:nvPr/>
          </p:nvSpPr>
          <p:spPr>
            <a:xfrm>
              <a:off x="64782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50"/>
            <p:cNvSpPr/>
            <p:nvPr/>
          </p:nvSpPr>
          <p:spPr>
            <a:xfrm>
              <a:off x="70876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51"/>
            <p:cNvSpPr/>
            <p:nvPr/>
          </p:nvSpPr>
          <p:spPr>
            <a:xfrm>
              <a:off x="7620480" y="4329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4724640" y="478620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3"/>
          <p:cNvGrpSpPr/>
          <p:nvPr/>
        </p:nvGrpSpPr>
        <p:grpSpPr>
          <a:xfrm>
            <a:off x="1602360" y="5105520"/>
            <a:ext cx="3317760" cy="990360"/>
            <a:chOff x="1602360" y="5105520"/>
            <a:chExt cx="3317760" cy="990360"/>
          </a:xfrm>
        </p:grpSpPr>
        <p:sp>
          <p:nvSpPr>
            <p:cNvPr id="398" name="Rectangle 54"/>
            <p:cNvSpPr/>
            <p:nvPr/>
          </p:nvSpPr>
          <p:spPr>
            <a:xfrm>
              <a:off x="1602360" y="51055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第二次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>
              <a:off x="1676520" y="60958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16765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228600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289584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35053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415944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1"/>
            <p:cNvSpPr/>
            <p:nvPr/>
          </p:nvSpPr>
          <p:spPr>
            <a:xfrm flipV="1">
              <a:off x="47689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2"/>
            <p:cNvSpPr/>
            <p:nvPr/>
          </p:nvSpPr>
          <p:spPr>
            <a:xfrm>
              <a:off x="216648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63"/>
            <p:cNvSpPr/>
            <p:nvPr/>
          </p:nvSpPr>
          <p:spPr>
            <a:xfrm>
              <a:off x="277632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64"/>
            <p:cNvSpPr/>
            <p:nvPr/>
          </p:nvSpPr>
          <p:spPr>
            <a:xfrm>
              <a:off x="338580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65"/>
            <p:cNvSpPr/>
            <p:nvPr/>
          </p:nvSpPr>
          <p:spPr>
            <a:xfrm>
              <a:off x="403992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6"/>
            <p:cNvSpPr/>
            <p:nvPr/>
          </p:nvSpPr>
          <p:spPr>
            <a:xfrm>
              <a:off x="464940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68" descr="r05"/>
          <p:cNvPicPr/>
          <p:nvPr/>
        </p:nvPicPr>
        <p:blipFill>
          <a:blip r:embed="rId1"/>
          <a:stretch/>
        </p:blipFill>
        <p:spPr>
          <a:xfrm>
            <a:off x="6804000" y="476280"/>
            <a:ext cx="1870200" cy="3124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9" descr="米老鼠1"/>
          <p:cNvPicPr/>
          <p:nvPr/>
        </p:nvPicPr>
        <p:blipFill>
          <a:blip r:embed="rId2"/>
          <a:stretch/>
        </p:blipFill>
        <p:spPr>
          <a:xfrm>
            <a:off x="6948360" y="5300640"/>
            <a:ext cx="1123920" cy="1289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0" descr="home074"/>
          <p:cNvPicPr/>
          <p:nvPr/>
        </p:nvPicPr>
        <p:blipFill>
          <a:blip r:embed="rId3"/>
          <a:stretch/>
        </p:blipFill>
        <p:spPr>
          <a:xfrm>
            <a:off x="0" y="1341360"/>
            <a:ext cx="1496880" cy="20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2" descr="home074"/>
          <p:cNvPicPr/>
          <p:nvPr/>
        </p:nvPicPr>
        <p:blipFill>
          <a:blip r:embed="rId4"/>
          <a:stretch/>
        </p:blipFill>
        <p:spPr>
          <a:xfrm>
            <a:off x="0" y="4800600"/>
            <a:ext cx="1496880" cy="2057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3" descr="home074"/>
          <p:cNvPicPr/>
          <p:nvPr/>
        </p:nvPicPr>
        <p:blipFill>
          <a:blip r:embed="rId5"/>
          <a:stretch/>
        </p:blipFill>
        <p:spPr>
          <a:xfrm>
            <a:off x="0" y="3357720"/>
            <a:ext cx="1496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科利亚高兴地说：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伙伴们，今天我不光找到了匣子，还懂得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间一天天过去，我们一天天长大，步子也在渐渐变大。周围的一切，不是都在起变化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？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04920" y="3044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是科利亚的体会，是他从挖木匣中得到的认识：时间过去了，人长大了，步子也变大了，由此他认识到周围的一切都在起变化。面对着变化着的事物，不能采取固定不变的态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3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48720" y="5410080"/>
            <a:ext cx="977760" cy="10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91440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这件事情让科利亚得到了怎样的启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914400" y="26193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时间一天天过去，我们一天天长大，步子也在渐渐变大。周围的一切，都在起着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EDUCH012"/>
          <p:cNvPicPr/>
          <p:nvPr/>
        </p:nvPicPr>
        <p:blipFill>
          <a:blip r:embed="rId1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2627280" y="9810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这件事情，又让你想到了些什么呢？能举个例子说一说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31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48720" y="5410080"/>
            <a:ext cx="977760" cy="10861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700360" y="3357720"/>
            <a:ext cx="823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我们不能用固定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眼光看变化的事物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要使自己的想法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顺应这样的变化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62485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我</a:t>
            </a: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的身高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我现在的身高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候鞋子的码子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现在鞋子的码子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我读什么书 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现在我可以读什么书</a:t>
            </a:r>
            <a:br>
              <a:rPr sz="4000"/>
            </a:b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通过调查我发现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选词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仍然  果然  固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爸爸说用一个月的时间学会使用电脑。经过一个月的努力，爸爸（          ）学会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自然博物馆里，同学们看到了多姿多彩的动植物。闭馆的时间快到了，同学们（        ）不想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样做（         ）能保住他的性命，可他的一条腿却没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362320" y="4876920"/>
            <a:ext cx="21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14400" y="2971800"/>
            <a:ext cx="18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743200" y="556272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固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817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战争开始时，妈妈从家门口，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）步，埋下了箱子。四年后妈妈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门口朝菜园走了（　　　）步，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                 　　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战争开始时，科利亚量了（　）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埋下木匣。四年后，科利亚从门口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步，却没有找到木匣子。后来科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从屋门口起量了（　 ）步，他一下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　 ）。这是因为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                                        　              　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3"/>
          <p:cNvSpPr txBox="1"/>
          <p:nvPr/>
        </p:nvSpPr>
        <p:spPr>
          <a:xfrm rot="5400000">
            <a:off x="-576720" y="274464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 会 填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547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464328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476360" y="21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出她的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6877080" y="29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1332000" y="414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71636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33200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找到了木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1"/>
          <p:cNvGrpSpPr/>
          <p:nvPr/>
        </p:nvGrpSpPr>
        <p:grpSpPr>
          <a:xfrm>
            <a:off x="4066200" y="5340240"/>
            <a:ext cx="3999240" cy="1333800"/>
            <a:chOff x="4066200" y="5340240"/>
            <a:chExt cx="3999240" cy="1333800"/>
          </a:xfrm>
        </p:grpSpPr>
        <p:sp>
          <p:nvSpPr>
            <p:cNvPr id="442" name="Rectangle 12"/>
            <p:cNvSpPr/>
            <p:nvPr/>
          </p:nvSpPr>
          <p:spPr>
            <a:xfrm>
              <a:off x="4066200" y="6092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过去，人在一天天长大，步子也在渐渐变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477920" y="5340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时间一天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484360" y="184464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这件事里，科利亚能有这么大的收获，是因为他有一个特别好的品质，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EDUCH012"/>
          <p:cNvPicPr/>
          <p:nvPr/>
        </p:nvPicPr>
        <p:blipFill>
          <a:blip r:embed="rId1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5621400" y="4529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提示：爱动脑，勤于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时间的推移，在我们周围所有的事物都在变化，你能举个例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835280" y="2565360"/>
            <a:ext cx="69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围的一切都在起变化，告诉我们要怎样做事情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987640" y="4221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世界上的万物都在不断变化，我们应象科利亚一样多动脑筋，根据情况的变化而变化才能把事情做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读读下列词语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并给字注音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04920" y="18288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科利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743200" y="1828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7200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71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880" y="52578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小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648320" y="3505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喀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山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590920" y="3429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躲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0492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447920" y="1219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27672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57200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010280" y="1143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3200400" y="27432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472428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600200" y="4495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2286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我们做事情，要随着情况的变化采取不同的做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F1C-1151-484B-B0CC-9BDEB24C41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报纸上说，今天晚上八点有月食。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八点钟，我站在阳台上向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空望去，月食（        ）出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在抗洪前线，解放军战士与洪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搏斗了十几天。有的战士累得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昏倒，（        ）不肯离开防洪大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堤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232000" y="90792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用“仍然”和“果然”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4829400" y="240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82140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523880" y="8380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、科利亚的木匣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2971800" y="2330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五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子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十步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990720" y="2286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年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2971800" y="3321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十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子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五步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90720" y="3276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年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85800" y="45720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懂得：一切都在起变化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856800" y="251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600200" y="175248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057400" y="1523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981080" y="43434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705120" y="457200"/>
            <a:ext cx="10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角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打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52680" y="365760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123880" y="2666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172200" y="1295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n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6095880" y="44197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n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5715000" y="1676520"/>
            <a:ext cx="380880" cy="3047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423560" y="99072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367760" y="4367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灾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52280" y="1087560"/>
            <a:ext cx="93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一比，组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锯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1952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避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8640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倍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5228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据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81952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僻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48640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培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5228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剧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81952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辟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48640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陪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1143000" y="2895480"/>
            <a:ext cx="1506240" cy="1785600"/>
            <a:chOff x="1143000" y="2895480"/>
            <a:chExt cx="1506240" cy="1785600"/>
          </a:xfrm>
        </p:grpSpPr>
        <p:sp>
          <p:nvSpPr>
            <p:cNvPr id="221" name="Text Box 14"/>
            <p:cNvSpPr/>
            <p:nvPr/>
          </p:nvSpPr>
          <p:spPr>
            <a:xfrm>
              <a:off x="1143000" y="2895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锯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1143000" y="350496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根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1143000" y="4038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剧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3809880" y="2895480"/>
            <a:ext cx="1506240" cy="1861920"/>
            <a:chOff x="3809880" y="2895480"/>
            <a:chExt cx="1506240" cy="1861920"/>
          </a:xfrm>
        </p:grpSpPr>
        <p:sp>
          <p:nvSpPr>
            <p:cNvPr id="225" name="Text Box 18"/>
            <p:cNvSpPr/>
            <p:nvPr/>
          </p:nvSpPr>
          <p:spPr>
            <a:xfrm>
              <a:off x="3809880" y="2895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回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3809880" y="350496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僻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3809880" y="411480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开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1"/>
          <p:cNvGrpSpPr/>
          <p:nvPr/>
        </p:nvGrpSpPr>
        <p:grpSpPr>
          <a:xfrm>
            <a:off x="6477120" y="2895480"/>
            <a:ext cx="1505880" cy="1785600"/>
            <a:chOff x="6477120" y="2895480"/>
            <a:chExt cx="1505880" cy="1785600"/>
          </a:xfrm>
        </p:grpSpPr>
        <p:sp>
          <p:nvSpPr>
            <p:cNvPr id="229" name="Text Box 22"/>
            <p:cNvSpPr/>
            <p:nvPr/>
          </p:nvSpPr>
          <p:spPr>
            <a:xfrm>
              <a:off x="6477120" y="289548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倍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477120" y="350496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培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6477120" y="403848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陪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28600" y="30492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战争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中提到的“战争”是指苏联卫国战争，是苏联人民为反对德国法西斯及其盟国进行的正义战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505320" y="2362320"/>
            <a:ext cx="4190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法西斯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指无理侵略别国领土的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28600" y="5410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木匣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228600" y="259092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</a:t>
            </a:r>
            <a:r>
              <a:rPr b="1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课文围绕着木匣写了科利亚的哪些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09480" y="8380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思    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80880" y="2257560"/>
            <a:ext cx="22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幼圆"/>
                <a:ea typeface="幼圆"/>
              </a:rPr>
              <a:t>埋木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767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幼圆"/>
                <a:ea typeface="幼圆"/>
              </a:rPr>
              <a:t>挖木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019920" y="2181240"/>
            <a:ext cx="29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Times New Roman"/>
                <a:ea typeface="幼圆"/>
              </a:rPr>
              <a:t>受到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4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6:1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