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1BA5-E0FF-4B05-85A4-898FAFEA1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9C56-F636-41A1-A8D6-F41D29691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C9DF-BACC-4399-BDCB-A289ADE19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D880-A2E9-4A8F-ADDB-3DFF11EF2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EA52D-E9BD-431B-80EB-67C0015B5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CFCE2-CE2E-40F7-8DCC-2944CC832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7B79D-75E7-492F-9F07-342105F26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87FFD-5B77-421A-BAC0-7A7AA4A12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63F55-00CA-4610-A218-8914F3054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32BF8-2E07-46B2-BAC4-79AD12A77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8331E-2EBC-43C2-AF94-56ED614E1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F92F-547B-4099-B6C6-810914176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77032-202D-4C2E-881B-207B08FE0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D779B-18F2-4B3A-87A6-7BAA79CC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0DA06-88A2-407D-B47D-8AE61E8CC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E4798-9600-4CD4-8D51-2DEA7C396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3C21F-4CD9-4193-8D6D-E603A8BF8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247D-3890-4FE7-A8F1-696D47902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32F4-ECD6-46FC-A946-292870DB2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0935-2802-4D0D-94A9-D86A9D5E8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B6FA-5424-453D-9BDF-0C74338B2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4763-E3C1-40BE-A279-ADB7A8C94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4B78-E73F-4D75-933C-16424443D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85D3-731D-43A0-B1BE-3C1FAE307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AF53E-89B8-4BDE-9641-C708402F6EA6}" type="datetime">
              <a:rPr b="0" lang="zh-CN" sz="1200" spc="-1" strike="noStrike">
                <a:solidFill>
                  <a:srgbClr val="000000"/>
                </a:solidFill>
                <a:latin typeface="Garamond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25ECA-91C6-4281-A79D-D5FC63FC2A9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65DD9-7D9B-4E44-823C-7F8CEACDC8AE}" type="datetime">
              <a:rPr b="0" lang="zh-CN" sz="1200" spc="-1" strike="noStrike">
                <a:solidFill>
                  <a:srgbClr val="000000"/>
                </a:solidFill>
                <a:latin typeface="Garamond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1D1A5-B022-4F8D-BD0A-3F2F4CBC69C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moban/kejian/" TargetMode="External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baike.baidu.com/pic/1/11456344352122483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hyperlink" Target="http://image.baidu.com/i?ct=503316480&amp;z=0&amp;tn=baiduimagedetail&amp;word=%BE%D3%C0%EF%B7%F2%C8%CB&amp;in=19681&amp;cl=2&amp;cm=1&amp;sc=0&amp;lm=-1&amp;pn=19&amp;rn=1&amp;di=2387991260&amp;ln=970" TargetMode="External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26920" y="1267920"/>
            <a:ext cx="777744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6633"/>
              </a:solidFill>
              <a:latin typeface="方正粗活意简体"/>
              <a:ea typeface="方正粗活意简体"/>
            </a:endParaRPr>
          </a:p>
        </p:txBody>
      </p:sp>
      <p:pic>
        <p:nvPicPr>
          <p:cNvPr id="87" name="WordArt 5" descr=""/>
          <p:cNvPicPr/>
          <p:nvPr/>
        </p:nvPicPr>
        <p:blipFill>
          <a:blip r:embed="rId1"/>
          <a:stretch/>
        </p:blipFill>
        <p:spPr>
          <a:xfrm>
            <a:off x="1822320" y="4138560"/>
            <a:ext cx="5370480" cy="12016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46160" y="1557360"/>
            <a:ext cx="41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跨越百年的美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课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5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404280"/>
            <a:ext cx="7201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006633"/>
                </a:solidFill>
                <a:latin typeface="Garamond"/>
              </a:rPr>
              <a:t>复习词语</a:t>
            </a: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: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84360" y="1413000"/>
            <a:ext cx="76327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放射性元素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光    放射性            人工放射性 天然放射性      钋      镭      工业废渣      矿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发现   冶炼   提炼    搅拌  溶解  沉淀 分析  酸碱  化验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废弃    烟熏火燎   烧痕                                               疲劳     酸痛     眼花耳鸣    浑身乏力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364500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971280" y="1989000"/>
            <a:ext cx="7272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请同学们默读课文，找出相关的句子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反复朗读这些句子，说说你从这些句子中体会出居里夫人美在哪里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WordArt 4" descr=""/>
          <p:cNvPicPr/>
          <p:nvPr/>
        </p:nvPicPr>
        <p:blipFill>
          <a:blip r:embed="rId1"/>
          <a:stretch/>
        </p:blipFill>
        <p:spPr>
          <a:xfrm>
            <a:off x="444600" y="268200"/>
            <a:ext cx="8278560" cy="1189080"/>
          </a:xfrm>
          <a:prstGeom prst="rect">
            <a:avLst/>
          </a:prstGeom>
          <a:ln w="0">
            <a:noFill/>
          </a:ln>
        </p:spPr>
      </p:pic>
      <p:sp>
        <p:nvSpPr>
          <p:cNvPr id="97" name="WordArt 5"/>
          <p:cNvSpPr txBox="1"/>
          <p:nvPr/>
        </p:nvSpPr>
        <p:spPr>
          <a:xfrm>
            <a:off x="1187280" y="4508640"/>
            <a:ext cx="6400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居里夫人具有容貌美、女性美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8" name="WordArt 6"/>
          <p:cNvSpPr txBox="1"/>
          <p:nvPr/>
        </p:nvSpPr>
        <p:spPr>
          <a:xfrm>
            <a:off x="1258920" y="5300640"/>
            <a:ext cx="6400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居里夫人具有品格美、知识美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矩形 6"/>
          <p:cNvSpPr/>
          <p:nvPr/>
        </p:nvSpPr>
        <p:spPr>
          <a:xfrm>
            <a:off x="5148360" y="25653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6840" y="3860640"/>
            <a:ext cx="78598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她的容貌还美丽吗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她美丽健康的容貌在悄悄地隐退，逐渐变得眼花耳鸣，浑身乏力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WordArt 4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36080" cy="16160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11456344352122483_small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16360" y="1989000"/>
            <a:ext cx="1727280" cy="21607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206064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她依然美丽的是什么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居里夫人的</a:t>
            </a:r>
            <a:r>
              <a:rPr b="0" lang="zh-CN" sz="3000" spc="-1" strike="noStrike">
                <a:solidFill>
                  <a:srgbClr val="0000ff"/>
                </a:solidFill>
                <a:latin typeface="Arial"/>
              </a:rPr>
              <a:t>美名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，从她发现镭那一刻起就流传于世，迄今已经百年。这是她用全部的青春、信念和生命换来的荣誉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直到她身后４０年，她用过的笔记本里，还有</a:t>
            </a:r>
            <a:r>
              <a:rPr b="0" lang="zh-CN" sz="3000" spc="-1" strike="noStrike">
                <a:solidFill>
                  <a:srgbClr val="0000ff"/>
                </a:solidFill>
                <a:latin typeface="Arial"/>
              </a:rPr>
              <a:t>射线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在不停地释放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WordArt 4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3608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68000" y="1916280"/>
            <a:ext cx="82184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zh-CN" sz="3000" spc="-1" strike="noStrike">
                <a:solidFill>
                  <a:srgbClr val="0000ff"/>
                </a:solidFill>
                <a:latin typeface="Arial"/>
              </a:rPr>
              <a:t>射线”指的是什么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经过三年又九个月，他们终于在成吨的矿渣中提炼出了０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1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克镭。它真是有极</a:t>
            </a:r>
            <a:r>
              <a:rPr b="0" lang="zh-CN" sz="3000" spc="-1" strike="noStrike">
                <a:solidFill>
                  <a:srgbClr val="0000ff"/>
                </a:solidFill>
                <a:latin typeface="Arial"/>
              </a:rPr>
              <a:t>美丽的颜色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，在幽暗的破木棚里发出</a:t>
            </a:r>
            <a:r>
              <a:rPr b="0" lang="zh-CN" sz="3000" spc="-1" strike="noStrike">
                <a:solidFill>
                  <a:srgbClr val="0000ff"/>
                </a:solidFill>
                <a:latin typeface="Arial"/>
              </a:rPr>
              <a:t>淡蓝色的荧光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这点</a:t>
            </a:r>
            <a:r>
              <a:rPr b="0" lang="zh-CN" sz="3000" spc="-1" strike="noStrike">
                <a:solidFill>
                  <a:srgbClr val="0000ff"/>
                </a:solidFill>
                <a:latin typeface="Arial"/>
              </a:rPr>
              <a:t>美丽的淡蓝色的荧光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，融入了一个女子</a:t>
            </a:r>
            <a:r>
              <a:rPr b="0" lang="zh-CN" sz="3000" spc="-1" strike="noStrike">
                <a:solidFill>
                  <a:srgbClr val="0000ff"/>
                </a:solidFill>
                <a:latin typeface="Arial"/>
              </a:rPr>
              <a:t>美丽的生命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3000" spc="-1" strike="noStrike">
                <a:solidFill>
                  <a:srgbClr val="0000ff"/>
                </a:solidFill>
                <a:latin typeface="Arial"/>
              </a:rPr>
              <a:t>不屈的信念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说说你对句子“直到她身后４０年，她用过的笔记本里，还有</a:t>
            </a:r>
            <a:r>
              <a:rPr b="0" lang="zh-CN" sz="3000" spc="-1" strike="noStrike">
                <a:solidFill>
                  <a:srgbClr val="0000ff"/>
                </a:solidFill>
                <a:latin typeface="Arial"/>
              </a:rPr>
              <a:t>射线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在不停地释放。”的理解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WordArt 4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3608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使用规范说明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C58B-F099-4A3C-90BC-541E66B5681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6840" y="1844280"/>
            <a:ext cx="81471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居里夫人是怎样对待她的“美名”的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著名科学家爱因斯坦说过：“在所有的世界著名人物中，玛丽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居里是唯一没有被</a:t>
            </a:r>
            <a:r>
              <a:rPr b="0" lang="zh-CN" sz="3000" spc="-1" strike="noStrike">
                <a:solidFill>
                  <a:srgbClr val="0000ff"/>
                </a:solidFill>
                <a:latin typeface="Arial"/>
              </a:rPr>
              <a:t>盛名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宠坏的人。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她本来可以躺在任何一项大奖或任何一个荣誉上尽情地享受，但是，她视名利如粪土，她将奖金捐赠给科研事业和战争中的法国，而将那些奖章送给６岁的小女儿当玩具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WordArt 4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3608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42920" y="277920"/>
            <a:ext cx="6842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6633"/>
                </a:solidFill>
                <a:latin typeface="Garamond"/>
              </a:rPr>
              <a:t>跨越百年的美丽</a:t>
            </a:r>
            <a:endParaRPr b="0" lang="en-US" sz="7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居里夫人雕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WordArt 4"/>
          <p:cNvSpPr txBox="1"/>
          <p:nvPr/>
        </p:nvSpPr>
        <p:spPr>
          <a:xfrm>
            <a:off x="3348000" y="2133720"/>
            <a:ext cx="396072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6000"/>
                    </a:srgbClr>
                  </a:outerShdw>
                </a:effectLst>
                <a:latin typeface="宋体"/>
              </a:rPr>
              <a:t>容貌美女性美</a:t>
            </a:r>
            <a:endParaRPr b="0" lang="en-US" sz="18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6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6000"/>
                    </a:srgbClr>
                  </a:outerShdw>
                </a:effectLst>
                <a:latin typeface="宋体"/>
              </a:rPr>
              <a:t>知识美品格美</a:t>
            </a:r>
            <a:endParaRPr b="0" lang="en-US" sz="18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6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21" name="WordArt 5" descr=""/>
          <p:cNvPicPr/>
          <p:nvPr/>
        </p:nvPicPr>
        <p:blipFill>
          <a:blip r:embed="rId5"/>
          <a:stretch/>
        </p:blipFill>
        <p:spPr>
          <a:xfrm>
            <a:off x="244440" y="4718160"/>
            <a:ext cx="8442360" cy="9572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u=2194671869,2926632315&amp;fm=0&amp;gp=-36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332000" y="2205000"/>
            <a:ext cx="141264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02:54:45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11:26:08Z</dcterms:modified>
  <cp:revision>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