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460-BA4A-4450-8780-9A51EAFC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5BF-4A8A-4A36-9A6E-2A7AF1C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2BD-35F2-4BCA-B5D6-780DC0DB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775-42C7-4092-82F6-B9C328C7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0E5-3F30-4D2E-A3D2-45A402C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A6B-61AF-49F0-BFF3-2BBE68B6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FCD-459D-4183-B743-58F51B55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97F-634E-4E8E-9AC6-13B54DA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332-94DF-49E3-86F1-F270A9F1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908-1A8F-42CD-927F-C8A5D27B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2CB-E2E9-47EF-87BB-05B33F4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FDD-839A-4CD0-9C9A-19EEFD2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236-E9B3-4E00-9E8D-F6D2DE4CD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2009825151519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4360" y="1915920"/>
            <a:ext cx="5270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710a8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2920" y="1486080"/>
            <a:ext cx="4995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2" descr="p20093405571721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4" name="WordArt 3" descr="花岗岩"/>
          <p:cNvPicPr/>
          <p:nvPr/>
        </p:nvPicPr>
        <p:blipFill>
          <a:blip r:embed="rId2"/>
          <a:stretch/>
        </p:blipFill>
        <p:spPr>
          <a:xfrm>
            <a:off x="2505240" y="682560"/>
            <a:ext cx="3011400" cy="77472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2268000" y="1773360"/>
            <a:ext cx="3941280" cy="1522800"/>
            <a:chOff x="2268000" y="1773360"/>
            <a:chExt cx="3941280" cy="1522800"/>
          </a:xfrm>
        </p:grpSpPr>
        <p:grpSp>
          <p:nvGrpSpPr>
            <p:cNvPr id="96" name="Group 5"/>
            <p:cNvGrpSpPr/>
            <p:nvPr/>
          </p:nvGrpSpPr>
          <p:grpSpPr>
            <a:xfrm>
              <a:off x="2268000" y="1773360"/>
              <a:ext cx="1517760" cy="1522800"/>
              <a:chOff x="2268000" y="1773360"/>
              <a:chExt cx="1517760" cy="1522800"/>
            </a:xfrm>
          </p:grpSpPr>
          <p:sp>
            <p:nvSpPr>
              <p:cNvPr id="97" name="Text Box 6"/>
              <p:cNvSpPr/>
              <p:nvPr/>
            </p:nvSpPr>
            <p:spPr>
              <a:xfrm>
                <a:off x="2268360" y="1773360"/>
                <a:ext cx="146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释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7"/>
              <p:cNvGrpSpPr/>
              <p:nvPr/>
            </p:nvGrpSpPr>
            <p:grpSpPr>
              <a:xfrm>
                <a:off x="2268000" y="1846800"/>
                <a:ext cx="1517760" cy="1449360"/>
                <a:chOff x="2268000" y="1846800"/>
                <a:chExt cx="1517760" cy="1449360"/>
              </a:xfrm>
            </p:grpSpPr>
            <p:sp>
              <p:nvSpPr>
                <p:cNvPr id="99" name="Line 8"/>
                <p:cNvSpPr/>
                <p:nvPr/>
              </p:nvSpPr>
              <p:spPr>
                <a:xfrm flipH="1">
                  <a:off x="2268000" y="1846800"/>
                  <a:ext cx="1506600" cy="2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9"/>
                <p:cNvSpPr/>
                <p:nvPr/>
              </p:nvSpPr>
              <p:spPr>
                <a:xfrm>
                  <a:off x="3785760" y="1846800"/>
                  <a:ext cx="0" cy="1449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0"/>
                <p:cNvSpPr/>
                <p:nvPr/>
              </p:nvSpPr>
              <p:spPr>
                <a:xfrm>
                  <a:off x="2278800" y="1846800"/>
                  <a:ext cx="0" cy="1449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1"/>
                <p:cNvSpPr/>
                <p:nvPr/>
              </p:nvSpPr>
              <p:spPr>
                <a:xfrm flipH="1">
                  <a:off x="2268000" y="3285720"/>
                  <a:ext cx="1506600" cy="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2"/>
                <p:cNvSpPr/>
                <p:nvPr/>
              </p:nvSpPr>
              <p:spPr>
                <a:xfrm>
                  <a:off x="2278800" y="2571480"/>
                  <a:ext cx="150660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3032280" y="1846800"/>
                  <a:ext cx="0" cy="1449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4"/>
            <p:cNvGrpSpPr/>
            <p:nvPr/>
          </p:nvGrpSpPr>
          <p:grpSpPr>
            <a:xfrm>
              <a:off x="4691520" y="1773360"/>
              <a:ext cx="1517760" cy="1521360"/>
              <a:chOff x="4691520" y="1773360"/>
              <a:chExt cx="1517760" cy="1521360"/>
            </a:xfrm>
          </p:grpSpPr>
          <p:sp>
            <p:nvSpPr>
              <p:cNvPr id="106" name="Text Box 15"/>
              <p:cNvSpPr/>
              <p:nvPr/>
            </p:nvSpPr>
            <p:spPr>
              <a:xfrm>
                <a:off x="4691520" y="1773360"/>
                <a:ext cx="1468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辩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6"/>
              <p:cNvGrpSpPr/>
              <p:nvPr/>
            </p:nvGrpSpPr>
            <p:grpSpPr>
              <a:xfrm>
                <a:off x="4691520" y="1845000"/>
                <a:ext cx="1517760" cy="1449720"/>
                <a:chOff x="4691520" y="1845000"/>
                <a:chExt cx="1517760" cy="1449720"/>
              </a:xfrm>
            </p:grpSpPr>
            <p:sp>
              <p:nvSpPr>
                <p:cNvPr id="108" name="Line 17"/>
                <p:cNvSpPr/>
                <p:nvPr/>
              </p:nvSpPr>
              <p:spPr>
                <a:xfrm flipH="1">
                  <a:off x="4691520" y="1845000"/>
                  <a:ext cx="1506960" cy="2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8"/>
                <p:cNvSpPr/>
                <p:nvPr/>
              </p:nvSpPr>
              <p:spPr>
                <a:xfrm>
                  <a:off x="6209280" y="1845000"/>
                  <a:ext cx="0" cy="1449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4701960" y="1845000"/>
                  <a:ext cx="0" cy="1449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 flipH="1">
                  <a:off x="4691520" y="3284280"/>
                  <a:ext cx="1506960" cy="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1"/>
                <p:cNvSpPr/>
                <p:nvPr/>
              </p:nvSpPr>
              <p:spPr>
                <a:xfrm>
                  <a:off x="4701960" y="2569680"/>
                  <a:ext cx="15069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22"/>
                <p:cNvSpPr/>
                <p:nvPr/>
              </p:nvSpPr>
              <p:spPr>
                <a:xfrm>
                  <a:off x="5455800" y="1845000"/>
                  <a:ext cx="0" cy="1449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" name="Group 23"/>
          <p:cNvGrpSpPr/>
          <p:nvPr/>
        </p:nvGrpSpPr>
        <p:grpSpPr>
          <a:xfrm>
            <a:off x="1402920" y="3645000"/>
            <a:ext cx="4608000" cy="1522800"/>
            <a:chOff x="1402920" y="3645000"/>
            <a:chExt cx="4608000" cy="1522800"/>
          </a:xfrm>
        </p:grpSpPr>
        <p:grpSp>
          <p:nvGrpSpPr>
            <p:cNvPr id="115" name="Group 24"/>
            <p:cNvGrpSpPr/>
            <p:nvPr/>
          </p:nvGrpSpPr>
          <p:grpSpPr>
            <a:xfrm>
              <a:off x="1402920" y="3645000"/>
              <a:ext cx="1774440" cy="1522800"/>
              <a:chOff x="1402920" y="3645000"/>
              <a:chExt cx="1774440" cy="1522800"/>
            </a:xfrm>
          </p:grpSpPr>
          <p:sp>
            <p:nvSpPr>
              <p:cNvPr id="116" name="Text Box 25"/>
              <p:cNvSpPr/>
              <p:nvPr/>
            </p:nvSpPr>
            <p:spPr>
              <a:xfrm>
                <a:off x="1403280" y="3645000"/>
                <a:ext cx="171396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妄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6"/>
              <p:cNvGrpSpPr/>
              <p:nvPr/>
            </p:nvGrpSpPr>
            <p:grpSpPr>
              <a:xfrm>
                <a:off x="1402920" y="3718440"/>
                <a:ext cx="1774440" cy="1449360"/>
                <a:chOff x="1402920" y="3718440"/>
                <a:chExt cx="1774440" cy="1449360"/>
              </a:xfrm>
            </p:grpSpPr>
            <p:sp>
              <p:nvSpPr>
                <p:cNvPr id="118" name="Line 27"/>
                <p:cNvSpPr/>
                <p:nvPr/>
              </p:nvSpPr>
              <p:spPr>
                <a:xfrm flipH="1">
                  <a:off x="1402920" y="3718440"/>
                  <a:ext cx="1761480" cy="2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8"/>
                <p:cNvSpPr/>
                <p:nvPr/>
              </p:nvSpPr>
              <p:spPr>
                <a:xfrm>
                  <a:off x="3177360" y="3718440"/>
                  <a:ext cx="0" cy="1449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9"/>
                <p:cNvSpPr/>
                <p:nvPr/>
              </p:nvSpPr>
              <p:spPr>
                <a:xfrm>
                  <a:off x="1415520" y="3718440"/>
                  <a:ext cx="0" cy="1449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0"/>
                <p:cNvSpPr/>
                <p:nvPr/>
              </p:nvSpPr>
              <p:spPr>
                <a:xfrm flipH="1">
                  <a:off x="1402920" y="5157360"/>
                  <a:ext cx="1761480" cy="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31"/>
                <p:cNvSpPr/>
                <p:nvPr/>
              </p:nvSpPr>
              <p:spPr>
                <a:xfrm>
                  <a:off x="1415520" y="4443120"/>
                  <a:ext cx="176148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2"/>
                <p:cNvSpPr/>
                <p:nvPr/>
              </p:nvSpPr>
              <p:spPr>
                <a:xfrm>
                  <a:off x="2296440" y="3718440"/>
                  <a:ext cx="0" cy="1449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33"/>
            <p:cNvGrpSpPr/>
            <p:nvPr/>
          </p:nvGrpSpPr>
          <p:grpSpPr>
            <a:xfrm>
              <a:off x="4235760" y="3645000"/>
              <a:ext cx="1775160" cy="1521360"/>
              <a:chOff x="4235760" y="3645000"/>
              <a:chExt cx="1775160" cy="1521360"/>
            </a:xfrm>
          </p:grpSpPr>
          <p:sp>
            <p:nvSpPr>
              <p:cNvPr id="125" name="Text Box 34"/>
              <p:cNvSpPr/>
              <p:nvPr/>
            </p:nvSpPr>
            <p:spPr>
              <a:xfrm>
                <a:off x="4236120" y="3645000"/>
                <a:ext cx="17168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萨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35"/>
              <p:cNvGrpSpPr/>
              <p:nvPr/>
            </p:nvGrpSpPr>
            <p:grpSpPr>
              <a:xfrm>
                <a:off x="4235760" y="3716640"/>
                <a:ext cx="1775160" cy="1449720"/>
                <a:chOff x="4235760" y="3716640"/>
                <a:chExt cx="1775160" cy="1449720"/>
              </a:xfrm>
            </p:grpSpPr>
            <p:sp>
              <p:nvSpPr>
                <p:cNvPr id="127" name="Line 36"/>
                <p:cNvSpPr/>
                <p:nvPr/>
              </p:nvSpPr>
              <p:spPr>
                <a:xfrm flipH="1">
                  <a:off x="4235760" y="3716640"/>
                  <a:ext cx="1762200" cy="2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37"/>
                <p:cNvSpPr/>
                <p:nvPr/>
              </p:nvSpPr>
              <p:spPr>
                <a:xfrm>
                  <a:off x="6010920" y="3716640"/>
                  <a:ext cx="0" cy="1449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38"/>
                <p:cNvSpPr/>
                <p:nvPr/>
              </p:nvSpPr>
              <p:spPr>
                <a:xfrm>
                  <a:off x="4248360" y="3716640"/>
                  <a:ext cx="0" cy="1449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9"/>
                <p:cNvSpPr/>
                <p:nvPr/>
              </p:nvSpPr>
              <p:spPr>
                <a:xfrm flipH="1">
                  <a:off x="4235760" y="5155920"/>
                  <a:ext cx="1762200" cy="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>
                  <a:off x="4248360" y="4441320"/>
                  <a:ext cx="176220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129640" y="3716640"/>
                  <a:ext cx="0" cy="1449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" name=""/>
          <p:cNvSpPr/>
          <p:nvPr/>
        </p:nvSpPr>
        <p:spPr>
          <a:xfrm>
            <a:off x="75564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58A-A83B-4875-9AFD-0475BA5ADA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2009101718351592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WordArt 3" descr="花岗岩"/>
          <p:cNvPicPr/>
          <p:nvPr/>
        </p:nvPicPr>
        <p:blipFill>
          <a:blip r:embed="rId2"/>
          <a:stretch/>
        </p:blipFill>
        <p:spPr>
          <a:xfrm>
            <a:off x="2505240" y="676440"/>
            <a:ext cx="3011400" cy="780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1547640" y="1844640"/>
            <a:ext cx="61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16000" y="2060640"/>
            <a:ext cx="76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课文读通顺，读不通顺的地方多读      几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边读边在你不懂的问题上做记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思考：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u=3219486529,3907055598&amp;gp=38"/>
          <p:cNvPicPr/>
          <p:nvPr/>
        </p:nvPicPr>
        <p:blipFill>
          <a:blip r:embed="rId1"/>
          <a:stretch/>
        </p:blipFill>
        <p:spPr>
          <a:xfrm>
            <a:off x="385920" y="249120"/>
            <a:ext cx="8280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543564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_2546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p20095102897541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uó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á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e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332000" y="1773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2009325012317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u=1750842001,3837812053&amp;gp=48"/>
          <p:cNvPicPr/>
          <p:nvPr/>
        </p:nvPicPr>
        <p:blipFill>
          <a:blip r:embed="rId2"/>
          <a:stretch/>
        </p:blipFill>
        <p:spPr>
          <a:xfrm>
            <a:off x="6659640" y="2924280"/>
            <a:ext cx="2016000" cy="2808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16360" y="836640"/>
            <a:ext cx="2376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生平介绍：伽利略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CD32ABE"/>
          <p:cNvPicPr/>
          <p:nvPr/>
        </p:nvPicPr>
        <p:blipFill>
          <a:blip r:embed="rId3"/>
          <a:srcRect l="13895" t="19685" r="14822" b="44739"/>
          <a:stretch/>
        </p:blipFill>
        <p:spPr>
          <a:xfrm>
            <a:off x="324000" y="765000"/>
            <a:ext cx="611964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20094130121949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生平介绍：亚里士多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亚里士多德（公元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4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古希腊哲学家、科学家，是亚历山大帝的教师。马克思、恩格斯称他们为古希腊哲学中“最博学的人”。他讲科学分为理论的科学、实践的科学、创造的科学。他在生物学、生理学、医学等方面都有突出的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u=3219486529,3907055598&amp;gp=38"/>
          <p:cNvPicPr/>
          <p:nvPr/>
        </p:nvPicPr>
        <p:blipFill>
          <a:blip r:embed="rId2"/>
          <a:stretch/>
        </p:blipFill>
        <p:spPr>
          <a:xfrm>
            <a:off x="250920" y="1700280"/>
            <a:ext cx="4356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p20093115544266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74" name="WordArt 3" descr="花岗岩"/>
          <p:cNvPicPr/>
          <p:nvPr/>
        </p:nvPicPr>
        <p:blipFill>
          <a:blip r:embed="rId2"/>
          <a:stretch/>
        </p:blipFill>
        <p:spPr>
          <a:xfrm>
            <a:off x="2505240" y="676440"/>
            <a:ext cx="3011400" cy="780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547640" y="1844640"/>
            <a:ext cx="61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258920" y="2060640"/>
            <a:ext cx="756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lüè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　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àn         fèng     wéi          b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伽利略　　辩论　　信奉　　违 背　一 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shuān       tuō            shì     x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拴  住　　拖着　 解 释　    宣  布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wǎng       zhí              s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胆大妄 为　　执 着       比萨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p2009617061067135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547640" y="2133720"/>
            <a:ext cx="20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后鼻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翘舌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635280" y="2133720"/>
            <a:ext cx="46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10a8"/>
                </a:solidFill>
                <a:latin typeface="Arial"/>
              </a:rPr>
              <a:t>fèng   wàng     b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10a8"/>
                </a:solidFill>
                <a:latin typeface="Arial"/>
              </a:rPr>
              <a:t>奉         妄         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567960" y="4292640"/>
            <a:ext cx="42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10a8"/>
                </a:solidFill>
                <a:latin typeface="Arial"/>
              </a:rPr>
              <a:t>shì       zhí      sh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10a8"/>
                </a:solidFill>
                <a:latin typeface="Arial"/>
              </a:rPr>
              <a:t>释       执         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3" descr="200841319502518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85" name="WordArt 3" descr="花岗岩"/>
          <p:cNvPicPr/>
          <p:nvPr/>
        </p:nvPicPr>
        <p:blipFill>
          <a:blip r:embed="rId2"/>
          <a:stretch/>
        </p:blipFill>
        <p:spPr>
          <a:xfrm>
            <a:off x="2505240" y="676440"/>
            <a:ext cx="3011400" cy="780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2"/>
          <p:cNvSpPr/>
          <p:nvPr/>
        </p:nvSpPr>
        <p:spPr>
          <a:xfrm>
            <a:off x="1547640" y="1844640"/>
            <a:ext cx="61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略      辩      奉      违      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拖     释       宣      拴      妄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00911217511179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547640" y="1844640"/>
            <a:ext cx="61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70828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58920" y="1844640"/>
            <a:ext cx="7272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省略     争辩     奉献     违反    英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拖拉     如释重负     宣 泄     拴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妄想     执迷不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2:13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50:1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