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3E3-A21D-4DE2-97F4-F68532F3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5AD-6D18-4782-B757-6B89A6D0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412-FC9A-4CCA-AC7A-F9AC610C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26F-EC56-4EC4-99EF-77E45DB0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951-AD88-4204-A1AC-6B2AF614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6A1-C93E-4C6E-8A8F-41283C53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A18-FF82-4B7A-B201-3E8DEA3B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EE8-9DBD-4892-B3EE-80A0A343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8E3-BED5-4D34-BE5B-D09654EC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A3E-2F45-4CF3-9B3E-24B81901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997-A05A-400F-BD51-6F316352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5B6-A1D0-479B-B79F-F0D823E9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DCC2-5F79-4243-B196-598709B87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anqi.MP3" descr=""/>
          <p:cNvPicPr/>
          <p:nvPr/>
        </p:nvPicPr>
        <p:blipFill>
          <a:blip r:embed="rId2"/>
          <a:stretch/>
        </p:blipFill>
        <p:spPr>
          <a:xfrm>
            <a:off x="3048120" y="5257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luhua"/>
          <p:cNvPicPr/>
          <p:nvPr/>
        </p:nvPicPr>
        <p:blipFill>
          <a:blip r:embed="rId3"/>
          <a:stretch/>
        </p:blipFill>
        <p:spPr>
          <a:xfrm>
            <a:off x="108000" y="260280"/>
            <a:ext cx="4203720" cy="6191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"/>
          <p:cNvSpPr/>
          <p:nvPr/>
        </p:nvSpPr>
        <p:spPr>
          <a:xfrm>
            <a:off x="3780000" y="1413000"/>
            <a:ext cx="514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010280" y="357336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孙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1628640"/>
            <a:ext cx="57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芦花荡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课外拓展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外阅读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芦花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姊妹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荷花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比较两篇文章有何异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6381720"/>
            <a:ext cx="611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06"/>
          <p:cNvPicPr/>
          <p:nvPr/>
        </p:nvPicPr>
        <p:blipFill>
          <a:blip r:embed="rId2"/>
          <a:stretch/>
        </p:blipFill>
        <p:spPr>
          <a:xfrm>
            <a:off x="1066680" y="4419720"/>
            <a:ext cx="6820200" cy="2035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1828800" y="914400"/>
            <a:ext cx="5791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自己的心灵去感悟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自己的语言去表达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自己的观点去判断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自己的思维去创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5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01"/>
          <p:cNvPicPr/>
          <p:nvPr/>
        </p:nvPicPr>
        <p:blipFill>
          <a:blip r:embed="rId2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3A37-7C8D-49A2-B1BE-E01DE5B0441C}" type="slidenum">
              <a:t>3</a:t>
            </a:fld>
          </a:p>
        </p:txBody>
      </p:sp>
    </p:spTree>
  </p:cSld>
  <p:transition spd="med" advTm="4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04"/>
          <p:cNvPicPr/>
          <p:nvPr/>
        </p:nvPicPr>
        <p:blipFill>
          <a:blip r:embed="rId2"/>
          <a:stretch/>
        </p:blipFill>
        <p:spPr>
          <a:xfrm>
            <a:off x="914400" y="914400"/>
            <a:ext cx="7238880" cy="479736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07"/>
          <p:cNvPicPr/>
          <p:nvPr/>
        </p:nvPicPr>
        <p:blipFill>
          <a:blip r:embed="rId2"/>
          <a:stretch/>
        </p:blipFill>
        <p:spPr>
          <a:xfrm>
            <a:off x="762120" y="914400"/>
            <a:ext cx="7562880" cy="501804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家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600" y="1599840"/>
            <a:ext cx="6019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孙犁，现代小说家、散文家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出生于河北省安平县。代表作品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白洋淀纪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这部作品显示了作家成熟的独特的艺术风格，这就是：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淡雅疏朗的诗情画意与朴素清新的泥土气息的完美结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以他为代表的河北作家群被当代文坛誉为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白洋淀派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他的小说又被称为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诗体小说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sunli"/>
          <p:cNvPicPr/>
          <p:nvPr/>
        </p:nvPicPr>
        <p:blipFill>
          <a:blip r:embed="rId2"/>
          <a:stretch/>
        </p:blipFill>
        <p:spPr>
          <a:xfrm>
            <a:off x="457200" y="2286000"/>
            <a:ext cx="2279520" cy="3276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文讲了一个什么故事？试用几句话进行概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文的主人公是谁？作者是用什么方法刻画人物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品味赏析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611280" y="2060640"/>
            <a:ext cx="806436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特别欣赏小说第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中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（语言、动作、神态、心理、外貌等），因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luhua"/>
          <p:cNvPicPr/>
          <p:nvPr/>
        </p:nvPicPr>
        <p:blipFill>
          <a:blip r:embed="rId2"/>
          <a:stretch/>
        </p:blipFill>
        <p:spPr>
          <a:xfrm>
            <a:off x="6248520" y="1905120"/>
            <a:ext cx="2690640" cy="39621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质疑释疑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芦花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写的是残酷的战争环境中的人和事。但是我们读后并没有感到非常的凄惨，没有让人感到压抑，而是感到写得非常优美，给人一种积极向上的力量。这是为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5:49:3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13:47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