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414" t="4698" r="398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444680" y="147600"/>
            <a:ext cx="576360" cy="576360"/>
            <a:chOff x="1444680" y="147600"/>
            <a:chExt cx="576360" cy="576360"/>
          </a:xfrm>
        </p:grpSpPr>
        <p:sp>
          <p:nvSpPr>
            <p:cNvPr id="3" name=""/>
            <p:cNvSpPr/>
            <p:nvPr/>
          </p:nvSpPr>
          <p:spPr>
            <a:xfrm>
              <a:off x="1512360" y="215280"/>
              <a:ext cx="440280" cy="440280"/>
            </a:xfrm>
            <a:prstGeom prst="donut">
              <a:avLst>
                <a:gd name="adj" fmla="val 881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444680" y="147600"/>
              <a:ext cx="576360" cy="576360"/>
            </a:xfrm>
            <a:prstGeom prst="donut">
              <a:avLst>
                <a:gd name="adj" fmla="val 3759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162080" y="173520"/>
            <a:ext cx="558720" cy="676800"/>
            <a:chOff x="1162080" y="173520"/>
            <a:chExt cx="558720" cy="676800"/>
          </a:xfrm>
        </p:grpSpPr>
        <p:grpSp>
          <p:nvGrpSpPr>
            <p:cNvPr id="6" name=""/>
            <p:cNvGrpSpPr/>
            <p:nvPr/>
          </p:nvGrpSpPr>
          <p:grpSpPr>
            <a:xfrm>
              <a:off x="1280520" y="465480"/>
              <a:ext cx="313560" cy="356040"/>
              <a:chOff x="1280520" y="465480"/>
              <a:chExt cx="313560" cy="356040"/>
            </a:xfrm>
          </p:grpSpPr>
          <p:sp>
            <p:nvSpPr>
              <p:cNvPr id="7" name="未知"/>
              <p:cNvSpPr/>
              <p:nvPr/>
            </p:nvSpPr>
            <p:spPr>
              <a:xfrm rot="3869400">
                <a:off x="1292400" y="541080"/>
                <a:ext cx="289080" cy="20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 rot="5914200">
                <a:off x="1286280" y="63504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 rot="6212400">
                <a:off x="1319400" y="57888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 rot="6212400">
                <a:off x="1294920" y="60084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1224360" y="415440"/>
              <a:ext cx="270000" cy="289800"/>
              <a:chOff x="1224360" y="415440"/>
              <a:chExt cx="270000" cy="289800"/>
            </a:xfrm>
          </p:grpSpPr>
          <p:sp>
            <p:nvSpPr>
              <p:cNvPr id="12" name="未知"/>
              <p:cNvSpPr/>
              <p:nvPr/>
            </p:nvSpPr>
            <p:spPr>
              <a:xfrm rot="5910600">
                <a:off x="1230120" y="442800"/>
                <a:ext cx="25812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rot="7955400">
                <a:off x="1223640" y="55656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 rot="8253600">
                <a:off x="1281240" y="50868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未知"/>
              <p:cNvSpPr/>
              <p:nvPr/>
            </p:nvSpPr>
            <p:spPr>
              <a:xfrm rot="8253600">
                <a:off x="1250640" y="51084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1162080" y="327240"/>
              <a:ext cx="342720" cy="347400"/>
              <a:chOff x="1162080" y="327240"/>
              <a:chExt cx="342720" cy="347400"/>
            </a:xfrm>
          </p:grpSpPr>
          <p:sp>
            <p:nvSpPr>
              <p:cNvPr id="17" name="未知"/>
              <p:cNvSpPr/>
              <p:nvPr/>
            </p:nvSpPr>
            <p:spPr>
              <a:xfrm rot="7644000">
                <a:off x="1204200" y="383760"/>
                <a:ext cx="25812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rot="9688800">
                <a:off x="1191240" y="50220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9987000">
                <a:off x="1270800" y="47052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未知"/>
              <p:cNvSpPr/>
              <p:nvPr/>
            </p:nvSpPr>
            <p:spPr>
              <a:xfrm rot="9987000">
                <a:off x="1244880" y="45828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1173960" y="248040"/>
              <a:ext cx="318960" cy="304200"/>
              <a:chOff x="1173960" y="248040"/>
              <a:chExt cx="318960" cy="304200"/>
            </a:xfrm>
          </p:grpSpPr>
          <p:sp>
            <p:nvSpPr>
              <p:cNvPr id="22" name="未知"/>
              <p:cNvSpPr/>
              <p:nvPr/>
            </p:nvSpPr>
            <p:spPr>
              <a:xfrm rot="9694200">
                <a:off x="1204200" y="282960"/>
                <a:ext cx="25812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11739000">
                <a:off x="1182240" y="40212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 rot="12037200">
                <a:off x="1274040" y="40032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 rot="12037200">
                <a:off x="1261440" y="37584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1216080" y="212760"/>
              <a:ext cx="335880" cy="290520"/>
              <a:chOff x="1216080" y="212760"/>
              <a:chExt cx="335880" cy="290520"/>
            </a:xfrm>
          </p:grpSpPr>
          <p:sp>
            <p:nvSpPr>
              <p:cNvPr id="27" name="未知"/>
              <p:cNvSpPr/>
              <p:nvPr/>
            </p:nvSpPr>
            <p:spPr>
              <a:xfrm rot="11763000">
                <a:off x="1239480" y="248400"/>
                <a:ext cx="28908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未知"/>
              <p:cNvSpPr/>
              <p:nvPr/>
            </p:nvSpPr>
            <p:spPr>
              <a:xfrm rot="13807800">
                <a:off x="1208520" y="35100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未知"/>
              <p:cNvSpPr/>
              <p:nvPr/>
            </p:nvSpPr>
            <p:spPr>
              <a:xfrm rot="14106000">
                <a:off x="1299960" y="38772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未知"/>
              <p:cNvSpPr/>
              <p:nvPr/>
            </p:nvSpPr>
            <p:spPr>
              <a:xfrm rot="14106000">
                <a:off x="1301400" y="35964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" name=""/>
            <p:cNvGrpSpPr/>
            <p:nvPr/>
          </p:nvGrpSpPr>
          <p:grpSpPr>
            <a:xfrm>
              <a:off x="1279080" y="173520"/>
              <a:ext cx="344880" cy="360000"/>
              <a:chOff x="1279080" y="173520"/>
              <a:chExt cx="344880" cy="360000"/>
            </a:xfrm>
          </p:grpSpPr>
          <p:sp>
            <p:nvSpPr>
              <p:cNvPr id="32" name="未知"/>
              <p:cNvSpPr/>
              <p:nvPr/>
            </p:nvSpPr>
            <p:spPr>
              <a:xfrm rot="13857000">
                <a:off x="1306800" y="246600"/>
                <a:ext cx="289080" cy="20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未知"/>
              <p:cNvSpPr/>
              <p:nvPr/>
            </p:nvSpPr>
            <p:spPr>
              <a:xfrm rot="15901800">
                <a:off x="1271520" y="34164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未知"/>
              <p:cNvSpPr/>
              <p:nvPr/>
            </p:nvSpPr>
            <p:spPr>
              <a:xfrm rot="16200000">
                <a:off x="1334880" y="40068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未知"/>
              <p:cNvSpPr/>
              <p:nvPr/>
            </p:nvSpPr>
            <p:spPr>
              <a:xfrm rot="16200000">
                <a:off x="1354320" y="37944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1347120" y="461520"/>
              <a:ext cx="342000" cy="302040"/>
              <a:chOff x="1347120" y="461520"/>
              <a:chExt cx="342000" cy="302040"/>
            </a:xfrm>
          </p:grpSpPr>
          <p:sp>
            <p:nvSpPr>
              <p:cNvPr id="37" name="未知"/>
              <p:cNvSpPr/>
              <p:nvPr/>
            </p:nvSpPr>
            <p:spPr>
              <a:xfrm rot="1156800">
                <a:off x="1373400" y="512280"/>
                <a:ext cx="28908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未知"/>
              <p:cNvSpPr/>
              <p:nvPr/>
            </p:nvSpPr>
            <p:spPr>
              <a:xfrm rot="3201600">
                <a:off x="1363680" y="59508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未知"/>
              <p:cNvSpPr/>
              <p:nvPr/>
            </p:nvSpPr>
            <p:spPr>
              <a:xfrm rot="3500400">
                <a:off x="1356840" y="56268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未知"/>
              <p:cNvSpPr/>
              <p:nvPr/>
            </p:nvSpPr>
            <p:spPr>
              <a:xfrm rot="3500400">
                <a:off x="1353240" y="59580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1372320" y="325440"/>
              <a:ext cx="348480" cy="346320"/>
              <a:chOff x="1372320" y="325440"/>
              <a:chExt cx="348480" cy="346320"/>
            </a:xfrm>
          </p:grpSpPr>
          <p:sp>
            <p:nvSpPr>
              <p:cNvPr id="42" name="未知"/>
              <p:cNvSpPr/>
              <p:nvPr/>
            </p:nvSpPr>
            <p:spPr>
              <a:xfrm rot="19110000">
                <a:off x="1417320" y="381240"/>
                <a:ext cx="25812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未知"/>
              <p:cNvSpPr/>
              <p:nvPr/>
            </p:nvSpPr>
            <p:spPr>
              <a:xfrm rot="21154800">
                <a:off x="1396080" y="46908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 rot="21453600">
                <a:off x="1384200" y="49896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rot="21453600">
                <a:off x="1406880" y="52272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1393560" y="252360"/>
              <a:ext cx="303840" cy="318960"/>
              <a:chOff x="1393560" y="252360"/>
              <a:chExt cx="303840" cy="318960"/>
            </a:xfrm>
          </p:grpSpPr>
          <p:sp>
            <p:nvSpPr>
              <p:cNvPr id="47" name="未知"/>
              <p:cNvSpPr/>
              <p:nvPr/>
            </p:nvSpPr>
            <p:spPr>
              <a:xfrm rot="17306400">
                <a:off x="1416240" y="294480"/>
                <a:ext cx="258120" cy="234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 rot="19351200">
                <a:off x="1387440" y="38592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 rot="19650000">
                <a:off x="1395360" y="43704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rot="19650000">
                <a:off x="1425240" y="44676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1325520" y="211680"/>
              <a:ext cx="284040" cy="343080"/>
              <a:chOff x="1325520" y="211680"/>
              <a:chExt cx="284040" cy="343080"/>
            </a:xfrm>
          </p:grpSpPr>
          <p:sp>
            <p:nvSpPr>
              <p:cNvPr id="52" name="未知"/>
              <p:cNvSpPr/>
              <p:nvPr/>
            </p:nvSpPr>
            <p:spPr>
              <a:xfrm rot="15187200">
                <a:off x="1323000" y="275400"/>
                <a:ext cx="28872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rot="17232000">
                <a:off x="1288440" y="364680"/>
                <a:ext cx="33012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 rot="17530800">
                <a:off x="1328760" y="428040"/>
                <a:ext cx="2473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 rot="17530800">
                <a:off x="1355760" y="41580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402560" y="448920"/>
              <a:ext cx="283680" cy="248400"/>
              <a:chOff x="1402560" y="448920"/>
              <a:chExt cx="283680" cy="248400"/>
            </a:xfrm>
          </p:grpSpPr>
          <p:sp>
            <p:nvSpPr>
              <p:cNvPr id="57" name="未知"/>
              <p:cNvSpPr/>
              <p:nvPr/>
            </p:nvSpPr>
            <p:spPr>
              <a:xfrm rot="21405000">
                <a:off x="1415880" y="456120"/>
                <a:ext cx="258120" cy="234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rot="1849200">
                <a:off x="1404720" y="545400"/>
                <a:ext cx="29520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 rot="2147400">
                <a:off x="1387080" y="539640"/>
                <a:ext cx="221400" cy="198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rot="2147400">
                <a:off x="1392480" y="573120"/>
                <a:ext cx="221400" cy="13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237320" y="412920"/>
              <a:ext cx="298800" cy="350640"/>
              <a:chOff x="1237320" y="412920"/>
              <a:chExt cx="298800" cy="350640"/>
            </a:xfrm>
          </p:grpSpPr>
          <p:sp>
            <p:nvSpPr>
              <p:cNvPr id="62" name="未知"/>
              <p:cNvSpPr/>
              <p:nvPr/>
            </p:nvSpPr>
            <p:spPr>
              <a:xfrm rot="4137000">
                <a:off x="1242000" y="486720"/>
                <a:ext cx="28872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 rot="6181800">
                <a:off x="1235520" y="581040"/>
                <a:ext cx="33012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rot="6480000">
                <a:off x="1273680" y="524160"/>
                <a:ext cx="24732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 rot="6480000">
                <a:off x="1247760" y="54432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314360" y="491760"/>
              <a:ext cx="350640" cy="358560"/>
              <a:chOff x="1314360" y="491760"/>
              <a:chExt cx="350640" cy="358560"/>
            </a:xfrm>
          </p:grpSpPr>
          <p:sp>
            <p:nvSpPr>
              <p:cNvPr id="67" name="未知"/>
              <p:cNvSpPr/>
              <p:nvPr/>
            </p:nvSpPr>
            <p:spPr>
              <a:xfrm rot="2797200">
                <a:off x="1344960" y="568440"/>
                <a:ext cx="289080" cy="2091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 rot="4842000">
                <a:off x="1338120" y="657720"/>
                <a:ext cx="3304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 rot="5140200">
                <a:off x="1353240" y="606960"/>
                <a:ext cx="24768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 rot="5140200">
                <a:off x="1335960" y="635400"/>
                <a:ext cx="247680" cy="11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334520" y="396360"/>
              <a:ext cx="221400" cy="247680"/>
              <a:chOff x="1334520" y="396360"/>
              <a:chExt cx="221400" cy="247680"/>
            </a:xfrm>
          </p:grpSpPr>
          <p:sp>
            <p:nvSpPr>
              <p:cNvPr id="72" name=""/>
              <p:cNvSpPr/>
              <p:nvPr/>
            </p:nvSpPr>
            <p:spPr>
              <a:xfrm rot="16200000">
                <a:off x="1321200" y="409320"/>
                <a:ext cx="247680" cy="221400"/>
              </a:xfrm>
              <a:custGeom>
                <a:avLst/>
                <a:gdLst>
                  <a:gd name="textAreaLeft" fmla="*/ 57960 w 247680"/>
                  <a:gd name="textAreaRight" fmla="*/ 189720 w 247680"/>
                  <a:gd name="textAreaTop" fmla="*/ 51840 h 221400"/>
                  <a:gd name="textAreaBottom" fmla="*/ 169560 h 22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200000">
                <a:off x="1357920" y="444600"/>
                <a:ext cx="165240" cy="147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617400" y="67320"/>
            <a:ext cx="799560" cy="819000"/>
            <a:chOff x="617400" y="67320"/>
            <a:chExt cx="799560" cy="819000"/>
          </a:xfrm>
        </p:grpSpPr>
        <p:grpSp>
          <p:nvGrpSpPr>
            <p:cNvPr id="75" name=""/>
            <p:cNvGrpSpPr/>
            <p:nvPr/>
          </p:nvGrpSpPr>
          <p:grpSpPr>
            <a:xfrm>
              <a:off x="809280" y="375480"/>
              <a:ext cx="299880" cy="388800"/>
              <a:chOff x="809280" y="375480"/>
              <a:chExt cx="299880" cy="388800"/>
            </a:xfrm>
          </p:grpSpPr>
          <p:sp>
            <p:nvSpPr>
              <p:cNvPr id="76" name="未知"/>
              <p:cNvSpPr/>
              <p:nvPr/>
            </p:nvSpPr>
            <p:spPr>
              <a:xfrm rot="15870600">
                <a:off x="782280" y="43380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 rot="17915400">
                <a:off x="740160" y="54432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 rot="18213600">
                <a:off x="776160" y="62028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 rot="18213600">
                <a:off x="812880" y="6130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17400" y="223200"/>
              <a:ext cx="440640" cy="399960"/>
              <a:chOff x="617400" y="223200"/>
              <a:chExt cx="440640" cy="399960"/>
            </a:xfrm>
          </p:grpSpPr>
          <p:sp>
            <p:nvSpPr>
              <p:cNvPr id="81" name="未知"/>
              <p:cNvSpPr/>
              <p:nvPr/>
            </p:nvSpPr>
            <p:spPr>
              <a:xfrm rot="19950000">
                <a:off x="662760" y="28944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 rot="394200">
                <a:off x="638280" y="38880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 rot="692400">
                <a:off x="616680" y="40680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 rot="692400">
                <a:off x="640800" y="4402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834480" y="416160"/>
              <a:ext cx="426600" cy="435240"/>
              <a:chOff x="834480" y="416160"/>
              <a:chExt cx="426600" cy="435240"/>
            </a:xfrm>
          </p:grpSpPr>
          <p:sp>
            <p:nvSpPr>
              <p:cNvPr id="86" name="未知"/>
              <p:cNvSpPr/>
              <p:nvPr/>
            </p:nvSpPr>
            <p:spPr>
              <a:xfrm rot="13997400">
                <a:off x="883080" y="49032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 rot="16042200">
                <a:off x="839160" y="61884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 rot="16340400">
                <a:off x="913680" y="68832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 rot="16340400">
                <a:off x="941400" y="66600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853200" y="70200"/>
              <a:ext cx="415080" cy="429480"/>
              <a:chOff x="853200" y="70200"/>
              <a:chExt cx="415080" cy="429480"/>
            </a:xfrm>
          </p:grpSpPr>
          <p:sp>
            <p:nvSpPr>
              <p:cNvPr id="91" name="未知"/>
              <p:cNvSpPr/>
              <p:nvPr/>
            </p:nvSpPr>
            <p:spPr>
              <a:xfrm rot="3545400">
                <a:off x="896040" y="14148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 rot="5590200">
                <a:off x="892800" y="268920"/>
                <a:ext cx="37620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 rot="5888400">
                <a:off x="918720" y="20628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 rot="5888400">
                <a:off x="888840" y="233280"/>
                <a:ext cx="28224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003680" y="343440"/>
              <a:ext cx="413280" cy="343800"/>
              <a:chOff x="1003680" y="343440"/>
              <a:chExt cx="413280" cy="343800"/>
            </a:xfrm>
          </p:grpSpPr>
          <p:sp>
            <p:nvSpPr>
              <p:cNvPr id="96" name="未知"/>
              <p:cNvSpPr/>
              <p:nvPr/>
            </p:nvSpPr>
            <p:spPr>
              <a:xfrm rot="9972600">
                <a:off x="1030320" y="38160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 rot="12017400">
                <a:off x="999720" y="5176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 rot="12315600">
                <a:off x="1123560" y="52524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rot="12315600">
                <a:off x="1107720" y="4942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08120" y="67320"/>
              <a:ext cx="422280" cy="402840"/>
              <a:chOff x="708120" y="67320"/>
              <a:chExt cx="422280" cy="402840"/>
            </a:xfrm>
          </p:grpSpPr>
          <p:sp>
            <p:nvSpPr>
              <p:cNvPr id="101" name="未知"/>
              <p:cNvSpPr/>
              <p:nvPr/>
            </p:nvSpPr>
            <p:spPr>
              <a:xfrm rot="1583400">
                <a:off x="754560" y="12528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 rot="3628800">
                <a:off x="748440" y="241920"/>
                <a:ext cx="37620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 rot="3926400">
                <a:off x="741240" y="20088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 rot="3926400">
                <a:off x="729000" y="240840"/>
                <a:ext cx="28224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955440" y="157680"/>
              <a:ext cx="405720" cy="436680"/>
              <a:chOff x="955440" y="157680"/>
              <a:chExt cx="405720" cy="436680"/>
            </a:xfrm>
          </p:grpSpPr>
          <p:sp>
            <p:nvSpPr>
              <p:cNvPr id="106" name="未知"/>
              <p:cNvSpPr/>
              <p:nvPr/>
            </p:nvSpPr>
            <p:spPr>
              <a:xfrm rot="7062600">
                <a:off x="978840" y="24228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 rot="9108000">
                <a:off x="964080" y="37584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9405600">
                <a:off x="1065960" y="32760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9405600">
                <a:off x="1028880" y="32076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53760" y="344880"/>
              <a:ext cx="392400" cy="430920"/>
              <a:chOff x="653760" y="344880"/>
              <a:chExt cx="392400" cy="430920"/>
            </a:xfrm>
          </p:grpSpPr>
          <p:sp>
            <p:nvSpPr>
              <p:cNvPr id="111" name="未知"/>
              <p:cNvSpPr/>
              <p:nvPr/>
            </p:nvSpPr>
            <p:spPr>
              <a:xfrm rot="17626800">
                <a:off x="675720" y="42660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 rot="19671600">
                <a:off x="639360" y="5302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 rot="19969800">
                <a:off x="641880" y="59004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 rot="19969800">
                <a:off x="679680" y="60156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07400" y="219240"/>
              <a:ext cx="364680" cy="311760"/>
              <a:chOff x="707400" y="219240"/>
              <a:chExt cx="364680" cy="311760"/>
            </a:xfrm>
          </p:grpSpPr>
          <p:sp>
            <p:nvSpPr>
              <p:cNvPr id="116" name="未知"/>
              <p:cNvSpPr/>
              <p:nvPr/>
            </p:nvSpPr>
            <p:spPr>
              <a:xfrm rot="21327000">
                <a:off x="726120" y="23184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 rot="1771800">
                <a:off x="711720" y="34092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 rot="2070000">
                <a:off x="689400" y="33444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 rot="2070000">
                <a:off x="696600" y="37548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014840" y="475200"/>
              <a:ext cx="376920" cy="342720"/>
              <a:chOff x="1014840" y="475200"/>
              <a:chExt cx="376920" cy="342720"/>
            </a:xfrm>
          </p:grpSpPr>
          <p:sp>
            <p:nvSpPr>
              <p:cNvPr id="121" name="未知"/>
              <p:cNvSpPr/>
              <p:nvPr/>
            </p:nvSpPr>
            <p:spPr>
              <a:xfrm rot="11440800">
                <a:off x="1038240" y="50328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 rot="13485600">
                <a:off x="1001160" y="64476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rot="13783800">
                <a:off x="1112760" y="67824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rot="13783800">
                <a:off x="1114560" y="64440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954360" y="219960"/>
              <a:ext cx="444240" cy="420480"/>
              <a:chOff x="954360" y="219960"/>
              <a:chExt cx="444240" cy="420480"/>
            </a:xfrm>
          </p:grpSpPr>
          <p:sp>
            <p:nvSpPr>
              <p:cNvPr id="126" name="未知"/>
              <p:cNvSpPr/>
              <p:nvPr/>
            </p:nvSpPr>
            <p:spPr>
              <a:xfrm rot="8720400">
                <a:off x="999000" y="29628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rot="10765200">
                <a:off x="974880" y="4330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rot="11063400">
                <a:off x="1095120" y="41436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rot="11063400">
                <a:off x="1067760" y="39168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992160" y="107640"/>
              <a:ext cx="281160" cy="367200"/>
              <a:chOff x="992160" y="107640"/>
              <a:chExt cx="281160" cy="367200"/>
            </a:xfrm>
          </p:grpSpPr>
          <p:sp>
            <p:nvSpPr>
              <p:cNvPr id="131" name="未知"/>
              <p:cNvSpPr/>
              <p:nvPr/>
            </p:nvSpPr>
            <p:spPr>
              <a:xfrm rot="5460600">
                <a:off x="951840" y="157680"/>
                <a:ext cx="35316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rot="7505400">
                <a:off x="942840" y="285480"/>
                <a:ext cx="403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7803600">
                <a:off x="1015560" y="219600"/>
                <a:ext cx="30276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rot="7803600">
                <a:off x="977760" y="230400"/>
                <a:ext cx="30276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776160" y="124200"/>
              <a:ext cx="435240" cy="435960"/>
              <a:chOff x="776160" y="124200"/>
              <a:chExt cx="435240" cy="435960"/>
            </a:xfrm>
          </p:grpSpPr>
          <p:sp>
            <p:nvSpPr>
              <p:cNvPr id="136" name="未知"/>
              <p:cNvSpPr/>
              <p:nvPr/>
            </p:nvSpPr>
            <p:spPr>
              <a:xfrm rot="2734200">
                <a:off x="828720" y="19872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 rot="4779000">
                <a:off x="825120" y="32112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 rot="5077200">
                <a:off x="836280" y="26460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 rot="5077200">
                <a:off x="812160" y="29880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91640" y="427680"/>
              <a:ext cx="371880" cy="399960"/>
              <a:chOff x="791640" y="427680"/>
              <a:chExt cx="371880" cy="399960"/>
            </a:xfrm>
          </p:grpSpPr>
          <p:sp>
            <p:nvSpPr>
              <p:cNvPr id="141" name="未知"/>
              <p:cNvSpPr/>
              <p:nvPr/>
            </p:nvSpPr>
            <p:spPr>
              <a:xfrm rot="15159000">
                <a:off x="812880" y="484200"/>
                <a:ext cx="32904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17203800">
                <a:off x="769680" y="605520"/>
                <a:ext cx="37620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17502000">
                <a:off x="821160" y="680040"/>
                <a:ext cx="28188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 rot="17502000">
                <a:off x="855720" y="667800"/>
                <a:ext cx="28224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910440" y="456480"/>
              <a:ext cx="436320" cy="429840"/>
              <a:chOff x="910440" y="456480"/>
              <a:chExt cx="436320" cy="429840"/>
            </a:xfrm>
          </p:grpSpPr>
          <p:sp>
            <p:nvSpPr>
              <p:cNvPr id="146" name="未知"/>
              <p:cNvSpPr/>
              <p:nvPr/>
            </p:nvSpPr>
            <p:spPr>
              <a:xfrm rot="13134600">
                <a:off x="963720" y="527760"/>
                <a:ext cx="3294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5179400">
                <a:off x="920880" y="662040"/>
                <a:ext cx="376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 rot="15477600">
                <a:off x="1010880" y="721800"/>
                <a:ext cx="28224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 rot="15477600">
                <a:off x="1030680" y="693360"/>
                <a:ext cx="28260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44560" y="293400"/>
              <a:ext cx="378000" cy="365040"/>
              <a:chOff x="844560" y="293400"/>
              <a:chExt cx="378000" cy="365040"/>
            </a:xfrm>
          </p:grpSpPr>
          <p:sp>
            <p:nvSpPr>
              <p:cNvPr id="151" name=""/>
              <p:cNvSpPr/>
              <p:nvPr/>
            </p:nvSpPr>
            <p:spPr>
              <a:xfrm rot="15064800">
                <a:off x="892080" y="324360"/>
                <a:ext cx="282240" cy="302760"/>
              </a:xfrm>
              <a:custGeom>
                <a:avLst/>
                <a:gdLst>
                  <a:gd name="textAreaLeft" fmla="*/ 66240 w 282240"/>
                  <a:gd name="textAreaRight" fmla="*/ 216000 w 282240"/>
                  <a:gd name="textAreaTop" fmla="*/ 70920 h 302760"/>
                  <a:gd name="textAreaBottom" fmla="*/ 23184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5064800">
                <a:off x="932400" y="374760"/>
                <a:ext cx="188280" cy="20160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-12600" y="-33480"/>
            <a:ext cx="913320" cy="989640"/>
            <a:chOff x="-12600" y="-33480"/>
            <a:chExt cx="913320" cy="989640"/>
          </a:xfrm>
        </p:grpSpPr>
        <p:grpSp>
          <p:nvGrpSpPr>
            <p:cNvPr id="154" name=""/>
            <p:cNvGrpSpPr/>
            <p:nvPr/>
          </p:nvGrpSpPr>
          <p:grpSpPr>
            <a:xfrm>
              <a:off x="395280" y="168840"/>
              <a:ext cx="498600" cy="500400"/>
              <a:chOff x="395280" y="168840"/>
              <a:chExt cx="498600" cy="500400"/>
            </a:xfrm>
          </p:grpSpPr>
          <p:sp>
            <p:nvSpPr>
              <p:cNvPr id="155" name="未知"/>
              <p:cNvSpPr/>
              <p:nvPr/>
            </p:nvSpPr>
            <p:spPr>
              <a:xfrm rot="18826800">
                <a:off x="452160" y="257760"/>
                <a:ext cx="38448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 rot="20871600">
                <a:off x="418320" y="37908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 rot="21169800">
                <a:off x="403920" y="42696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rot="21169800">
                <a:off x="439200" y="45648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02840" y="78480"/>
              <a:ext cx="404640" cy="450360"/>
              <a:chOff x="402840" y="78480"/>
              <a:chExt cx="404640" cy="450360"/>
            </a:xfrm>
          </p:grpSpPr>
          <p:sp>
            <p:nvSpPr>
              <p:cNvPr id="160" name="未知"/>
              <p:cNvSpPr/>
              <p:nvPr/>
            </p:nvSpPr>
            <p:spPr>
              <a:xfrm rot="17034600">
                <a:off x="412920" y="142560"/>
                <a:ext cx="38412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 rot="19078800">
                <a:off x="369720" y="26892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 rot="19377600">
                <a:off x="385920" y="34524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 rot="19377600">
                <a:off x="429120" y="35388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64880" y="-33480"/>
              <a:ext cx="496440" cy="501120"/>
              <a:chOff x="164880" y="-33480"/>
              <a:chExt cx="496440" cy="501120"/>
            </a:xfrm>
          </p:grpSpPr>
          <p:sp>
            <p:nvSpPr>
              <p:cNvPr id="165" name="未知"/>
              <p:cNvSpPr/>
              <p:nvPr/>
            </p:nvSpPr>
            <p:spPr>
              <a:xfrm rot="13688400">
                <a:off x="220680" y="5580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 rot="15733200">
                <a:off x="171360" y="20232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 rot="16031400">
                <a:off x="263880" y="27936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 rot="16031400">
                <a:off x="291600" y="25056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-6480" y="104760"/>
              <a:ext cx="453240" cy="401400"/>
              <a:chOff x="-6480" y="104760"/>
              <a:chExt cx="453240" cy="401400"/>
            </a:xfrm>
          </p:grpSpPr>
          <p:sp>
            <p:nvSpPr>
              <p:cNvPr id="170" name="未知"/>
              <p:cNvSpPr/>
              <p:nvPr/>
            </p:nvSpPr>
            <p:spPr>
              <a:xfrm rot="10003800">
                <a:off x="25200" y="14436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 rot="12048600">
                <a:off x="-8280" y="30816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 rot="12346800">
                <a:off x="127440" y="31464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 rot="12346800">
                <a:off x="111240" y="27900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46240" y="412200"/>
              <a:ext cx="498960" cy="499680"/>
              <a:chOff x="246240" y="412200"/>
              <a:chExt cx="498960" cy="499680"/>
            </a:xfrm>
          </p:grpSpPr>
          <p:sp>
            <p:nvSpPr>
              <p:cNvPr id="175" name="未知"/>
              <p:cNvSpPr/>
              <p:nvPr/>
            </p:nvSpPr>
            <p:spPr>
              <a:xfrm rot="2727600">
                <a:off x="303480" y="50076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 rot="4772400">
                <a:off x="298080" y="63828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 rot="5070600">
                <a:off x="311760" y="57276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 rot="5070600">
                <a:off x="285480" y="61200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85320" y="438840"/>
              <a:ext cx="347040" cy="404640"/>
              <a:chOff x="85320" y="438840"/>
              <a:chExt cx="347040" cy="404640"/>
            </a:xfrm>
          </p:grpSpPr>
          <p:sp>
            <p:nvSpPr>
              <p:cNvPr id="180" name="未知"/>
              <p:cNvSpPr/>
              <p:nvPr/>
            </p:nvSpPr>
            <p:spPr>
              <a:xfrm rot="5628000">
                <a:off x="66600" y="47988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 rot="7672800">
                <a:off x="57600" y="63540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 rot="7971000">
                <a:off x="137880" y="5626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 rot="7971000">
                <a:off x="94320" y="57096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-10440" y="293760"/>
              <a:ext cx="455760" cy="485280"/>
              <a:chOff x="-10440" y="293760"/>
              <a:chExt cx="455760" cy="485280"/>
            </a:xfrm>
          </p:grpSpPr>
          <p:sp>
            <p:nvSpPr>
              <p:cNvPr id="185" name="未知"/>
              <p:cNvSpPr/>
              <p:nvPr/>
            </p:nvSpPr>
            <p:spPr>
              <a:xfrm rot="6925800">
                <a:off x="24840" y="37548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 rot="8970600">
                <a:off x="10440" y="53604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 rot="9268800">
                <a:off x="117360" y="47880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rot="9268800">
                <a:off x="75960" y="47016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438120" y="327960"/>
              <a:ext cx="462600" cy="415440"/>
              <a:chOff x="438120" y="327960"/>
              <a:chExt cx="462600" cy="415440"/>
            </a:xfrm>
          </p:grpSpPr>
          <p:sp>
            <p:nvSpPr>
              <p:cNvPr id="190" name="未知"/>
              <p:cNvSpPr/>
              <p:nvPr/>
            </p:nvSpPr>
            <p:spPr>
              <a:xfrm rot="20636400">
                <a:off x="478800" y="37440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 rot="1081200">
                <a:off x="456840" y="49536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 rot="1379400">
                <a:off x="430200" y="50220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 rot="1379400">
                <a:off x="448200" y="54612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42360" y="426240"/>
              <a:ext cx="446040" cy="392400"/>
              <a:chOff x="342360" y="426240"/>
              <a:chExt cx="446040" cy="392400"/>
            </a:xfrm>
          </p:grpSpPr>
          <p:sp>
            <p:nvSpPr>
              <p:cNvPr id="195" name="未知"/>
              <p:cNvSpPr/>
              <p:nvPr/>
            </p:nvSpPr>
            <p:spPr>
              <a:xfrm rot="805800">
                <a:off x="372960" y="466560"/>
                <a:ext cx="384120" cy="311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 rot="2850600">
                <a:off x="361080" y="588960"/>
                <a:ext cx="4392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 rot="3148800">
                <a:off x="344880" y="555120"/>
                <a:ext cx="329400" cy="26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 rot="3148800">
                <a:off x="341640" y="602280"/>
                <a:ext cx="32940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-12600" y="194760"/>
              <a:ext cx="529200" cy="494280"/>
              <a:chOff x="-12600" y="194760"/>
              <a:chExt cx="529200" cy="494280"/>
            </a:xfrm>
          </p:grpSpPr>
          <p:sp>
            <p:nvSpPr>
              <p:cNvPr id="200" name="未知"/>
              <p:cNvSpPr/>
              <p:nvPr/>
            </p:nvSpPr>
            <p:spPr>
              <a:xfrm rot="7717200">
                <a:off x="125640" y="203760"/>
                <a:ext cx="252360" cy="475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 rot="9762000">
                <a:off x="116280" y="446040"/>
                <a:ext cx="28872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 rot="10060200">
                <a:off x="189360" y="394200"/>
                <a:ext cx="21636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 rot="10060200">
                <a:off x="159840" y="362880"/>
                <a:ext cx="21636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49120" y="28800"/>
              <a:ext cx="485280" cy="442440"/>
              <a:chOff x="249120" y="28800"/>
              <a:chExt cx="485280" cy="442440"/>
            </a:xfrm>
          </p:grpSpPr>
          <p:sp>
            <p:nvSpPr>
              <p:cNvPr id="205" name="未知"/>
              <p:cNvSpPr/>
              <p:nvPr/>
            </p:nvSpPr>
            <p:spPr>
              <a:xfrm rot="13857000">
                <a:off x="399600" y="11880"/>
                <a:ext cx="183600" cy="475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 rot="15901800">
                <a:off x="353160" y="224280"/>
                <a:ext cx="20988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 rot="16200000">
                <a:off x="430200" y="266760"/>
                <a:ext cx="15732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 rot="16200000">
                <a:off x="473400" y="258120"/>
                <a:ext cx="15768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49760" y="110520"/>
              <a:ext cx="370800" cy="394920"/>
              <a:chOff x="149760" y="110520"/>
              <a:chExt cx="370800" cy="394920"/>
            </a:xfrm>
          </p:grpSpPr>
          <p:sp>
            <p:nvSpPr>
              <p:cNvPr id="210" name="未知"/>
              <p:cNvSpPr/>
              <p:nvPr/>
            </p:nvSpPr>
            <p:spPr>
              <a:xfrm rot="11895600">
                <a:off x="192960" y="146520"/>
                <a:ext cx="28404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 rot="13940400">
                <a:off x="155520" y="303480"/>
                <a:ext cx="3243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 rot="14238600">
                <a:off x="254160" y="335880"/>
                <a:ext cx="2433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 rot="14238600">
                <a:off x="265680" y="304560"/>
                <a:ext cx="2433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51920" y="478440"/>
              <a:ext cx="443520" cy="477720"/>
              <a:chOff x="151920" y="478440"/>
              <a:chExt cx="443520" cy="477720"/>
            </a:xfrm>
          </p:grpSpPr>
          <p:sp>
            <p:nvSpPr>
              <p:cNvPr id="215" name="未知"/>
              <p:cNvSpPr/>
              <p:nvPr/>
            </p:nvSpPr>
            <p:spPr>
              <a:xfrm rot="4063800">
                <a:off x="181440" y="55584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 rot="6108000">
                <a:off x="176040" y="70236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 rot="6406200">
                <a:off x="219960" y="62676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 rot="6406200">
                <a:off x="182520" y="65340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55960" y="297000"/>
              <a:ext cx="329400" cy="329040"/>
              <a:chOff x="255960" y="297000"/>
              <a:chExt cx="329400" cy="329040"/>
            </a:xfrm>
          </p:grpSpPr>
          <p:sp>
            <p:nvSpPr>
              <p:cNvPr id="220" name=""/>
              <p:cNvSpPr/>
              <p:nvPr/>
            </p:nvSpPr>
            <p:spPr>
              <a:xfrm>
                <a:off x="255960" y="297000"/>
                <a:ext cx="329400" cy="329040"/>
              </a:xfrm>
              <a:custGeom>
                <a:avLst/>
                <a:gdLst>
                  <a:gd name="textAreaLeft" fmla="*/ 77400 w 329400"/>
                  <a:gd name="textAreaRight" fmla="*/ 252000 w 329400"/>
                  <a:gd name="textAreaTop" fmla="*/ 77040 h 329040"/>
                  <a:gd name="textAreaBottom" fmla="*/ 252000 h 32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13200" y="345240"/>
                <a:ext cx="219600" cy="2192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1068480" y="789120"/>
            <a:ext cx="7920000" cy="71280"/>
          </a:xfrm>
          <a:prstGeom prst="rect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未知"/>
          <p:cNvSpPr/>
          <p:nvPr/>
        </p:nvSpPr>
        <p:spPr>
          <a:xfrm>
            <a:off x="3059280" y="3716280"/>
            <a:ext cx="6145200" cy="19843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未知"/>
          <p:cNvSpPr/>
          <p:nvPr/>
        </p:nvSpPr>
        <p:spPr>
          <a:xfrm flipH="1" rot="21165600">
            <a:off x="106920" y="3645000"/>
            <a:ext cx="7056360" cy="24163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未知"/>
          <p:cNvSpPr/>
          <p:nvPr/>
        </p:nvSpPr>
        <p:spPr>
          <a:xfrm flipH="1" rot="35400">
            <a:off x="11160" y="3987360"/>
            <a:ext cx="4751280" cy="144144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未知"/>
          <p:cNvSpPr/>
          <p:nvPr/>
        </p:nvSpPr>
        <p:spPr>
          <a:xfrm flipH="1" rot="21165600">
            <a:off x="102600" y="3760920"/>
            <a:ext cx="6835680" cy="234792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未知"/>
          <p:cNvSpPr/>
          <p:nvPr/>
        </p:nvSpPr>
        <p:spPr>
          <a:xfrm>
            <a:off x="2556000" y="4005360"/>
            <a:ext cx="6648480" cy="223200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未知"/>
          <p:cNvSpPr/>
          <p:nvPr/>
        </p:nvSpPr>
        <p:spPr>
          <a:xfrm rot="20833200">
            <a:off x="4287960" y="4170240"/>
            <a:ext cx="5038560" cy="10083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ffffff">
                  <a:alpha val="43137"/>
                </a:srgbClr>
              </a:gs>
            </a:gsLst>
            <a:lin ang="115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未知"/>
          <p:cNvSpPr/>
          <p:nvPr/>
        </p:nvSpPr>
        <p:spPr>
          <a:xfrm flipH="1" rot="133200">
            <a:off x="-35280" y="4722480"/>
            <a:ext cx="5759280" cy="153180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9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未知"/>
          <p:cNvSpPr/>
          <p:nvPr/>
        </p:nvSpPr>
        <p:spPr>
          <a:xfrm>
            <a:off x="2516040" y="3949560"/>
            <a:ext cx="6648480" cy="2216160"/>
          </a:xfrm>
          <a:custGeom>
            <a:avLst/>
            <a:gdLst/>
            <a:ahLst/>
            <a:rect l="l" t="t" r="r" b="b"/>
            <a:pathLst>
              <a:path w="5808" h="1522">
                <a:moveTo>
                  <a:pt x="5793" y="0"/>
                </a:moveTo>
                <a:cubicBezTo>
                  <a:pt x="5793" y="0"/>
                  <a:pt x="4484" y="1130"/>
                  <a:pt x="1988" y="1408"/>
                </a:cubicBezTo>
                <a:cubicBezTo>
                  <a:pt x="682" y="1504"/>
                  <a:pt x="0" y="1226"/>
                  <a:pt x="0" y="1226"/>
                </a:cubicBezTo>
                <a:lnTo>
                  <a:pt x="0" y="1245"/>
                </a:lnTo>
                <a:cubicBezTo>
                  <a:pt x="246" y="1293"/>
                  <a:pt x="889" y="1522"/>
                  <a:pt x="1479" y="1514"/>
                </a:cubicBezTo>
                <a:cubicBezTo>
                  <a:pt x="2069" y="1506"/>
                  <a:pt x="2821" y="1432"/>
                  <a:pt x="3543" y="1197"/>
                </a:cubicBezTo>
                <a:cubicBezTo>
                  <a:pt x="5089" y="679"/>
                  <a:pt x="5434" y="303"/>
                  <a:pt x="5808" y="103"/>
                </a:cubicBezTo>
                <a:lnTo>
                  <a:pt x="57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313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rcRect l="398" t="4698" r="414" b="4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rcRect l="414" t="4698" r="398" b="4717"/>
          <a:stretch/>
        </p:blipFill>
        <p:spPr>
          <a:xfrm>
            <a:off x="-34920" y="-2556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2894400" y="2248920"/>
            <a:ext cx="740520" cy="847440"/>
            <a:chOff x="2894400" y="2248920"/>
            <a:chExt cx="740520" cy="847440"/>
          </a:xfrm>
        </p:grpSpPr>
        <p:grpSp>
          <p:nvGrpSpPr>
            <p:cNvPr id="272" name=""/>
            <p:cNvGrpSpPr/>
            <p:nvPr/>
          </p:nvGrpSpPr>
          <p:grpSpPr>
            <a:xfrm>
              <a:off x="3053160" y="2614680"/>
              <a:ext cx="410040" cy="442800"/>
              <a:chOff x="3053160" y="2614680"/>
              <a:chExt cx="410040" cy="442800"/>
            </a:xfrm>
          </p:grpSpPr>
          <p:sp>
            <p:nvSpPr>
              <p:cNvPr id="273" name="未知"/>
              <p:cNvSpPr/>
              <p:nvPr/>
            </p:nvSpPr>
            <p:spPr>
              <a:xfrm rot="3869400">
                <a:off x="3081240" y="26931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 rot="5914200">
                <a:off x="3075840" y="28213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 rot="6212400">
                <a:off x="3112920" y="275256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 rot="6212400">
                <a:off x="3080880" y="277920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983680" y="2535840"/>
              <a:ext cx="335520" cy="391320"/>
              <a:chOff x="2983680" y="2535840"/>
              <a:chExt cx="335520" cy="391320"/>
            </a:xfrm>
          </p:grpSpPr>
          <p:sp>
            <p:nvSpPr>
              <p:cNvPr id="278" name="未知"/>
              <p:cNvSpPr/>
              <p:nvPr/>
            </p:nvSpPr>
            <p:spPr>
              <a:xfrm rot="5910600">
                <a:off x="2974680" y="258804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 rot="7955400">
                <a:off x="2964960" y="27277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 rot="8253600">
                <a:off x="3045600" y="266400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 rot="8253600">
                <a:off x="3005640" y="26683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94400" y="2431800"/>
              <a:ext cx="442080" cy="454320"/>
              <a:chOff x="2894400" y="2431800"/>
              <a:chExt cx="442080" cy="454320"/>
            </a:xfrm>
          </p:grpSpPr>
          <p:sp>
            <p:nvSpPr>
              <p:cNvPr id="283" name="未知"/>
              <p:cNvSpPr/>
              <p:nvPr/>
            </p:nvSpPr>
            <p:spPr>
              <a:xfrm rot="7644000">
                <a:off x="2939040" y="251532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 rot="9688800">
                <a:off x="2921040" y="26611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 rot="9987000">
                <a:off x="3030840" y="262008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 rot="9987000">
                <a:off x="2995560" y="26053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903760" y="2342880"/>
              <a:ext cx="428400" cy="383400"/>
              <a:chOff x="2903760" y="2342880"/>
              <a:chExt cx="428400" cy="383400"/>
            </a:xfrm>
          </p:grpSpPr>
          <p:sp>
            <p:nvSpPr>
              <p:cNvPr id="288" name="未知"/>
              <p:cNvSpPr/>
              <p:nvPr/>
            </p:nvSpPr>
            <p:spPr>
              <a:xfrm rot="9694200">
                <a:off x="2939760" y="239112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 rot="11739000">
                <a:off x="2909880" y="253764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 rot="12037200">
                <a:off x="3034800" y="253800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 rot="12037200">
                <a:off x="3016080" y="250668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977200" y="2292120"/>
              <a:ext cx="418680" cy="372600"/>
              <a:chOff x="2977200" y="2292120"/>
              <a:chExt cx="418680" cy="372600"/>
            </a:xfrm>
          </p:grpSpPr>
          <p:sp>
            <p:nvSpPr>
              <p:cNvPr id="293" name="未知"/>
              <p:cNvSpPr/>
              <p:nvPr/>
            </p:nvSpPr>
            <p:spPr>
              <a:xfrm rot="11763000">
                <a:off x="3009960" y="23349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 rot="13807800">
                <a:off x="2970360" y="24753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 rot="14106000">
                <a:off x="3084120" y="251820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 rot="14106000">
                <a:off x="3088800" y="24829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054600" y="2248920"/>
              <a:ext cx="444600" cy="454680"/>
              <a:chOff x="3054600" y="2248920"/>
              <a:chExt cx="444600" cy="454680"/>
            </a:xfrm>
          </p:grpSpPr>
          <p:sp>
            <p:nvSpPr>
              <p:cNvPr id="298" name="未知"/>
              <p:cNvSpPr/>
              <p:nvPr/>
            </p:nvSpPr>
            <p:spPr>
              <a:xfrm rot="13857000">
                <a:off x="3100320" y="23331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 rot="15901800">
                <a:off x="3055680" y="24627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 rot="16200000">
                <a:off x="3136320" y="253512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 rot="16200000">
                <a:off x="3162240" y="250956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153960" y="2607120"/>
              <a:ext cx="428040" cy="386640"/>
              <a:chOff x="3153960" y="2607120"/>
              <a:chExt cx="428040" cy="386640"/>
            </a:xfrm>
          </p:grpSpPr>
          <p:sp>
            <p:nvSpPr>
              <p:cNvPr id="303" name="未知"/>
              <p:cNvSpPr/>
              <p:nvPr/>
            </p:nvSpPr>
            <p:spPr>
              <a:xfrm rot="1156800">
                <a:off x="3191400" y="265716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rot="3201600">
                <a:off x="3180960" y="277128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 rot="3500400">
                <a:off x="3169800" y="273348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 rot="3500400">
                <a:off x="3163680" y="27763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180960" y="2431800"/>
              <a:ext cx="453960" cy="448200"/>
              <a:chOff x="3180960" y="2431800"/>
              <a:chExt cx="453960" cy="448200"/>
            </a:xfrm>
          </p:grpSpPr>
          <p:sp>
            <p:nvSpPr>
              <p:cNvPr id="308" name="未知"/>
              <p:cNvSpPr/>
              <p:nvPr/>
            </p:nvSpPr>
            <p:spPr>
              <a:xfrm rot="19110000">
                <a:off x="3231360" y="251244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 rot="21154800">
                <a:off x="3202200" y="26193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 rot="21453600">
                <a:off x="3186000" y="265680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 rot="21453600">
                <a:off x="3216600" y="268560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214440" y="2336400"/>
              <a:ext cx="383400" cy="425520"/>
              <a:chOff x="3214440" y="2336400"/>
              <a:chExt cx="383400" cy="425520"/>
            </a:xfrm>
          </p:grpSpPr>
          <p:sp>
            <p:nvSpPr>
              <p:cNvPr id="313" name="未知"/>
              <p:cNvSpPr/>
              <p:nvPr/>
            </p:nvSpPr>
            <p:spPr>
              <a:xfrm rot="17306400">
                <a:off x="3229560" y="240588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 rot="19351200">
                <a:off x="3190680" y="251712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 rot="19650000">
                <a:off x="3200400" y="258372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 rot="19650000">
                <a:off x="3239280" y="259380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110400" y="2300760"/>
              <a:ext cx="376560" cy="424440"/>
              <a:chOff x="3110400" y="2300760"/>
              <a:chExt cx="376560" cy="424440"/>
            </a:xfrm>
          </p:grpSpPr>
          <p:sp>
            <p:nvSpPr>
              <p:cNvPr id="318" name="未知"/>
              <p:cNvSpPr/>
              <p:nvPr/>
            </p:nvSpPr>
            <p:spPr>
              <a:xfrm rot="15187200">
                <a:off x="3121920" y="236772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 rot="17232000">
                <a:off x="3077640" y="24897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 rot="17530800">
                <a:off x="3130560" y="256824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 rot="17530800">
                <a:off x="3165480" y="255492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212280" y="2594520"/>
              <a:ext cx="384480" cy="306360"/>
              <a:chOff x="3212280" y="2594520"/>
              <a:chExt cx="384480" cy="306360"/>
            </a:xfrm>
          </p:grpSpPr>
          <p:sp>
            <p:nvSpPr>
              <p:cNvPr id="323" name="未知"/>
              <p:cNvSpPr/>
              <p:nvPr/>
            </p:nvSpPr>
            <p:spPr>
              <a:xfrm rot="21405000">
                <a:off x="3228840" y="2604240"/>
                <a:ext cx="352800" cy="286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 rot="1849200">
                <a:off x="3213000" y="271296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 rot="2147400">
                <a:off x="3190680" y="2702160"/>
                <a:ext cx="30240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 rot="2147400">
                <a:off x="3199320" y="274464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992680" y="2549880"/>
              <a:ext cx="393840" cy="434520"/>
              <a:chOff x="2992680" y="2549880"/>
              <a:chExt cx="393840" cy="434520"/>
            </a:xfrm>
          </p:grpSpPr>
          <p:sp>
            <p:nvSpPr>
              <p:cNvPr id="328" name="未知"/>
              <p:cNvSpPr/>
              <p:nvPr/>
            </p:nvSpPr>
            <p:spPr>
              <a:xfrm rot="4137000">
                <a:off x="3012840" y="262512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 rot="6181800">
                <a:off x="3007080" y="275508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 rot="6480000">
                <a:off x="3049920" y="268560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 rot="6480000">
                <a:off x="3016080" y="270936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104280" y="2643120"/>
              <a:ext cx="450720" cy="453240"/>
              <a:chOff x="3104280" y="2643120"/>
              <a:chExt cx="450720" cy="453240"/>
            </a:xfrm>
          </p:grpSpPr>
          <p:sp>
            <p:nvSpPr>
              <p:cNvPr id="333" name="未知"/>
              <p:cNvSpPr/>
              <p:nvPr/>
            </p:nvSpPr>
            <p:spPr>
              <a:xfrm rot="2797200">
                <a:off x="3152880" y="2726640"/>
                <a:ext cx="353160" cy="286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 rot="4842000">
                <a:off x="3146760" y="2848680"/>
                <a:ext cx="403560" cy="32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 rot="5140200">
                <a:off x="3161880" y="2787480"/>
                <a:ext cx="302760" cy="24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 rot="5140200">
                <a:off x="3138120" y="2822760"/>
                <a:ext cx="302760" cy="16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3117960" y="2530800"/>
              <a:ext cx="302760" cy="302760"/>
              <a:chOff x="3117960" y="2530800"/>
              <a:chExt cx="302760" cy="302760"/>
            </a:xfrm>
          </p:grpSpPr>
          <p:sp>
            <p:nvSpPr>
              <p:cNvPr id="338" name=""/>
              <p:cNvSpPr/>
              <p:nvPr/>
            </p:nvSpPr>
            <p:spPr>
              <a:xfrm rot="16200000">
                <a:off x="3117960" y="2530800"/>
                <a:ext cx="302760" cy="302760"/>
              </a:xfrm>
              <a:custGeom>
                <a:avLst/>
                <a:gdLst>
                  <a:gd name="textAreaLeft" fmla="*/ 70920 w 302760"/>
                  <a:gd name="textAreaRight" fmla="*/ 231840 w 302760"/>
                  <a:gd name="textAreaTop" fmla="*/ 70920 h 302760"/>
                  <a:gd name="textAreaBottom" fmla="*/ 23184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200000">
                <a:off x="3161880" y="2579040"/>
                <a:ext cx="201960" cy="201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2437560" y="2459880"/>
            <a:ext cx="765720" cy="780120"/>
            <a:chOff x="2437560" y="2459880"/>
            <a:chExt cx="765720" cy="780120"/>
          </a:xfrm>
        </p:grpSpPr>
        <p:grpSp>
          <p:nvGrpSpPr>
            <p:cNvPr id="341" name=""/>
            <p:cNvGrpSpPr/>
            <p:nvPr/>
          </p:nvGrpSpPr>
          <p:grpSpPr>
            <a:xfrm>
              <a:off x="2742480" y="2705040"/>
              <a:ext cx="398880" cy="356760"/>
              <a:chOff x="2742480" y="2705040"/>
              <a:chExt cx="398880" cy="356760"/>
            </a:xfrm>
          </p:grpSpPr>
          <p:sp>
            <p:nvSpPr>
              <p:cNvPr id="342" name="未知"/>
              <p:cNvSpPr/>
              <p:nvPr/>
            </p:nvSpPr>
            <p:spPr>
              <a:xfrm rot="9707400">
                <a:off x="2775600" y="274968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 rot="11752200">
                <a:off x="2747880" y="288648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 rot="12051000">
                <a:off x="2864520" y="288648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 rot="12051000">
                <a:off x="2847960" y="285768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614680" y="2815920"/>
              <a:ext cx="416880" cy="424080"/>
              <a:chOff x="2614680" y="2815920"/>
              <a:chExt cx="416880" cy="424080"/>
            </a:xfrm>
          </p:grpSpPr>
          <p:sp>
            <p:nvSpPr>
              <p:cNvPr id="347" name="未知"/>
              <p:cNvSpPr/>
              <p:nvPr/>
            </p:nvSpPr>
            <p:spPr>
              <a:xfrm rot="13786800">
                <a:off x="2658240" y="28944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 rot="15831600">
                <a:off x="2615760" y="30157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 rot="16129800">
                <a:off x="2692440" y="308232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 rot="16129800">
                <a:off x="2715840" y="30585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778480" y="2574000"/>
              <a:ext cx="417240" cy="424080"/>
              <a:chOff x="2778480" y="2574000"/>
              <a:chExt cx="417240" cy="424080"/>
            </a:xfrm>
          </p:grpSpPr>
          <p:sp>
            <p:nvSpPr>
              <p:cNvPr id="352" name="未知"/>
              <p:cNvSpPr/>
              <p:nvPr/>
            </p:nvSpPr>
            <p:spPr>
              <a:xfrm rot="7834200">
                <a:off x="2822400" y="265248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 rot="9879000">
                <a:off x="2804760" y="278820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 rot="10177200">
                <a:off x="2909160" y="275328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 rot="10177200">
                <a:off x="2877480" y="27381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437560" y="2647440"/>
              <a:ext cx="422640" cy="420480"/>
              <a:chOff x="2437560" y="2647440"/>
              <a:chExt cx="422640" cy="420480"/>
            </a:xfrm>
          </p:grpSpPr>
          <p:sp>
            <p:nvSpPr>
              <p:cNvPr id="357" name="未知"/>
              <p:cNvSpPr/>
              <p:nvPr/>
            </p:nvSpPr>
            <p:spPr>
              <a:xfrm rot="18982200">
                <a:off x="2484000" y="272412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 rot="21027600">
                <a:off x="2456640" y="282348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 rot="21325800">
                <a:off x="2442960" y="286092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 rot="21325800">
                <a:off x="2472120" y="288684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650680" y="2459880"/>
              <a:ext cx="385920" cy="414000"/>
              <a:chOff x="2650680" y="2459880"/>
              <a:chExt cx="385920" cy="414000"/>
            </a:xfrm>
          </p:grpSpPr>
          <p:sp>
            <p:nvSpPr>
              <p:cNvPr id="362" name="未知"/>
              <p:cNvSpPr/>
              <p:nvPr/>
            </p:nvSpPr>
            <p:spPr>
              <a:xfrm rot="3809400">
                <a:off x="2678760" y="253296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 rot="5854200">
                <a:off x="2673720" y="265284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 rot="6153000">
                <a:off x="2707560" y="258876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 rot="6153000">
                <a:off x="2677320" y="26139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490840" y="2800080"/>
              <a:ext cx="337320" cy="382680"/>
              <a:chOff x="2490840" y="2800080"/>
              <a:chExt cx="337320" cy="382680"/>
            </a:xfrm>
          </p:grpSpPr>
          <p:sp>
            <p:nvSpPr>
              <p:cNvPr id="367" name="未知"/>
              <p:cNvSpPr/>
              <p:nvPr/>
            </p:nvSpPr>
            <p:spPr>
              <a:xfrm rot="17020800">
                <a:off x="2494800" y="285768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 rot="19065000">
                <a:off x="2457720" y="296208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 rot="19363800">
                <a:off x="2471760" y="302760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 rot="19363800">
                <a:off x="2507760" y="303408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525040" y="2576160"/>
              <a:ext cx="387360" cy="343080"/>
              <a:chOff x="2525040" y="2576160"/>
              <a:chExt cx="387360" cy="343080"/>
            </a:xfrm>
          </p:grpSpPr>
          <p:sp>
            <p:nvSpPr>
              <p:cNvPr id="372" name="未知"/>
              <p:cNvSpPr/>
              <p:nvPr/>
            </p:nvSpPr>
            <p:spPr>
              <a:xfrm rot="899400">
                <a:off x="2553840" y="261396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 rot="2944800">
                <a:off x="2543760" y="271908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 rot="3243000">
                <a:off x="2530440" y="268812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rot="3243000">
                <a:off x="2526840" y="272880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765880" y="2820240"/>
              <a:ext cx="374400" cy="325440"/>
              <a:chOff x="2765880" y="2820240"/>
              <a:chExt cx="374400" cy="325440"/>
            </a:xfrm>
          </p:grpSpPr>
          <p:sp>
            <p:nvSpPr>
              <p:cNvPr id="377" name="未知"/>
              <p:cNvSpPr/>
              <p:nvPr/>
            </p:nvSpPr>
            <p:spPr>
              <a:xfrm rot="11463600">
                <a:off x="2788200" y="28494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 rot="13508400">
                <a:off x="2752560" y="29815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 rot="13807200">
                <a:off x="2861640" y="301644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 rot="13807200">
                <a:off x="2862720" y="298368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2590920" y="2795400"/>
              <a:ext cx="353160" cy="396720"/>
              <a:chOff x="2590920" y="2795400"/>
              <a:chExt cx="353160" cy="396720"/>
            </a:xfrm>
          </p:grpSpPr>
          <p:sp>
            <p:nvSpPr>
              <p:cNvPr id="382" name="未知"/>
              <p:cNvSpPr/>
              <p:nvPr/>
            </p:nvSpPr>
            <p:spPr>
              <a:xfrm rot="15164400">
                <a:off x="2602440" y="28584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 rot="17208600">
                <a:off x="2560680" y="29725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 rot="17506800">
                <a:off x="2610720" y="304560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 rot="17506800">
                <a:off x="2643120" y="30333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31400" y="2462040"/>
              <a:ext cx="279000" cy="355320"/>
              <a:chOff x="2831400" y="2462040"/>
              <a:chExt cx="279000" cy="355320"/>
            </a:xfrm>
          </p:grpSpPr>
          <p:sp>
            <p:nvSpPr>
              <p:cNvPr id="387" name="未知"/>
              <p:cNvSpPr/>
              <p:nvPr/>
            </p:nvSpPr>
            <p:spPr>
              <a:xfrm rot="5278200">
                <a:off x="2806200" y="250632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rot="7323000">
                <a:off x="2799000" y="26341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 rot="7621200">
                <a:off x="2861640" y="257004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 rot="7621200">
                <a:off x="2825640" y="258120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556000" y="2507040"/>
              <a:ext cx="423000" cy="419760"/>
              <a:chOff x="2556000" y="2507040"/>
              <a:chExt cx="423000" cy="419760"/>
            </a:xfrm>
          </p:grpSpPr>
          <p:sp>
            <p:nvSpPr>
              <p:cNvPr id="392" name="未知"/>
              <p:cNvSpPr/>
              <p:nvPr/>
            </p:nvSpPr>
            <p:spPr>
              <a:xfrm rot="2557200">
                <a:off x="2602440" y="258300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 rot="4602600">
                <a:off x="2597040" y="269568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 rot="4900200">
                <a:off x="2607120" y="264096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rot="4900200">
                <a:off x="2586600" y="26751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448000" y="2628720"/>
              <a:ext cx="382320" cy="328680"/>
              <a:chOff x="2448000" y="2628720"/>
              <a:chExt cx="382320" cy="328680"/>
            </a:xfrm>
          </p:grpSpPr>
          <p:sp>
            <p:nvSpPr>
              <p:cNvPr id="397" name="未知"/>
              <p:cNvSpPr/>
              <p:nvPr/>
            </p:nvSpPr>
            <p:spPr>
              <a:xfrm rot="20898000">
                <a:off x="2476800" y="265932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未知"/>
              <p:cNvSpPr/>
              <p:nvPr/>
            </p:nvSpPr>
            <p:spPr>
              <a:xfrm rot="1342200">
                <a:off x="2459520" y="275976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rot="1640400">
                <a:off x="2437200" y="275976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 rot="1640400">
                <a:off x="2450160" y="27975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514960" y="2694600"/>
              <a:ext cx="403200" cy="421560"/>
              <a:chOff x="2514960" y="2694600"/>
              <a:chExt cx="403200" cy="421560"/>
            </a:xfrm>
          </p:grpSpPr>
          <p:sp>
            <p:nvSpPr>
              <p:cNvPr id="402" name="未知"/>
              <p:cNvSpPr/>
              <p:nvPr/>
            </p:nvSpPr>
            <p:spPr>
              <a:xfrm rot="18171600">
                <a:off x="2551680" y="277164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 rot="20216400">
                <a:off x="2519640" y="287352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未知"/>
              <p:cNvSpPr/>
              <p:nvPr/>
            </p:nvSpPr>
            <p:spPr>
              <a:xfrm rot="20514000">
                <a:off x="2514960" y="292392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未知"/>
              <p:cNvSpPr/>
              <p:nvPr/>
            </p:nvSpPr>
            <p:spPr>
              <a:xfrm rot="20514000">
                <a:off x="2548800" y="294228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2784600" y="2654280"/>
              <a:ext cx="418680" cy="396000"/>
              <a:chOff x="2784600" y="2654280"/>
              <a:chExt cx="418680" cy="396000"/>
            </a:xfrm>
          </p:grpSpPr>
          <p:sp>
            <p:nvSpPr>
              <p:cNvPr id="407" name="未知"/>
              <p:cNvSpPr/>
              <p:nvPr/>
            </p:nvSpPr>
            <p:spPr>
              <a:xfrm rot="8996400">
                <a:off x="2829240" y="2718360"/>
                <a:ext cx="32904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未知"/>
              <p:cNvSpPr/>
              <p:nvPr/>
            </p:nvSpPr>
            <p:spPr>
              <a:xfrm rot="11040600">
                <a:off x="2805120" y="2855520"/>
                <a:ext cx="37620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未知"/>
              <p:cNvSpPr/>
              <p:nvPr/>
            </p:nvSpPr>
            <p:spPr>
              <a:xfrm rot="11338800">
                <a:off x="2919240" y="2841840"/>
                <a:ext cx="28188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 rot="11338800">
                <a:off x="2896200" y="2817000"/>
                <a:ext cx="28224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2815920" y="2496240"/>
              <a:ext cx="385200" cy="413280"/>
              <a:chOff x="2815920" y="2496240"/>
              <a:chExt cx="385200" cy="413280"/>
            </a:xfrm>
          </p:grpSpPr>
          <p:sp>
            <p:nvSpPr>
              <p:cNvPr id="412" name="未知"/>
              <p:cNvSpPr/>
              <p:nvPr/>
            </p:nvSpPr>
            <p:spPr>
              <a:xfrm rot="6971400">
                <a:off x="2843640" y="2568960"/>
                <a:ext cx="329400" cy="2671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 rot="9016200">
                <a:off x="2830680" y="2702880"/>
                <a:ext cx="376560" cy="30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 rot="9314400">
                <a:off x="2923200" y="2655000"/>
                <a:ext cx="282240" cy="22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 rot="9314400">
                <a:off x="2888280" y="2648160"/>
                <a:ext cx="282600" cy="15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643480" y="2643120"/>
              <a:ext cx="388440" cy="388080"/>
              <a:chOff x="2643480" y="2643120"/>
              <a:chExt cx="388440" cy="388080"/>
            </a:xfrm>
          </p:grpSpPr>
          <p:sp>
            <p:nvSpPr>
              <p:cNvPr id="417" name=""/>
              <p:cNvSpPr/>
              <p:nvPr/>
            </p:nvSpPr>
            <p:spPr>
              <a:xfrm rot="8901600">
                <a:off x="2696400" y="2695680"/>
                <a:ext cx="282240" cy="282240"/>
              </a:xfrm>
              <a:custGeom>
                <a:avLst/>
                <a:gdLst>
                  <a:gd name="textAreaLeft" fmla="*/ 66240 w 282240"/>
                  <a:gd name="textAreaRight" fmla="*/ 216000 w 282240"/>
                  <a:gd name="textAreaTop" fmla="*/ 66240 h 282240"/>
                  <a:gd name="textAreaBottom" fmla="*/ 216000 h 28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8901600">
                <a:off x="2744640" y="2748600"/>
                <a:ext cx="188280" cy="18792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614600" y="2347200"/>
            <a:ext cx="1270080" cy="1087920"/>
            <a:chOff x="1614600" y="2347200"/>
            <a:chExt cx="1270080" cy="1087920"/>
          </a:xfrm>
        </p:grpSpPr>
        <p:grpSp>
          <p:nvGrpSpPr>
            <p:cNvPr id="420" name=""/>
            <p:cNvGrpSpPr/>
            <p:nvPr/>
          </p:nvGrpSpPr>
          <p:grpSpPr>
            <a:xfrm>
              <a:off x="1866240" y="2542320"/>
              <a:ext cx="557640" cy="490680"/>
              <a:chOff x="1866240" y="2542320"/>
              <a:chExt cx="557640" cy="490680"/>
            </a:xfrm>
          </p:grpSpPr>
          <p:sp>
            <p:nvSpPr>
              <p:cNvPr id="421" name="未知"/>
              <p:cNvSpPr/>
              <p:nvPr/>
            </p:nvSpPr>
            <p:spPr>
              <a:xfrm rot="805800">
                <a:off x="1904400" y="2592720"/>
                <a:ext cx="48060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 rot="2850600">
                <a:off x="1888920" y="2745360"/>
                <a:ext cx="54900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 rot="3148800">
                <a:off x="1868760" y="270252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未知"/>
              <p:cNvSpPr/>
              <p:nvPr/>
            </p:nvSpPr>
            <p:spPr>
              <a:xfrm rot="3148800">
                <a:off x="1864800" y="276156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173680" y="2421720"/>
              <a:ext cx="456840" cy="543960"/>
              <a:chOff x="2173680" y="2421720"/>
              <a:chExt cx="456840" cy="543960"/>
            </a:xfrm>
          </p:grpSpPr>
          <p:sp>
            <p:nvSpPr>
              <p:cNvPr id="426" name="未知"/>
              <p:cNvSpPr/>
              <p:nvPr/>
            </p:nvSpPr>
            <p:spPr>
              <a:xfrm rot="4885200">
                <a:off x="2161800" y="2503080"/>
                <a:ext cx="48060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 rot="6929400">
                <a:off x="2152440" y="2685960"/>
                <a:ext cx="54936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未知"/>
              <p:cNvSpPr/>
              <p:nvPr/>
            </p:nvSpPr>
            <p:spPr>
              <a:xfrm rot="7227600">
                <a:off x="2232360" y="2591280"/>
                <a:ext cx="41220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未知"/>
              <p:cNvSpPr/>
              <p:nvPr/>
            </p:nvSpPr>
            <p:spPr>
              <a:xfrm rot="7227600">
                <a:off x="2181240" y="2612880"/>
                <a:ext cx="41220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1719360" y="2613600"/>
              <a:ext cx="581400" cy="518040"/>
              <a:chOff x="1719360" y="2613600"/>
              <a:chExt cx="581400" cy="518040"/>
            </a:xfrm>
          </p:grpSpPr>
          <p:sp>
            <p:nvSpPr>
              <p:cNvPr id="431" name="未知"/>
              <p:cNvSpPr/>
              <p:nvPr/>
            </p:nvSpPr>
            <p:spPr>
              <a:xfrm rot="20532600">
                <a:off x="1771920" y="2677680"/>
                <a:ext cx="48060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 rot="977400">
                <a:off x="1743840" y="282348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未知"/>
              <p:cNvSpPr/>
              <p:nvPr/>
            </p:nvSpPr>
            <p:spPr>
              <a:xfrm rot="1275600">
                <a:off x="1711080" y="283464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未知"/>
              <p:cNvSpPr/>
              <p:nvPr/>
            </p:nvSpPr>
            <p:spPr>
              <a:xfrm rot="1275600">
                <a:off x="1735200" y="288756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211840" y="2802240"/>
              <a:ext cx="559080" cy="480960"/>
              <a:chOff x="2211840" y="2802240"/>
              <a:chExt cx="559080" cy="480960"/>
            </a:xfrm>
          </p:grpSpPr>
          <p:sp>
            <p:nvSpPr>
              <p:cNvPr id="436" name="未知"/>
              <p:cNvSpPr/>
              <p:nvPr/>
            </p:nvSpPr>
            <p:spPr>
              <a:xfrm rot="10080600">
                <a:off x="2247120" y="2847600"/>
                <a:ext cx="48060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12125400">
                <a:off x="2204280" y="304560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未知"/>
              <p:cNvSpPr/>
              <p:nvPr/>
            </p:nvSpPr>
            <p:spPr>
              <a:xfrm rot="12423600">
                <a:off x="2373840" y="305676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未知"/>
              <p:cNvSpPr/>
              <p:nvPr/>
            </p:nvSpPr>
            <p:spPr>
              <a:xfrm rot="12423600">
                <a:off x="2354400" y="301248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1883520" y="2873880"/>
              <a:ext cx="431280" cy="513720"/>
              <a:chOff x="1883520" y="2873880"/>
              <a:chExt cx="431280" cy="513720"/>
            </a:xfrm>
          </p:grpSpPr>
          <p:sp>
            <p:nvSpPr>
              <p:cNvPr id="441" name="未知"/>
              <p:cNvSpPr/>
              <p:nvPr/>
            </p:nvSpPr>
            <p:spPr>
              <a:xfrm rot="16507800">
                <a:off x="1858680" y="2935800"/>
                <a:ext cx="48060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未知"/>
              <p:cNvSpPr/>
              <p:nvPr/>
            </p:nvSpPr>
            <p:spPr>
              <a:xfrm rot="18552600">
                <a:off x="1802160" y="3092040"/>
                <a:ext cx="54936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未知"/>
              <p:cNvSpPr/>
              <p:nvPr/>
            </p:nvSpPr>
            <p:spPr>
              <a:xfrm rot="18850800">
                <a:off x="1836000" y="3193200"/>
                <a:ext cx="41220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未知"/>
              <p:cNvSpPr/>
              <p:nvPr/>
            </p:nvSpPr>
            <p:spPr>
              <a:xfrm rot="18850800">
                <a:off x="1889640" y="3195000"/>
                <a:ext cx="41220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268720" y="2561040"/>
              <a:ext cx="615960" cy="615240"/>
              <a:chOff x="2268720" y="2561040"/>
              <a:chExt cx="615960" cy="615240"/>
            </a:xfrm>
          </p:grpSpPr>
          <p:sp>
            <p:nvSpPr>
              <p:cNvPr id="446" name="未知"/>
              <p:cNvSpPr/>
              <p:nvPr/>
            </p:nvSpPr>
            <p:spPr>
              <a:xfrm rot="8118600">
                <a:off x="2336400" y="2673360"/>
                <a:ext cx="48060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 rot="10163400">
                <a:off x="2308680" y="287244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 rot="10461600">
                <a:off x="2465640" y="282816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未知"/>
              <p:cNvSpPr/>
              <p:nvPr/>
            </p:nvSpPr>
            <p:spPr>
              <a:xfrm rot="10461600">
                <a:off x="2422080" y="280188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2009520" y="2818080"/>
              <a:ext cx="613440" cy="617040"/>
              <a:chOff x="2009520" y="2818080"/>
              <a:chExt cx="613440" cy="617040"/>
            </a:xfrm>
          </p:grpSpPr>
          <p:sp>
            <p:nvSpPr>
              <p:cNvPr id="451" name="未知"/>
              <p:cNvSpPr/>
              <p:nvPr/>
            </p:nvSpPr>
            <p:spPr>
              <a:xfrm rot="13597800">
                <a:off x="2075760" y="2931480"/>
                <a:ext cx="48060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 rot="15642600">
                <a:off x="2014920" y="3109680"/>
                <a:ext cx="54936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未知"/>
              <p:cNvSpPr/>
              <p:nvPr/>
            </p:nvSpPr>
            <p:spPr>
              <a:xfrm rot="15940800">
                <a:off x="2131920" y="3204720"/>
                <a:ext cx="41220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未知"/>
              <p:cNvSpPr/>
              <p:nvPr/>
            </p:nvSpPr>
            <p:spPr>
              <a:xfrm rot="15940800">
                <a:off x="2164320" y="3167280"/>
                <a:ext cx="41220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1896480" y="2347200"/>
              <a:ext cx="617400" cy="612360"/>
              <a:chOff x="1896480" y="2347200"/>
              <a:chExt cx="617400" cy="612360"/>
            </a:xfrm>
          </p:grpSpPr>
          <p:sp>
            <p:nvSpPr>
              <p:cNvPr id="456" name="未知"/>
              <p:cNvSpPr/>
              <p:nvPr/>
            </p:nvSpPr>
            <p:spPr>
              <a:xfrm rot="2562000">
                <a:off x="1964880" y="2458440"/>
                <a:ext cx="48060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未知"/>
              <p:cNvSpPr/>
              <p:nvPr/>
            </p:nvSpPr>
            <p:spPr>
              <a:xfrm rot="4606800">
                <a:off x="1956600" y="2622960"/>
                <a:ext cx="54936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 rot="4905000">
                <a:off x="1971360" y="2543400"/>
                <a:ext cx="41220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 rot="4905000">
                <a:off x="1941480" y="2593800"/>
                <a:ext cx="41220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2193480" y="2503440"/>
              <a:ext cx="497160" cy="562320"/>
              <a:chOff x="2193480" y="2503440"/>
              <a:chExt cx="497160" cy="562320"/>
            </a:xfrm>
          </p:grpSpPr>
          <p:sp>
            <p:nvSpPr>
              <p:cNvPr id="461" name="未知"/>
              <p:cNvSpPr/>
              <p:nvPr/>
            </p:nvSpPr>
            <p:spPr>
              <a:xfrm rot="6262200">
                <a:off x="2201760" y="2589480"/>
                <a:ext cx="48060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未知"/>
              <p:cNvSpPr/>
              <p:nvPr/>
            </p:nvSpPr>
            <p:spPr>
              <a:xfrm rot="8307000">
                <a:off x="2187000" y="278136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未知"/>
              <p:cNvSpPr/>
              <p:nvPr/>
            </p:nvSpPr>
            <p:spPr>
              <a:xfrm rot="8605200">
                <a:off x="2305440" y="269856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未知"/>
              <p:cNvSpPr/>
              <p:nvPr/>
            </p:nvSpPr>
            <p:spPr>
              <a:xfrm rot="8605200">
                <a:off x="2252160" y="269928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1632600" y="2760840"/>
              <a:ext cx="576360" cy="610560"/>
              <a:chOff x="1632600" y="2760840"/>
              <a:chExt cx="576360" cy="610560"/>
            </a:xfrm>
          </p:grpSpPr>
          <p:sp>
            <p:nvSpPr>
              <p:cNvPr id="466" name="未知"/>
              <p:cNvSpPr/>
              <p:nvPr/>
            </p:nvSpPr>
            <p:spPr>
              <a:xfrm rot="17976000">
                <a:off x="1680480" y="2871000"/>
                <a:ext cx="48060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未知"/>
              <p:cNvSpPr/>
              <p:nvPr/>
            </p:nvSpPr>
            <p:spPr>
              <a:xfrm rot="20020800">
                <a:off x="1632240" y="301968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未知"/>
              <p:cNvSpPr/>
              <p:nvPr/>
            </p:nvSpPr>
            <p:spPr>
              <a:xfrm rot="20319000">
                <a:off x="1629720" y="309780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 rot="20319000">
                <a:off x="1680120" y="312192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1979280" y="2843640"/>
              <a:ext cx="505080" cy="573840"/>
              <a:chOff x="1979280" y="2843640"/>
              <a:chExt cx="505080" cy="573840"/>
            </a:xfrm>
          </p:grpSpPr>
          <p:sp>
            <p:nvSpPr>
              <p:cNvPr id="471" name="未知"/>
              <p:cNvSpPr/>
              <p:nvPr/>
            </p:nvSpPr>
            <p:spPr>
              <a:xfrm rot="15255600">
                <a:off x="1991520" y="2932560"/>
                <a:ext cx="48060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未知"/>
              <p:cNvSpPr/>
              <p:nvPr/>
            </p:nvSpPr>
            <p:spPr>
              <a:xfrm rot="17300400">
                <a:off x="1930680" y="3098160"/>
                <a:ext cx="54936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未知"/>
              <p:cNvSpPr/>
              <p:nvPr/>
            </p:nvSpPr>
            <p:spPr>
              <a:xfrm rot="17598600">
                <a:off x="2000520" y="3205080"/>
                <a:ext cx="41220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 rot="17598600">
                <a:off x="2049120" y="3187440"/>
                <a:ext cx="41220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2154960" y="2863800"/>
              <a:ext cx="584640" cy="529920"/>
              <a:chOff x="2154960" y="2863800"/>
              <a:chExt cx="584640" cy="529920"/>
            </a:xfrm>
          </p:grpSpPr>
          <p:sp>
            <p:nvSpPr>
              <p:cNvPr id="476" name="未知"/>
              <p:cNvSpPr/>
              <p:nvPr/>
            </p:nvSpPr>
            <p:spPr>
              <a:xfrm rot="11995800">
                <a:off x="2206800" y="2933640"/>
                <a:ext cx="480600" cy="389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未知"/>
              <p:cNvSpPr/>
              <p:nvPr/>
            </p:nvSpPr>
            <p:spPr>
              <a:xfrm rot="14040600">
                <a:off x="2151000" y="3123720"/>
                <a:ext cx="549360" cy="44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 rot="14338800">
                <a:off x="2302560" y="3187440"/>
                <a:ext cx="41220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 rot="14338800">
                <a:off x="2312640" y="3139920"/>
                <a:ext cx="41220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2138760" y="2651760"/>
              <a:ext cx="602280" cy="558720"/>
              <a:chOff x="2138760" y="2651760"/>
              <a:chExt cx="602280" cy="558720"/>
            </a:xfrm>
          </p:grpSpPr>
          <p:sp>
            <p:nvSpPr>
              <p:cNvPr id="481" name="未知"/>
              <p:cNvSpPr/>
              <p:nvPr/>
            </p:nvSpPr>
            <p:spPr>
              <a:xfrm rot="9269400">
                <a:off x="2198880" y="2736000"/>
                <a:ext cx="48060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 rot="11314200">
                <a:off x="2162520" y="293544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未知"/>
              <p:cNvSpPr/>
              <p:nvPr/>
            </p:nvSpPr>
            <p:spPr>
              <a:xfrm rot="11612400">
                <a:off x="2330640" y="292284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 rot="11612400">
                <a:off x="2300400" y="288396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805400" y="2584080"/>
              <a:ext cx="500400" cy="402840"/>
              <a:chOff x="1805400" y="2584080"/>
              <a:chExt cx="500400" cy="402840"/>
            </a:xfrm>
          </p:grpSpPr>
          <p:sp>
            <p:nvSpPr>
              <p:cNvPr id="486" name="未知"/>
              <p:cNvSpPr/>
              <p:nvPr/>
            </p:nvSpPr>
            <p:spPr>
              <a:xfrm rot="94200">
                <a:off x="1814400" y="2590560"/>
                <a:ext cx="48060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 rot="2139000">
                <a:off x="1794960" y="273996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 rot="2437200">
                <a:off x="1766520" y="271692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 rot="2437200">
                <a:off x="1773360" y="277524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614600" y="2666520"/>
              <a:ext cx="614520" cy="586080"/>
              <a:chOff x="1614600" y="2666520"/>
              <a:chExt cx="614520" cy="586080"/>
            </a:xfrm>
          </p:grpSpPr>
          <p:sp>
            <p:nvSpPr>
              <p:cNvPr id="491" name="未知"/>
              <p:cNvSpPr/>
              <p:nvPr/>
            </p:nvSpPr>
            <p:spPr>
              <a:xfrm rot="19669800">
                <a:off x="1681200" y="2764440"/>
                <a:ext cx="480600" cy="38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未知"/>
              <p:cNvSpPr/>
              <p:nvPr/>
            </p:nvSpPr>
            <p:spPr>
              <a:xfrm rot="114600">
                <a:off x="1646280" y="2909880"/>
                <a:ext cx="549000" cy="45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 rot="412800">
                <a:off x="1617840" y="2945880"/>
                <a:ext cx="411840" cy="33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未知"/>
              <p:cNvSpPr/>
              <p:nvPr/>
            </p:nvSpPr>
            <p:spPr>
              <a:xfrm rot="412800">
                <a:off x="1653480" y="2991240"/>
                <a:ext cx="411840" cy="22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031120" y="2717640"/>
              <a:ext cx="411840" cy="411840"/>
              <a:chOff x="2031120" y="2717640"/>
              <a:chExt cx="411840" cy="411840"/>
            </a:xfrm>
          </p:grpSpPr>
          <p:sp>
            <p:nvSpPr>
              <p:cNvPr id="496" name=""/>
              <p:cNvSpPr/>
              <p:nvPr/>
            </p:nvSpPr>
            <p:spPr>
              <a:xfrm>
                <a:off x="2031120" y="2717640"/>
                <a:ext cx="411840" cy="411840"/>
              </a:xfrm>
              <a:custGeom>
                <a:avLst/>
                <a:gdLst>
                  <a:gd name="textAreaLeft" fmla="*/ 96480 w 411840"/>
                  <a:gd name="textAreaRight" fmla="*/ 315360 w 411840"/>
                  <a:gd name="textAreaTop" fmla="*/ 96480 h 411840"/>
                  <a:gd name="textAreaBottom" fmla="*/ 315360 h 41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102760" y="2778120"/>
                <a:ext cx="274680" cy="2743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947520" y="2714760"/>
            <a:ext cx="1792440" cy="1947240"/>
            <a:chOff x="947520" y="2714760"/>
            <a:chExt cx="1792440" cy="1947240"/>
          </a:xfrm>
        </p:grpSpPr>
        <p:grpSp>
          <p:nvGrpSpPr>
            <p:cNvPr id="499" name=""/>
            <p:cNvGrpSpPr/>
            <p:nvPr/>
          </p:nvGrpSpPr>
          <p:grpSpPr>
            <a:xfrm>
              <a:off x="1747440" y="3113640"/>
              <a:ext cx="979920" cy="983520"/>
              <a:chOff x="1747440" y="3113640"/>
              <a:chExt cx="979920" cy="983520"/>
            </a:xfrm>
          </p:grpSpPr>
          <p:sp>
            <p:nvSpPr>
              <p:cNvPr id="500" name="未知"/>
              <p:cNvSpPr/>
              <p:nvPr/>
            </p:nvSpPr>
            <p:spPr>
              <a:xfrm rot="18826800">
                <a:off x="1859400" y="328860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 rot="20871600">
                <a:off x="1793880" y="352656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未知"/>
              <p:cNvSpPr/>
              <p:nvPr/>
            </p:nvSpPr>
            <p:spPr>
              <a:xfrm rot="21169800">
                <a:off x="1765800" y="362052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未知"/>
              <p:cNvSpPr/>
              <p:nvPr/>
            </p:nvSpPr>
            <p:spPr>
              <a:xfrm rot="21169800">
                <a:off x="1835280" y="367884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1762920" y="2935440"/>
              <a:ext cx="795960" cy="885240"/>
              <a:chOff x="1762920" y="2935440"/>
              <a:chExt cx="795960" cy="885240"/>
            </a:xfrm>
          </p:grpSpPr>
          <p:sp>
            <p:nvSpPr>
              <p:cNvPr id="505" name="未知"/>
              <p:cNvSpPr/>
              <p:nvPr/>
            </p:nvSpPr>
            <p:spPr>
              <a:xfrm rot="17034600">
                <a:off x="1783080" y="3061440"/>
                <a:ext cx="75492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 rot="19078800">
                <a:off x="1697760" y="3309840"/>
                <a:ext cx="86292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 rot="19377600">
                <a:off x="1729800" y="3460680"/>
                <a:ext cx="64692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未知"/>
              <p:cNvSpPr/>
              <p:nvPr/>
            </p:nvSpPr>
            <p:spPr>
              <a:xfrm rot="19377600">
                <a:off x="1814760" y="3477600"/>
                <a:ext cx="64728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1295640" y="2714760"/>
              <a:ext cx="975600" cy="984960"/>
              <a:chOff x="1295640" y="2714760"/>
              <a:chExt cx="975600" cy="984960"/>
            </a:xfrm>
          </p:grpSpPr>
          <p:sp>
            <p:nvSpPr>
              <p:cNvPr id="510" name="未知"/>
              <p:cNvSpPr/>
              <p:nvPr/>
            </p:nvSpPr>
            <p:spPr>
              <a:xfrm rot="13688400">
                <a:off x="1405800" y="289044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 rot="15733200">
                <a:off x="1308600" y="317844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未知"/>
              <p:cNvSpPr/>
              <p:nvPr/>
            </p:nvSpPr>
            <p:spPr>
              <a:xfrm rot="16031400">
                <a:off x="1490040" y="333072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未知"/>
              <p:cNvSpPr/>
              <p:nvPr/>
            </p:nvSpPr>
            <p:spPr>
              <a:xfrm rot="16031400">
                <a:off x="1544760" y="327348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959400" y="2987640"/>
              <a:ext cx="890640" cy="789480"/>
              <a:chOff x="959400" y="2987640"/>
              <a:chExt cx="890640" cy="789480"/>
            </a:xfrm>
          </p:grpSpPr>
          <p:sp>
            <p:nvSpPr>
              <p:cNvPr id="515" name="未知"/>
              <p:cNvSpPr/>
              <p:nvPr/>
            </p:nvSpPr>
            <p:spPr>
              <a:xfrm rot="10003800">
                <a:off x="1022040" y="306576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未知"/>
              <p:cNvSpPr/>
              <p:nvPr/>
            </p:nvSpPr>
            <p:spPr>
              <a:xfrm rot="12048600">
                <a:off x="954720" y="338796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未知"/>
              <p:cNvSpPr/>
              <p:nvPr/>
            </p:nvSpPr>
            <p:spPr>
              <a:xfrm rot="12346800">
                <a:off x="1222920" y="340056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未知"/>
              <p:cNvSpPr/>
              <p:nvPr/>
            </p:nvSpPr>
            <p:spPr>
              <a:xfrm rot="12346800">
                <a:off x="1191240" y="333000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1455120" y="3592800"/>
              <a:ext cx="981000" cy="982440"/>
              <a:chOff x="1455120" y="3592800"/>
              <a:chExt cx="981000" cy="982440"/>
            </a:xfrm>
          </p:grpSpPr>
          <p:sp>
            <p:nvSpPr>
              <p:cNvPr id="520" name="未知"/>
              <p:cNvSpPr/>
              <p:nvPr/>
            </p:nvSpPr>
            <p:spPr>
              <a:xfrm rot="2727600">
                <a:off x="1567800" y="376740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未知"/>
              <p:cNvSpPr/>
              <p:nvPr/>
            </p:nvSpPr>
            <p:spPr>
              <a:xfrm rot="4772400">
                <a:off x="1556280" y="403704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未知"/>
              <p:cNvSpPr/>
              <p:nvPr/>
            </p:nvSpPr>
            <p:spPr>
              <a:xfrm rot="5070600">
                <a:off x="1584000" y="390780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未知"/>
              <p:cNvSpPr/>
              <p:nvPr/>
            </p:nvSpPr>
            <p:spPr>
              <a:xfrm rot="5070600">
                <a:off x="1532520" y="398484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1139040" y="3644640"/>
              <a:ext cx="682200" cy="795600"/>
              <a:chOff x="1139040" y="3644640"/>
              <a:chExt cx="682200" cy="795600"/>
            </a:xfrm>
          </p:grpSpPr>
          <p:sp>
            <p:nvSpPr>
              <p:cNvPr id="525" name="未知"/>
              <p:cNvSpPr/>
              <p:nvPr/>
            </p:nvSpPr>
            <p:spPr>
              <a:xfrm rot="5628000">
                <a:off x="1102320" y="3725640"/>
                <a:ext cx="75528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未知"/>
              <p:cNvSpPr/>
              <p:nvPr/>
            </p:nvSpPr>
            <p:spPr>
              <a:xfrm rot="7672800">
                <a:off x="1084320" y="4030560"/>
                <a:ext cx="86328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未知"/>
              <p:cNvSpPr/>
              <p:nvPr/>
            </p:nvSpPr>
            <p:spPr>
              <a:xfrm rot="7971000">
                <a:off x="1242720" y="3888000"/>
                <a:ext cx="64728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未知"/>
              <p:cNvSpPr/>
              <p:nvPr/>
            </p:nvSpPr>
            <p:spPr>
              <a:xfrm rot="7971000">
                <a:off x="1157040" y="3903480"/>
                <a:ext cx="64764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951840" y="3358440"/>
              <a:ext cx="896040" cy="954000"/>
              <a:chOff x="951840" y="3358440"/>
              <a:chExt cx="896040" cy="954000"/>
            </a:xfrm>
          </p:grpSpPr>
          <p:sp>
            <p:nvSpPr>
              <p:cNvPr id="530" name="未知"/>
              <p:cNvSpPr/>
              <p:nvPr/>
            </p:nvSpPr>
            <p:spPr>
              <a:xfrm rot="6925800">
                <a:off x="1022040" y="351864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未知"/>
              <p:cNvSpPr/>
              <p:nvPr/>
            </p:nvSpPr>
            <p:spPr>
              <a:xfrm rot="8970600">
                <a:off x="992520" y="383616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未知"/>
              <p:cNvSpPr/>
              <p:nvPr/>
            </p:nvSpPr>
            <p:spPr>
              <a:xfrm rot="9268800">
                <a:off x="1203480" y="372240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未知"/>
              <p:cNvSpPr/>
              <p:nvPr/>
            </p:nvSpPr>
            <p:spPr>
              <a:xfrm rot="9268800">
                <a:off x="1121400" y="370620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1832400" y="3425760"/>
              <a:ext cx="907560" cy="816840"/>
              <a:chOff x="1832400" y="3425760"/>
              <a:chExt cx="907560" cy="816840"/>
            </a:xfrm>
          </p:grpSpPr>
          <p:sp>
            <p:nvSpPr>
              <p:cNvPr id="535" name="未知"/>
              <p:cNvSpPr/>
              <p:nvPr/>
            </p:nvSpPr>
            <p:spPr>
              <a:xfrm rot="20636400">
                <a:off x="1911960" y="351756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未知"/>
              <p:cNvSpPr/>
              <p:nvPr/>
            </p:nvSpPr>
            <p:spPr>
              <a:xfrm rot="1081200">
                <a:off x="1869120" y="375480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未知"/>
              <p:cNvSpPr/>
              <p:nvPr/>
            </p:nvSpPr>
            <p:spPr>
              <a:xfrm rot="1379400">
                <a:off x="1816920" y="376920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未知"/>
              <p:cNvSpPr/>
              <p:nvPr/>
            </p:nvSpPr>
            <p:spPr>
              <a:xfrm rot="1379400">
                <a:off x="1852560" y="385596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1644480" y="3620520"/>
              <a:ext cx="876960" cy="771120"/>
              <a:chOff x="1644480" y="3620520"/>
              <a:chExt cx="876960" cy="771120"/>
            </a:xfrm>
          </p:grpSpPr>
          <p:sp>
            <p:nvSpPr>
              <p:cNvPr id="540" name="未知"/>
              <p:cNvSpPr/>
              <p:nvPr/>
            </p:nvSpPr>
            <p:spPr>
              <a:xfrm rot="805800">
                <a:off x="1704960" y="3699720"/>
                <a:ext cx="755280" cy="6123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未知"/>
              <p:cNvSpPr/>
              <p:nvPr/>
            </p:nvSpPr>
            <p:spPr>
              <a:xfrm rot="2850600">
                <a:off x="1680840" y="393948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未知"/>
              <p:cNvSpPr/>
              <p:nvPr/>
            </p:nvSpPr>
            <p:spPr>
              <a:xfrm rot="3148800">
                <a:off x="1648800" y="387252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未知"/>
              <p:cNvSpPr/>
              <p:nvPr/>
            </p:nvSpPr>
            <p:spPr>
              <a:xfrm rot="3148800">
                <a:off x="1642680" y="396540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47520" y="3165120"/>
              <a:ext cx="1039680" cy="970920"/>
              <a:chOff x="947520" y="3165120"/>
              <a:chExt cx="1039680" cy="970920"/>
            </a:xfrm>
          </p:grpSpPr>
          <p:sp>
            <p:nvSpPr>
              <p:cNvPr id="545" name="未知"/>
              <p:cNvSpPr/>
              <p:nvPr/>
            </p:nvSpPr>
            <p:spPr>
              <a:xfrm rot="7717200">
                <a:off x="1219320" y="3183120"/>
                <a:ext cx="495720" cy="934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未知"/>
              <p:cNvSpPr/>
              <p:nvPr/>
            </p:nvSpPr>
            <p:spPr>
              <a:xfrm rot="9762000">
                <a:off x="1201680" y="3658320"/>
                <a:ext cx="56664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未知"/>
              <p:cNvSpPr/>
              <p:nvPr/>
            </p:nvSpPr>
            <p:spPr>
              <a:xfrm rot="10060200">
                <a:off x="1344960" y="3555720"/>
                <a:ext cx="42480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未知"/>
              <p:cNvSpPr/>
              <p:nvPr/>
            </p:nvSpPr>
            <p:spPr>
              <a:xfrm rot="10060200">
                <a:off x="1285920" y="3494160"/>
                <a:ext cx="4251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1460520" y="2839320"/>
              <a:ext cx="953280" cy="869040"/>
              <a:chOff x="1460520" y="2839320"/>
              <a:chExt cx="953280" cy="869040"/>
            </a:xfrm>
          </p:grpSpPr>
          <p:sp>
            <p:nvSpPr>
              <p:cNvPr id="550" name="未知"/>
              <p:cNvSpPr/>
              <p:nvPr/>
            </p:nvSpPr>
            <p:spPr>
              <a:xfrm rot="13857000">
                <a:off x="1756080" y="2806560"/>
                <a:ext cx="361440" cy="934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未知"/>
              <p:cNvSpPr/>
              <p:nvPr/>
            </p:nvSpPr>
            <p:spPr>
              <a:xfrm rot="15901800">
                <a:off x="1665720" y="3223080"/>
                <a:ext cx="41292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 rot="16200000">
                <a:off x="1816200" y="3306600"/>
                <a:ext cx="30960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未知"/>
              <p:cNvSpPr/>
              <p:nvPr/>
            </p:nvSpPr>
            <p:spPr>
              <a:xfrm rot="16200000">
                <a:off x="1901520" y="3289320"/>
                <a:ext cx="3099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1266120" y="2999520"/>
              <a:ext cx="728640" cy="776160"/>
              <a:chOff x="1266120" y="2999520"/>
              <a:chExt cx="728640" cy="776160"/>
            </a:xfrm>
          </p:grpSpPr>
          <p:sp>
            <p:nvSpPr>
              <p:cNvPr id="555" name="未知"/>
              <p:cNvSpPr/>
              <p:nvPr/>
            </p:nvSpPr>
            <p:spPr>
              <a:xfrm rot="11895600">
                <a:off x="1351080" y="3071160"/>
                <a:ext cx="55836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未知"/>
              <p:cNvSpPr/>
              <p:nvPr/>
            </p:nvSpPr>
            <p:spPr>
              <a:xfrm rot="13940400">
                <a:off x="1276200" y="3378240"/>
                <a:ext cx="63792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未知"/>
              <p:cNvSpPr/>
              <p:nvPr/>
            </p:nvSpPr>
            <p:spPr>
              <a:xfrm rot="14238600">
                <a:off x="1470600" y="3442680"/>
                <a:ext cx="4784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 rot="14238600">
                <a:off x="1493640" y="3380760"/>
                <a:ext cx="4788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1270080" y="3722400"/>
              <a:ext cx="871920" cy="939600"/>
              <a:chOff x="1270080" y="3722400"/>
              <a:chExt cx="871920" cy="939600"/>
            </a:xfrm>
          </p:grpSpPr>
          <p:sp>
            <p:nvSpPr>
              <p:cNvPr id="560" name="未知"/>
              <p:cNvSpPr/>
              <p:nvPr/>
            </p:nvSpPr>
            <p:spPr>
              <a:xfrm rot="4063800">
                <a:off x="1328400" y="387576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 rot="6108000">
                <a:off x="1317960" y="416268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 rot="6406200">
                <a:off x="1404360" y="401292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 rot="6406200">
                <a:off x="1330560" y="406584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474560" y="3365280"/>
              <a:ext cx="647280" cy="647280"/>
              <a:chOff x="1474560" y="3365280"/>
              <a:chExt cx="647280" cy="647280"/>
            </a:xfrm>
          </p:grpSpPr>
          <p:sp>
            <p:nvSpPr>
              <p:cNvPr id="565" name=""/>
              <p:cNvSpPr/>
              <p:nvPr/>
            </p:nvSpPr>
            <p:spPr>
              <a:xfrm>
                <a:off x="1474560" y="3365280"/>
                <a:ext cx="647280" cy="647280"/>
              </a:xfrm>
              <a:custGeom>
                <a:avLst/>
                <a:gdLst>
                  <a:gd name="textAreaLeft" fmla="*/ 151920 w 647280"/>
                  <a:gd name="textAreaRight" fmla="*/ 495360 w 647280"/>
                  <a:gd name="textAreaTop" fmla="*/ 151920 h 647280"/>
                  <a:gd name="textAreaBottom" fmla="*/ 4953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86880" y="3460320"/>
                <a:ext cx="431640" cy="43128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48600" y="2471400"/>
            <a:ext cx="2012040" cy="1789560"/>
            <a:chOff x="48600" y="2471400"/>
            <a:chExt cx="2012040" cy="1789560"/>
          </a:xfrm>
        </p:grpSpPr>
        <p:grpSp>
          <p:nvGrpSpPr>
            <p:cNvPr id="568" name=""/>
            <p:cNvGrpSpPr/>
            <p:nvPr/>
          </p:nvGrpSpPr>
          <p:grpSpPr>
            <a:xfrm>
              <a:off x="582480" y="3168000"/>
              <a:ext cx="972720" cy="951840"/>
              <a:chOff x="582480" y="3168000"/>
              <a:chExt cx="972720" cy="951840"/>
            </a:xfrm>
          </p:grpSpPr>
          <p:sp>
            <p:nvSpPr>
              <p:cNvPr id="569" name="未知"/>
              <p:cNvSpPr/>
              <p:nvPr/>
            </p:nvSpPr>
            <p:spPr>
              <a:xfrm rot="13149000">
                <a:off x="690840" y="3337200"/>
                <a:ext cx="75528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 rot="15194400">
                <a:off x="596160" y="362268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 rot="15492600">
                <a:off x="797760" y="376164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 rot="15492600">
                <a:off x="839160" y="369684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239400" y="3143520"/>
              <a:ext cx="808200" cy="902880"/>
              <a:chOff x="239400" y="3143520"/>
              <a:chExt cx="808200" cy="902880"/>
            </a:xfrm>
          </p:grpSpPr>
          <p:sp>
            <p:nvSpPr>
              <p:cNvPr id="574" name="未知"/>
              <p:cNvSpPr/>
              <p:nvPr/>
            </p:nvSpPr>
            <p:spPr>
              <a:xfrm rot="17227800">
                <a:off x="265680" y="328824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未知"/>
              <p:cNvSpPr/>
              <p:nvPr/>
            </p:nvSpPr>
            <p:spPr>
              <a:xfrm rot="19273200">
                <a:off x="182520" y="352764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 rot="19571400">
                <a:off x="205560" y="367236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 rot="19571400">
                <a:off x="288720" y="369144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897480" y="3257640"/>
              <a:ext cx="833040" cy="711000"/>
              <a:chOff x="897480" y="3257640"/>
              <a:chExt cx="833040" cy="711000"/>
            </a:xfrm>
          </p:grpSpPr>
          <p:sp>
            <p:nvSpPr>
              <p:cNvPr id="579" name="未知"/>
              <p:cNvSpPr/>
              <p:nvPr/>
            </p:nvSpPr>
            <p:spPr>
              <a:xfrm rot="11275800">
                <a:off x="936000" y="330660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未知"/>
              <p:cNvSpPr/>
              <p:nvPr/>
            </p:nvSpPr>
            <p:spPr>
              <a:xfrm rot="13320600">
                <a:off x="854640" y="36111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未知"/>
              <p:cNvSpPr/>
              <p:nvPr/>
            </p:nvSpPr>
            <p:spPr>
              <a:xfrm rot="13619400">
                <a:off x="1109880" y="368280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未知"/>
              <p:cNvSpPr/>
              <p:nvPr/>
            </p:nvSpPr>
            <p:spPr>
              <a:xfrm rot="13619400">
                <a:off x="1107000" y="360720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317160" y="2661480"/>
              <a:ext cx="879120" cy="774720"/>
              <a:chOff x="317160" y="2661480"/>
              <a:chExt cx="879120" cy="774720"/>
            </a:xfrm>
          </p:grpSpPr>
          <p:sp>
            <p:nvSpPr>
              <p:cNvPr id="584" name="未知"/>
              <p:cNvSpPr/>
              <p:nvPr/>
            </p:nvSpPr>
            <p:spPr>
              <a:xfrm rot="823800">
                <a:off x="378720" y="2742120"/>
                <a:ext cx="75528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未知"/>
              <p:cNvSpPr/>
              <p:nvPr/>
            </p:nvSpPr>
            <p:spPr>
              <a:xfrm rot="2868600">
                <a:off x="354600" y="298296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未知"/>
              <p:cNvSpPr/>
              <p:nvPr/>
            </p:nvSpPr>
            <p:spPr>
              <a:xfrm rot="3166800">
                <a:off x="323280" y="291528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未知"/>
              <p:cNvSpPr/>
              <p:nvPr/>
            </p:nvSpPr>
            <p:spPr>
              <a:xfrm rot="3166800">
                <a:off x="316440" y="300816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909000" y="2707920"/>
              <a:ext cx="913680" cy="963000"/>
              <a:chOff x="909000" y="2707920"/>
              <a:chExt cx="913680" cy="963000"/>
            </a:xfrm>
          </p:grpSpPr>
          <p:sp>
            <p:nvSpPr>
              <p:cNvPr id="589" name="未知"/>
              <p:cNvSpPr/>
              <p:nvPr/>
            </p:nvSpPr>
            <p:spPr>
              <a:xfrm rot="7251000">
                <a:off x="987840" y="2882520"/>
                <a:ext cx="75564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未知"/>
              <p:cNvSpPr/>
              <p:nvPr/>
            </p:nvSpPr>
            <p:spPr>
              <a:xfrm rot="9295800">
                <a:off x="954000" y="31917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未知"/>
              <p:cNvSpPr/>
              <p:nvPr/>
            </p:nvSpPr>
            <p:spPr>
              <a:xfrm rot="9594000">
                <a:off x="1176840" y="308952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未知"/>
              <p:cNvSpPr/>
              <p:nvPr/>
            </p:nvSpPr>
            <p:spPr>
              <a:xfrm rot="9594000">
                <a:off x="1098000" y="306792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48600" y="2821680"/>
              <a:ext cx="919440" cy="825120"/>
              <a:chOff x="48600" y="2821680"/>
              <a:chExt cx="919440" cy="825120"/>
            </a:xfrm>
          </p:grpSpPr>
          <p:sp>
            <p:nvSpPr>
              <p:cNvPr id="594" name="未知"/>
              <p:cNvSpPr/>
              <p:nvPr/>
            </p:nvSpPr>
            <p:spPr>
              <a:xfrm rot="20461800">
                <a:off x="133560" y="2927520"/>
                <a:ext cx="75528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未知"/>
              <p:cNvSpPr/>
              <p:nvPr/>
            </p:nvSpPr>
            <p:spPr>
              <a:xfrm rot="906600">
                <a:off x="88920" y="315684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未知"/>
              <p:cNvSpPr/>
              <p:nvPr/>
            </p:nvSpPr>
            <p:spPr>
              <a:xfrm rot="1205400">
                <a:off x="37800" y="317664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未知"/>
              <p:cNvSpPr/>
              <p:nvPr/>
            </p:nvSpPr>
            <p:spPr>
              <a:xfrm rot="1205400">
                <a:off x="77760" y="325908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649080" y="2586960"/>
              <a:ext cx="813240" cy="914400"/>
              <a:chOff x="649080" y="2586960"/>
              <a:chExt cx="813240" cy="914400"/>
            </a:xfrm>
          </p:grpSpPr>
          <p:sp>
            <p:nvSpPr>
              <p:cNvPr id="599" name="未知"/>
              <p:cNvSpPr/>
              <p:nvPr/>
            </p:nvSpPr>
            <p:spPr>
              <a:xfrm rot="4341600">
                <a:off x="677880" y="2741400"/>
                <a:ext cx="75564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未知"/>
              <p:cNvSpPr/>
              <p:nvPr/>
            </p:nvSpPr>
            <p:spPr>
              <a:xfrm rot="6385800">
                <a:off x="665280" y="302220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未知"/>
              <p:cNvSpPr/>
              <p:nvPr/>
            </p:nvSpPr>
            <p:spPr>
              <a:xfrm rot="6684000">
                <a:off x="766080" y="287172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未知"/>
              <p:cNvSpPr/>
              <p:nvPr/>
            </p:nvSpPr>
            <p:spPr>
              <a:xfrm rot="6684000">
                <a:off x="690840" y="291888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67640" y="3328200"/>
              <a:ext cx="847800" cy="932760"/>
              <a:chOff x="467640" y="3328200"/>
              <a:chExt cx="847800" cy="932760"/>
            </a:xfrm>
          </p:grpSpPr>
          <p:sp>
            <p:nvSpPr>
              <p:cNvPr id="604" name="未知"/>
              <p:cNvSpPr/>
              <p:nvPr/>
            </p:nvSpPr>
            <p:spPr>
              <a:xfrm rot="14905200">
                <a:off x="513360" y="348588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未知"/>
              <p:cNvSpPr/>
              <p:nvPr/>
            </p:nvSpPr>
            <p:spPr>
              <a:xfrm rot="16950000">
                <a:off x="416880" y="37497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未知"/>
              <p:cNvSpPr/>
              <p:nvPr/>
            </p:nvSpPr>
            <p:spPr>
              <a:xfrm rot="17248800">
                <a:off x="542880" y="391788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未知"/>
              <p:cNvSpPr/>
              <p:nvPr/>
            </p:nvSpPr>
            <p:spPr>
              <a:xfrm rot="17248800">
                <a:off x="615240" y="388260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67400" y="2958120"/>
              <a:ext cx="955440" cy="972720"/>
              <a:chOff x="167400" y="2958120"/>
              <a:chExt cx="955440" cy="972720"/>
            </a:xfrm>
          </p:grpSpPr>
          <p:sp>
            <p:nvSpPr>
              <p:cNvPr id="609" name="未知"/>
              <p:cNvSpPr/>
              <p:nvPr/>
            </p:nvSpPr>
            <p:spPr>
              <a:xfrm rot="18606000">
                <a:off x="267120" y="313812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未知"/>
              <p:cNvSpPr/>
              <p:nvPr/>
            </p:nvSpPr>
            <p:spPr>
              <a:xfrm rot="20650200">
                <a:off x="199440" y="336852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未知"/>
              <p:cNvSpPr/>
              <p:nvPr/>
            </p:nvSpPr>
            <p:spPr>
              <a:xfrm rot="20948400">
                <a:off x="176040" y="346896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未知"/>
              <p:cNvSpPr/>
              <p:nvPr/>
            </p:nvSpPr>
            <p:spPr>
              <a:xfrm rot="20948400">
                <a:off x="248760" y="352008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1090440" y="2935080"/>
              <a:ext cx="970200" cy="933840"/>
              <a:chOff x="1090440" y="2935080"/>
              <a:chExt cx="970200" cy="933840"/>
            </a:xfrm>
          </p:grpSpPr>
          <p:sp>
            <p:nvSpPr>
              <p:cNvPr id="614" name="未知"/>
              <p:cNvSpPr/>
              <p:nvPr/>
            </p:nvSpPr>
            <p:spPr>
              <a:xfrm rot="8719200">
                <a:off x="1197360" y="3095280"/>
                <a:ext cx="755640" cy="613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未知"/>
              <p:cNvSpPr/>
              <p:nvPr/>
            </p:nvSpPr>
            <p:spPr>
              <a:xfrm rot="10764000">
                <a:off x="1146600" y="340920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未知"/>
              <p:cNvSpPr/>
              <p:nvPr/>
            </p:nvSpPr>
            <p:spPr>
              <a:xfrm rot="11062200">
                <a:off x="1405440" y="336492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未知"/>
              <p:cNvSpPr/>
              <p:nvPr/>
            </p:nvSpPr>
            <p:spPr>
              <a:xfrm rot="11062200">
                <a:off x="1346040" y="331308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808560" y="2678400"/>
              <a:ext cx="734400" cy="850320"/>
              <a:chOff x="808560" y="2678400"/>
              <a:chExt cx="734400" cy="850320"/>
            </a:xfrm>
          </p:grpSpPr>
          <p:sp>
            <p:nvSpPr>
              <p:cNvPr id="619" name="未知"/>
              <p:cNvSpPr/>
              <p:nvPr/>
            </p:nvSpPr>
            <p:spPr>
              <a:xfrm rot="5998800">
                <a:off x="797760" y="279720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未知"/>
              <p:cNvSpPr/>
              <p:nvPr/>
            </p:nvSpPr>
            <p:spPr>
              <a:xfrm rot="8043600">
                <a:off x="776160" y="309600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未知"/>
              <p:cNvSpPr/>
              <p:nvPr/>
            </p:nvSpPr>
            <p:spPr>
              <a:xfrm rot="8341800">
                <a:off x="952200" y="296100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未知"/>
              <p:cNvSpPr/>
              <p:nvPr/>
            </p:nvSpPr>
            <p:spPr>
              <a:xfrm rot="8341800">
                <a:off x="867240" y="296856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389520" y="2471400"/>
              <a:ext cx="966240" cy="968760"/>
              <a:chOff x="389520" y="2471400"/>
              <a:chExt cx="966240" cy="968760"/>
            </a:xfrm>
          </p:grpSpPr>
          <p:sp>
            <p:nvSpPr>
              <p:cNvPr id="624" name="未知"/>
              <p:cNvSpPr/>
              <p:nvPr/>
            </p:nvSpPr>
            <p:spPr>
              <a:xfrm rot="2739000">
                <a:off x="494640" y="264924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未知"/>
              <p:cNvSpPr/>
              <p:nvPr/>
            </p:nvSpPr>
            <p:spPr>
              <a:xfrm rot="4783800">
                <a:off x="482040" y="291024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未知"/>
              <p:cNvSpPr/>
              <p:nvPr/>
            </p:nvSpPr>
            <p:spPr>
              <a:xfrm rot="5082000">
                <a:off x="512640" y="277956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未知"/>
              <p:cNvSpPr/>
              <p:nvPr/>
            </p:nvSpPr>
            <p:spPr>
              <a:xfrm rot="5082000">
                <a:off x="462600" y="285696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349560" y="2930040"/>
              <a:ext cx="798120" cy="617040"/>
              <a:chOff x="349560" y="2930040"/>
              <a:chExt cx="798120" cy="617040"/>
            </a:xfrm>
          </p:grpSpPr>
          <p:sp>
            <p:nvSpPr>
              <p:cNvPr id="629" name="未知"/>
              <p:cNvSpPr/>
              <p:nvPr/>
            </p:nvSpPr>
            <p:spPr>
              <a:xfrm rot="12600">
                <a:off x="370800" y="293256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未知"/>
              <p:cNvSpPr/>
              <p:nvPr/>
            </p:nvSpPr>
            <p:spPr>
              <a:xfrm rot="2057400">
                <a:off x="339120" y="316692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未知"/>
              <p:cNvSpPr/>
              <p:nvPr/>
            </p:nvSpPr>
            <p:spPr>
              <a:xfrm rot="2355600">
                <a:off x="293040" y="313380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未知"/>
              <p:cNvSpPr/>
              <p:nvPr/>
            </p:nvSpPr>
            <p:spPr>
              <a:xfrm rot="2355600">
                <a:off x="307080" y="322596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717840" y="3262680"/>
              <a:ext cx="951840" cy="890640"/>
              <a:chOff x="717840" y="3262680"/>
              <a:chExt cx="951840" cy="890640"/>
            </a:xfrm>
          </p:grpSpPr>
          <p:sp>
            <p:nvSpPr>
              <p:cNvPr id="634" name="未知"/>
              <p:cNvSpPr/>
              <p:nvPr/>
            </p:nvSpPr>
            <p:spPr>
              <a:xfrm rot="12437400">
                <a:off x="815760" y="3401280"/>
                <a:ext cx="75528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未知"/>
              <p:cNvSpPr/>
              <p:nvPr/>
            </p:nvSpPr>
            <p:spPr>
              <a:xfrm rot="14482200">
                <a:off x="725760" y="369504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未知"/>
              <p:cNvSpPr/>
              <p:nvPr/>
            </p:nvSpPr>
            <p:spPr>
              <a:xfrm rot="14781000">
                <a:off x="951120" y="3811320"/>
                <a:ext cx="64728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未知"/>
              <p:cNvSpPr/>
              <p:nvPr/>
            </p:nvSpPr>
            <p:spPr>
              <a:xfrm rot="14781000">
                <a:off x="976680" y="374040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1085040" y="3205080"/>
              <a:ext cx="843840" cy="693720"/>
              <a:chOff x="1085040" y="3205080"/>
              <a:chExt cx="843840" cy="693720"/>
            </a:xfrm>
          </p:grpSpPr>
          <p:sp>
            <p:nvSpPr>
              <p:cNvPr id="639" name="未知"/>
              <p:cNvSpPr/>
              <p:nvPr/>
            </p:nvSpPr>
            <p:spPr>
              <a:xfrm rot="10413000">
                <a:off x="1123920" y="3245400"/>
                <a:ext cx="755640" cy="612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4f"/>
                  </a:gs>
                  <a:gs pos="100000">
                    <a:srgbClr val="ffb03b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未知"/>
              <p:cNvSpPr/>
              <p:nvPr/>
            </p:nvSpPr>
            <p:spPr>
              <a:xfrm rot="12457800">
                <a:off x="1051920" y="3555360"/>
                <a:ext cx="86364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未知"/>
              <p:cNvSpPr/>
              <p:nvPr/>
            </p:nvSpPr>
            <p:spPr>
              <a:xfrm rot="12756600">
                <a:off x="1317960" y="3588840"/>
                <a:ext cx="647640" cy="52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未知"/>
              <p:cNvSpPr/>
              <p:nvPr/>
            </p:nvSpPr>
            <p:spPr>
              <a:xfrm rot="12756600">
                <a:off x="1294200" y="3516120"/>
                <a:ext cx="64800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99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598320" y="2955960"/>
              <a:ext cx="864720" cy="864360"/>
              <a:chOff x="598320" y="2955960"/>
              <a:chExt cx="864720" cy="864360"/>
            </a:xfrm>
          </p:grpSpPr>
          <p:sp>
            <p:nvSpPr>
              <p:cNvPr id="644" name=""/>
              <p:cNvSpPr/>
              <p:nvPr/>
            </p:nvSpPr>
            <p:spPr>
              <a:xfrm rot="12343200">
                <a:off x="706680" y="3063960"/>
                <a:ext cx="647640" cy="647640"/>
              </a:xfrm>
              <a:custGeom>
                <a:avLst/>
                <a:gdLst>
                  <a:gd name="textAreaLeft" fmla="*/ 151920 w 647640"/>
                  <a:gd name="textAreaRight" fmla="*/ 495720 w 647640"/>
                  <a:gd name="textAreaTop" fmla="*/ 151920 h 647640"/>
                  <a:gd name="textAreaBottom" fmla="*/ 49572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2343200">
                <a:off x="804600" y="3181320"/>
                <a:ext cx="432000" cy="4316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-203760" y="3362400"/>
            <a:ext cx="1791000" cy="1946520"/>
            <a:chOff x="-203760" y="3362400"/>
            <a:chExt cx="1791000" cy="1946520"/>
          </a:xfrm>
        </p:grpSpPr>
        <p:grpSp>
          <p:nvGrpSpPr>
            <p:cNvPr id="647" name=""/>
            <p:cNvGrpSpPr/>
            <p:nvPr/>
          </p:nvGrpSpPr>
          <p:grpSpPr>
            <a:xfrm>
              <a:off x="595440" y="3762000"/>
              <a:ext cx="979200" cy="982800"/>
              <a:chOff x="595440" y="3762000"/>
              <a:chExt cx="979200" cy="982800"/>
            </a:xfrm>
          </p:grpSpPr>
          <p:sp>
            <p:nvSpPr>
              <p:cNvPr id="648" name="未知"/>
              <p:cNvSpPr/>
              <p:nvPr/>
            </p:nvSpPr>
            <p:spPr>
              <a:xfrm rot="18826800">
                <a:off x="707760" y="3936600"/>
                <a:ext cx="754560" cy="6332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未知"/>
              <p:cNvSpPr/>
              <p:nvPr/>
            </p:nvSpPr>
            <p:spPr>
              <a:xfrm rot="20871600">
                <a:off x="642240" y="4173840"/>
                <a:ext cx="862560" cy="73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未知"/>
              <p:cNvSpPr/>
              <p:nvPr/>
            </p:nvSpPr>
            <p:spPr>
              <a:xfrm rot="21169800">
                <a:off x="614160" y="4268160"/>
                <a:ext cx="646560" cy="54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未知"/>
              <p:cNvSpPr/>
              <p:nvPr/>
            </p:nvSpPr>
            <p:spPr>
              <a:xfrm rot="21169800">
                <a:off x="683640" y="4326480"/>
                <a:ext cx="64692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10920" y="3583440"/>
              <a:ext cx="795600" cy="884520"/>
              <a:chOff x="610920" y="3583440"/>
              <a:chExt cx="795600" cy="884520"/>
            </a:xfrm>
          </p:grpSpPr>
          <p:sp>
            <p:nvSpPr>
              <p:cNvPr id="653" name="未知"/>
              <p:cNvSpPr/>
              <p:nvPr/>
            </p:nvSpPr>
            <p:spPr>
              <a:xfrm rot="17034600">
                <a:off x="631440" y="3709080"/>
                <a:ext cx="75420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未知"/>
              <p:cNvSpPr/>
              <p:nvPr/>
            </p:nvSpPr>
            <p:spPr>
              <a:xfrm rot="19078800">
                <a:off x="546120" y="3957480"/>
                <a:ext cx="86220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未知"/>
              <p:cNvSpPr/>
              <p:nvPr/>
            </p:nvSpPr>
            <p:spPr>
              <a:xfrm rot="19377600">
                <a:off x="578160" y="4107960"/>
                <a:ext cx="6465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 rot="19377600">
                <a:off x="663120" y="4125240"/>
                <a:ext cx="64692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44360" y="3362400"/>
              <a:ext cx="975600" cy="984960"/>
              <a:chOff x="144360" y="3362400"/>
              <a:chExt cx="975600" cy="984960"/>
            </a:xfrm>
          </p:grpSpPr>
          <p:sp>
            <p:nvSpPr>
              <p:cNvPr id="658" name="未知"/>
              <p:cNvSpPr/>
              <p:nvPr/>
            </p:nvSpPr>
            <p:spPr>
              <a:xfrm rot="13688400">
                <a:off x="254160" y="353844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未知"/>
              <p:cNvSpPr/>
              <p:nvPr/>
            </p:nvSpPr>
            <p:spPr>
              <a:xfrm rot="15733200">
                <a:off x="156600" y="382644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未知"/>
              <p:cNvSpPr/>
              <p:nvPr/>
            </p:nvSpPr>
            <p:spPr>
              <a:xfrm rot="16031400">
                <a:off x="338400" y="397836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未知"/>
              <p:cNvSpPr/>
              <p:nvPr/>
            </p:nvSpPr>
            <p:spPr>
              <a:xfrm rot="16031400">
                <a:off x="393120" y="392148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-191520" y="3634920"/>
              <a:ext cx="889920" cy="789120"/>
              <a:chOff x="-191520" y="3634920"/>
              <a:chExt cx="889920" cy="789120"/>
            </a:xfrm>
          </p:grpSpPr>
          <p:sp>
            <p:nvSpPr>
              <p:cNvPr id="663" name="未知"/>
              <p:cNvSpPr/>
              <p:nvPr/>
            </p:nvSpPr>
            <p:spPr>
              <a:xfrm rot="10003800">
                <a:off x="-128520" y="3713040"/>
                <a:ext cx="75456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未知"/>
              <p:cNvSpPr/>
              <p:nvPr/>
            </p:nvSpPr>
            <p:spPr>
              <a:xfrm rot="12048600">
                <a:off x="-196560" y="4035600"/>
                <a:ext cx="86256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未知"/>
              <p:cNvSpPr/>
              <p:nvPr/>
            </p:nvSpPr>
            <p:spPr>
              <a:xfrm rot="12346800">
                <a:off x="72000" y="4048200"/>
                <a:ext cx="6465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未知"/>
              <p:cNvSpPr/>
              <p:nvPr/>
            </p:nvSpPr>
            <p:spPr>
              <a:xfrm rot="12346800">
                <a:off x="39960" y="3977640"/>
                <a:ext cx="64692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304200" y="4240440"/>
              <a:ext cx="980640" cy="982080"/>
              <a:chOff x="304200" y="4240440"/>
              <a:chExt cx="980640" cy="982080"/>
            </a:xfrm>
          </p:grpSpPr>
          <p:sp>
            <p:nvSpPr>
              <p:cNvPr id="668" name="未知"/>
              <p:cNvSpPr/>
              <p:nvPr/>
            </p:nvSpPr>
            <p:spPr>
              <a:xfrm rot="2727600">
                <a:off x="416880" y="441504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未知"/>
              <p:cNvSpPr/>
              <p:nvPr/>
            </p:nvSpPr>
            <p:spPr>
              <a:xfrm rot="4772400">
                <a:off x="405720" y="468468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未知"/>
              <p:cNvSpPr/>
              <p:nvPr/>
            </p:nvSpPr>
            <p:spPr>
              <a:xfrm rot="5070600">
                <a:off x="433080" y="455544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未知"/>
              <p:cNvSpPr/>
              <p:nvPr/>
            </p:nvSpPr>
            <p:spPr>
              <a:xfrm rot="5070600">
                <a:off x="381600" y="463284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-11880" y="4292280"/>
              <a:ext cx="681840" cy="795600"/>
              <a:chOff x="-11880" y="4292280"/>
              <a:chExt cx="681840" cy="795600"/>
            </a:xfrm>
          </p:grpSpPr>
          <p:sp>
            <p:nvSpPr>
              <p:cNvPr id="673" name="未知"/>
              <p:cNvSpPr/>
              <p:nvPr/>
            </p:nvSpPr>
            <p:spPr>
              <a:xfrm rot="5628000">
                <a:off x="-48240" y="4373640"/>
                <a:ext cx="75528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未知"/>
              <p:cNvSpPr/>
              <p:nvPr/>
            </p:nvSpPr>
            <p:spPr>
              <a:xfrm rot="7672800">
                <a:off x="-65880" y="467928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未知"/>
              <p:cNvSpPr/>
              <p:nvPr/>
            </p:nvSpPr>
            <p:spPr>
              <a:xfrm rot="7971000">
                <a:off x="92160" y="453600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未知"/>
              <p:cNvSpPr/>
              <p:nvPr/>
            </p:nvSpPr>
            <p:spPr>
              <a:xfrm rot="7971000">
                <a:off x="6480" y="455220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-199440" y="4006440"/>
              <a:ext cx="895680" cy="953280"/>
              <a:chOff x="-199440" y="4006440"/>
              <a:chExt cx="895680" cy="953280"/>
            </a:xfrm>
          </p:grpSpPr>
          <p:sp>
            <p:nvSpPr>
              <p:cNvPr id="678" name="未知"/>
              <p:cNvSpPr/>
              <p:nvPr/>
            </p:nvSpPr>
            <p:spPr>
              <a:xfrm rot="6925800">
                <a:off x="-128520" y="4166280"/>
                <a:ext cx="75456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未知"/>
              <p:cNvSpPr/>
              <p:nvPr/>
            </p:nvSpPr>
            <p:spPr>
              <a:xfrm rot="8970600">
                <a:off x="-158400" y="4483440"/>
                <a:ext cx="86256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未知"/>
              <p:cNvSpPr/>
              <p:nvPr/>
            </p:nvSpPr>
            <p:spPr>
              <a:xfrm rot="9268800">
                <a:off x="52560" y="4370040"/>
                <a:ext cx="6465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未知"/>
              <p:cNvSpPr/>
              <p:nvPr/>
            </p:nvSpPr>
            <p:spPr>
              <a:xfrm rot="9268800">
                <a:off x="-29520" y="4353840"/>
                <a:ext cx="64692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680760" y="4073760"/>
              <a:ext cx="906480" cy="816480"/>
              <a:chOff x="680760" y="4073760"/>
              <a:chExt cx="906480" cy="816480"/>
            </a:xfrm>
          </p:grpSpPr>
          <p:sp>
            <p:nvSpPr>
              <p:cNvPr id="683" name="未知"/>
              <p:cNvSpPr/>
              <p:nvPr/>
            </p:nvSpPr>
            <p:spPr>
              <a:xfrm rot="20636400">
                <a:off x="759960" y="4165200"/>
                <a:ext cx="754560" cy="632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未知"/>
              <p:cNvSpPr/>
              <p:nvPr/>
            </p:nvSpPr>
            <p:spPr>
              <a:xfrm rot="1081200">
                <a:off x="717480" y="4402440"/>
                <a:ext cx="86256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未知"/>
              <p:cNvSpPr/>
              <p:nvPr/>
            </p:nvSpPr>
            <p:spPr>
              <a:xfrm rot="1379400">
                <a:off x="665280" y="4416480"/>
                <a:ext cx="6465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未知"/>
              <p:cNvSpPr/>
              <p:nvPr/>
            </p:nvSpPr>
            <p:spPr>
              <a:xfrm rot="1379400">
                <a:off x="700920" y="4503240"/>
                <a:ext cx="64692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92840" y="4268160"/>
              <a:ext cx="876960" cy="770760"/>
              <a:chOff x="492840" y="4268160"/>
              <a:chExt cx="876960" cy="770760"/>
            </a:xfrm>
          </p:grpSpPr>
          <p:sp>
            <p:nvSpPr>
              <p:cNvPr id="688" name="未知"/>
              <p:cNvSpPr/>
              <p:nvPr/>
            </p:nvSpPr>
            <p:spPr>
              <a:xfrm rot="805800">
                <a:off x="553320" y="4347360"/>
                <a:ext cx="755280" cy="612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未知"/>
              <p:cNvSpPr/>
              <p:nvPr/>
            </p:nvSpPr>
            <p:spPr>
              <a:xfrm rot="2850600">
                <a:off x="529560" y="4587120"/>
                <a:ext cx="863280" cy="70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未知"/>
              <p:cNvSpPr/>
              <p:nvPr/>
            </p:nvSpPr>
            <p:spPr>
              <a:xfrm rot="3148800">
                <a:off x="497520" y="4519800"/>
                <a:ext cx="64728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未知"/>
              <p:cNvSpPr/>
              <p:nvPr/>
            </p:nvSpPr>
            <p:spPr>
              <a:xfrm rot="3148800">
                <a:off x="491400" y="4612680"/>
                <a:ext cx="64764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-203760" y="3812760"/>
              <a:ext cx="1039320" cy="970560"/>
              <a:chOff x="-203760" y="3812760"/>
              <a:chExt cx="1039320" cy="970560"/>
            </a:xfrm>
          </p:grpSpPr>
          <p:sp>
            <p:nvSpPr>
              <p:cNvPr id="693" name="未知"/>
              <p:cNvSpPr/>
              <p:nvPr/>
            </p:nvSpPr>
            <p:spPr>
              <a:xfrm rot="7717200">
                <a:off x="68040" y="3830760"/>
                <a:ext cx="495360" cy="934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未知"/>
              <p:cNvSpPr/>
              <p:nvPr/>
            </p:nvSpPr>
            <p:spPr>
              <a:xfrm rot="9762000">
                <a:off x="50400" y="4305960"/>
                <a:ext cx="56628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未知"/>
              <p:cNvSpPr/>
              <p:nvPr/>
            </p:nvSpPr>
            <p:spPr>
              <a:xfrm rot="10060200">
                <a:off x="193320" y="4203360"/>
                <a:ext cx="42480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未知"/>
              <p:cNvSpPr/>
              <p:nvPr/>
            </p:nvSpPr>
            <p:spPr>
              <a:xfrm rot="10060200">
                <a:off x="134640" y="4141800"/>
                <a:ext cx="42480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309240" y="3486960"/>
              <a:ext cx="952560" cy="868680"/>
              <a:chOff x="309240" y="3486960"/>
              <a:chExt cx="952560" cy="868680"/>
            </a:xfrm>
          </p:grpSpPr>
          <p:sp>
            <p:nvSpPr>
              <p:cNvPr id="698" name="未知"/>
              <p:cNvSpPr/>
              <p:nvPr/>
            </p:nvSpPr>
            <p:spPr>
              <a:xfrm rot="13857000">
                <a:off x="604440" y="3454200"/>
                <a:ext cx="361440" cy="933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未知"/>
              <p:cNvSpPr/>
              <p:nvPr/>
            </p:nvSpPr>
            <p:spPr>
              <a:xfrm rot="15901800">
                <a:off x="514080" y="3870720"/>
                <a:ext cx="412920" cy="10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 rot="16200000">
                <a:off x="664560" y="3954240"/>
                <a:ext cx="309600" cy="79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未知"/>
              <p:cNvSpPr/>
              <p:nvPr/>
            </p:nvSpPr>
            <p:spPr>
              <a:xfrm rot="16200000">
                <a:off x="749520" y="3936960"/>
                <a:ext cx="309960" cy="53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114120" y="3647160"/>
              <a:ext cx="728640" cy="775800"/>
              <a:chOff x="114120" y="3647160"/>
              <a:chExt cx="728640" cy="775800"/>
            </a:xfrm>
          </p:grpSpPr>
          <p:sp>
            <p:nvSpPr>
              <p:cNvPr id="703" name="未知"/>
              <p:cNvSpPr/>
              <p:nvPr/>
            </p:nvSpPr>
            <p:spPr>
              <a:xfrm rot="11895600">
                <a:off x="199080" y="3718800"/>
                <a:ext cx="558360" cy="632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未知"/>
              <p:cNvSpPr/>
              <p:nvPr/>
            </p:nvSpPr>
            <p:spPr>
              <a:xfrm rot="13940400">
                <a:off x="124920" y="4025520"/>
                <a:ext cx="63792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未知"/>
              <p:cNvSpPr/>
              <p:nvPr/>
            </p:nvSpPr>
            <p:spPr>
              <a:xfrm rot="14238600">
                <a:off x="319320" y="4090320"/>
                <a:ext cx="47844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未知"/>
              <p:cNvSpPr/>
              <p:nvPr/>
            </p:nvSpPr>
            <p:spPr>
              <a:xfrm rot="14238600">
                <a:off x="342000" y="4028400"/>
                <a:ext cx="4788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118440" y="4370040"/>
              <a:ext cx="871560" cy="938880"/>
              <a:chOff x="118440" y="4370040"/>
              <a:chExt cx="871560" cy="938880"/>
            </a:xfrm>
          </p:grpSpPr>
          <p:sp>
            <p:nvSpPr>
              <p:cNvPr id="708" name="未知"/>
              <p:cNvSpPr/>
              <p:nvPr/>
            </p:nvSpPr>
            <p:spPr>
              <a:xfrm rot="4063800">
                <a:off x="176400" y="4523400"/>
                <a:ext cx="755280" cy="6325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未知"/>
              <p:cNvSpPr/>
              <p:nvPr/>
            </p:nvSpPr>
            <p:spPr>
              <a:xfrm rot="6108000">
                <a:off x="165960" y="4810320"/>
                <a:ext cx="86328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未知"/>
              <p:cNvSpPr/>
              <p:nvPr/>
            </p:nvSpPr>
            <p:spPr>
              <a:xfrm rot="6406200">
                <a:off x="252360" y="4660560"/>
                <a:ext cx="64728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未知"/>
              <p:cNvSpPr/>
              <p:nvPr/>
            </p:nvSpPr>
            <p:spPr>
              <a:xfrm rot="6406200">
                <a:off x="178920" y="4713480"/>
                <a:ext cx="64764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323280" y="4012920"/>
              <a:ext cx="646920" cy="647280"/>
              <a:chOff x="323280" y="4012920"/>
              <a:chExt cx="646920" cy="647280"/>
            </a:xfrm>
          </p:grpSpPr>
          <p:sp>
            <p:nvSpPr>
              <p:cNvPr id="713" name=""/>
              <p:cNvSpPr/>
              <p:nvPr/>
            </p:nvSpPr>
            <p:spPr>
              <a:xfrm>
                <a:off x="323280" y="4012920"/>
                <a:ext cx="646920" cy="647280"/>
              </a:xfrm>
              <a:custGeom>
                <a:avLst/>
                <a:gdLst>
                  <a:gd name="textAreaLeft" fmla="*/ 151920 w 646920"/>
                  <a:gd name="textAreaRight" fmla="*/ 495000 w 646920"/>
                  <a:gd name="textAreaTop" fmla="*/ 151920 h 647280"/>
                  <a:gd name="textAreaBottom" fmla="*/ 4953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35600" y="4107960"/>
                <a:ext cx="431280" cy="43128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5724360" y="5921280"/>
            <a:ext cx="936720" cy="936720"/>
            <a:chOff x="5724360" y="5921280"/>
            <a:chExt cx="936720" cy="936720"/>
          </a:xfrm>
        </p:grpSpPr>
        <p:sp>
          <p:nvSpPr>
            <p:cNvPr id="716" name=""/>
            <p:cNvSpPr/>
            <p:nvPr/>
          </p:nvSpPr>
          <p:spPr>
            <a:xfrm>
              <a:off x="5834520" y="6031440"/>
              <a:ext cx="715680" cy="715680"/>
            </a:xfrm>
            <a:prstGeom prst="donut">
              <a:avLst>
                <a:gd name="adj" fmla="val 8819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24360" y="5921280"/>
              <a:ext cx="936720" cy="936720"/>
            </a:xfrm>
            <a:prstGeom prst="donut">
              <a:avLst>
                <a:gd name="adj" fmla="val 3759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6504120" y="5340240"/>
            <a:ext cx="913320" cy="989640"/>
            <a:chOff x="6504120" y="5340240"/>
            <a:chExt cx="913320" cy="989640"/>
          </a:xfrm>
        </p:grpSpPr>
        <p:grpSp>
          <p:nvGrpSpPr>
            <p:cNvPr id="719" name=""/>
            <p:cNvGrpSpPr/>
            <p:nvPr/>
          </p:nvGrpSpPr>
          <p:grpSpPr>
            <a:xfrm>
              <a:off x="6912000" y="5542560"/>
              <a:ext cx="498600" cy="500400"/>
              <a:chOff x="6912000" y="5542560"/>
              <a:chExt cx="498600" cy="500400"/>
            </a:xfrm>
          </p:grpSpPr>
          <p:sp>
            <p:nvSpPr>
              <p:cNvPr id="720" name="未知"/>
              <p:cNvSpPr/>
              <p:nvPr/>
            </p:nvSpPr>
            <p:spPr>
              <a:xfrm rot="18826800">
                <a:off x="6968880" y="5631480"/>
                <a:ext cx="38448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未知"/>
              <p:cNvSpPr/>
              <p:nvPr/>
            </p:nvSpPr>
            <p:spPr>
              <a:xfrm rot="20871600">
                <a:off x="6935040" y="575280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未知"/>
              <p:cNvSpPr/>
              <p:nvPr/>
            </p:nvSpPr>
            <p:spPr>
              <a:xfrm rot="21169800">
                <a:off x="6920640" y="580068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未知"/>
              <p:cNvSpPr/>
              <p:nvPr/>
            </p:nvSpPr>
            <p:spPr>
              <a:xfrm rot="21169800">
                <a:off x="6955920" y="583020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6919560" y="5452200"/>
              <a:ext cx="404640" cy="450360"/>
              <a:chOff x="6919560" y="5452200"/>
              <a:chExt cx="404640" cy="450360"/>
            </a:xfrm>
          </p:grpSpPr>
          <p:sp>
            <p:nvSpPr>
              <p:cNvPr id="725" name="未知"/>
              <p:cNvSpPr/>
              <p:nvPr/>
            </p:nvSpPr>
            <p:spPr>
              <a:xfrm rot="17034600">
                <a:off x="6929640" y="5516280"/>
                <a:ext cx="38412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未知"/>
              <p:cNvSpPr/>
              <p:nvPr/>
            </p:nvSpPr>
            <p:spPr>
              <a:xfrm rot="19078800">
                <a:off x="6886440" y="564264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未知"/>
              <p:cNvSpPr/>
              <p:nvPr/>
            </p:nvSpPr>
            <p:spPr>
              <a:xfrm rot="19377600">
                <a:off x="6902640" y="571896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未知"/>
              <p:cNvSpPr/>
              <p:nvPr/>
            </p:nvSpPr>
            <p:spPr>
              <a:xfrm rot="19377600">
                <a:off x="6945840" y="572760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681600" y="5340240"/>
              <a:ext cx="496440" cy="501120"/>
              <a:chOff x="6681600" y="5340240"/>
              <a:chExt cx="496440" cy="501120"/>
            </a:xfrm>
          </p:grpSpPr>
          <p:sp>
            <p:nvSpPr>
              <p:cNvPr id="730" name="未知"/>
              <p:cNvSpPr/>
              <p:nvPr/>
            </p:nvSpPr>
            <p:spPr>
              <a:xfrm rot="13688400">
                <a:off x="6737400" y="542952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未知"/>
              <p:cNvSpPr/>
              <p:nvPr/>
            </p:nvSpPr>
            <p:spPr>
              <a:xfrm rot="15733200">
                <a:off x="6688080" y="557604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未知"/>
              <p:cNvSpPr/>
              <p:nvPr/>
            </p:nvSpPr>
            <p:spPr>
              <a:xfrm rot="16031400">
                <a:off x="6780600" y="56530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未知"/>
              <p:cNvSpPr/>
              <p:nvPr/>
            </p:nvSpPr>
            <p:spPr>
              <a:xfrm rot="16031400">
                <a:off x="6808320" y="562428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6510240" y="5478480"/>
              <a:ext cx="453240" cy="401400"/>
              <a:chOff x="6510240" y="5478480"/>
              <a:chExt cx="453240" cy="401400"/>
            </a:xfrm>
          </p:grpSpPr>
          <p:sp>
            <p:nvSpPr>
              <p:cNvPr id="735" name="未知"/>
              <p:cNvSpPr/>
              <p:nvPr/>
            </p:nvSpPr>
            <p:spPr>
              <a:xfrm rot="10003800">
                <a:off x="6541920" y="551808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未知"/>
              <p:cNvSpPr/>
              <p:nvPr/>
            </p:nvSpPr>
            <p:spPr>
              <a:xfrm rot="12048600">
                <a:off x="6508080" y="568188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未知"/>
              <p:cNvSpPr/>
              <p:nvPr/>
            </p:nvSpPr>
            <p:spPr>
              <a:xfrm rot="12346800">
                <a:off x="6644160" y="568836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未知"/>
              <p:cNvSpPr/>
              <p:nvPr/>
            </p:nvSpPr>
            <p:spPr>
              <a:xfrm rot="12346800">
                <a:off x="6627960" y="565272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6762960" y="5785920"/>
              <a:ext cx="498960" cy="499680"/>
              <a:chOff x="6762960" y="5785920"/>
              <a:chExt cx="498960" cy="499680"/>
            </a:xfrm>
          </p:grpSpPr>
          <p:sp>
            <p:nvSpPr>
              <p:cNvPr id="740" name="未知"/>
              <p:cNvSpPr/>
              <p:nvPr/>
            </p:nvSpPr>
            <p:spPr>
              <a:xfrm rot="2727600">
                <a:off x="6820200" y="587448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未知"/>
              <p:cNvSpPr/>
              <p:nvPr/>
            </p:nvSpPr>
            <p:spPr>
              <a:xfrm rot="4772400">
                <a:off x="6814800" y="601200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未知"/>
              <p:cNvSpPr/>
              <p:nvPr/>
            </p:nvSpPr>
            <p:spPr>
              <a:xfrm rot="5070600">
                <a:off x="6828480" y="59464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未知"/>
              <p:cNvSpPr/>
              <p:nvPr/>
            </p:nvSpPr>
            <p:spPr>
              <a:xfrm rot="5070600">
                <a:off x="6802200" y="598572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6602040" y="5812560"/>
              <a:ext cx="347040" cy="404640"/>
              <a:chOff x="6602040" y="5812560"/>
              <a:chExt cx="347040" cy="404640"/>
            </a:xfrm>
          </p:grpSpPr>
          <p:sp>
            <p:nvSpPr>
              <p:cNvPr id="745" name="未知"/>
              <p:cNvSpPr/>
              <p:nvPr/>
            </p:nvSpPr>
            <p:spPr>
              <a:xfrm rot="5628000">
                <a:off x="6583320" y="585360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未知"/>
              <p:cNvSpPr/>
              <p:nvPr/>
            </p:nvSpPr>
            <p:spPr>
              <a:xfrm rot="7672800">
                <a:off x="6574320" y="600912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未知"/>
              <p:cNvSpPr/>
              <p:nvPr/>
            </p:nvSpPr>
            <p:spPr>
              <a:xfrm rot="7971000">
                <a:off x="6654600" y="593640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未知"/>
              <p:cNvSpPr/>
              <p:nvPr/>
            </p:nvSpPr>
            <p:spPr>
              <a:xfrm rot="7971000">
                <a:off x="6611040" y="594468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6506280" y="5667480"/>
              <a:ext cx="455760" cy="485280"/>
              <a:chOff x="6506280" y="5667480"/>
              <a:chExt cx="455760" cy="485280"/>
            </a:xfrm>
          </p:grpSpPr>
          <p:sp>
            <p:nvSpPr>
              <p:cNvPr id="750" name="未知"/>
              <p:cNvSpPr/>
              <p:nvPr/>
            </p:nvSpPr>
            <p:spPr>
              <a:xfrm rot="6925800">
                <a:off x="6541560" y="574920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未知"/>
              <p:cNvSpPr/>
              <p:nvPr/>
            </p:nvSpPr>
            <p:spPr>
              <a:xfrm rot="8970600">
                <a:off x="6527160" y="590976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未知"/>
              <p:cNvSpPr/>
              <p:nvPr/>
            </p:nvSpPr>
            <p:spPr>
              <a:xfrm rot="9268800">
                <a:off x="6634080" y="585252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未知"/>
              <p:cNvSpPr/>
              <p:nvPr/>
            </p:nvSpPr>
            <p:spPr>
              <a:xfrm rot="9268800">
                <a:off x="6592680" y="584388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6954840" y="5701680"/>
              <a:ext cx="462600" cy="415440"/>
              <a:chOff x="6954840" y="5701680"/>
              <a:chExt cx="462600" cy="415440"/>
            </a:xfrm>
          </p:grpSpPr>
          <p:sp>
            <p:nvSpPr>
              <p:cNvPr id="755" name="未知"/>
              <p:cNvSpPr/>
              <p:nvPr/>
            </p:nvSpPr>
            <p:spPr>
              <a:xfrm rot="20636400">
                <a:off x="6995520" y="5748120"/>
                <a:ext cx="384480" cy="3218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未知"/>
              <p:cNvSpPr/>
              <p:nvPr/>
            </p:nvSpPr>
            <p:spPr>
              <a:xfrm rot="1081200">
                <a:off x="6973560" y="5869080"/>
                <a:ext cx="4395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未知"/>
              <p:cNvSpPr/>
              <p:nvPr/>
            </p:nvSpPr>
            <p:spPr>
              <a:xfrm rot="1379400">
                <a:off x="6946920" y="5875920"/>
                <a:ext cx="3297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 rot="1379400">
                <a:off x="6964920" y="5919840"/>
                <a:ext cx="3297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6859080" y="5799960"/>
              <a:ext cx="446040" cy="392400"/>
              <a:chOff x="6859080" y="5799960"/>
              <a:chExt cx="446040" cy="392400"/>
            </a:xfrm>
          </p:grpSpPr>
          <p:sp>
            <p:nvSpPr>
              <p:cNvPr id="760" name="未知"/>
              <p:cNvSpPr/>
              <p:nvPr/>
            </p:nvSpPr>
            <p:spPr>
              <a:xfrm rot="805800">
                <a:off x="6889680" y="5840280"/>
                <a:ext cx="384120" cy="311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未知"/>
              <p:cNvSpPr/>
              <p:nvPr/>
            </p:nvSpPr>
            <p:spPr>
              <a:xfrm rot="2850600">
                <a:off x="6877800" y="5962680"/>
                <a:ext cx="43920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未知"/>
              <p:cNvSpPr/>
              <p:nvPr/>
            </p:nvSpPr>
            <p:spPr>
              <a:xfrm rot="3148800">
                <a:off x="6861600" y="5928840"/>
                <a:ext cx="329400" cy="26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未知"/>
              <p:cNvSpPr/>
              <p:nvPr/>
            </p:nvSpPr>
            <p:spPr>
              <a:xfrm rot="3148800">
                <a:off x="6858360" y="5976000"/>
                <a:ext cx="329400" cy="17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6504120" y="5568480"/>
              <a:ext cx="529200" cy="494280"/>
              <a:chOff x="6504120" y="5568480"/>
              <a:chExt cx="529200" cy="494280"/>
            </a:xfrm>
          </p:grpSpPr>
          <p:sp>
            <p:nvSpPr>
              <p:cNvPr id="765" name="未知"/>
              <p:cNvSpPr/>
              <p:nvPr/>
            </p:nvSpPr>
            <p:spPr>
              <a:xfrm rot="7717200">
                <a:off x="6642360" y="5577480"/>
                <a:ext cx="252360" cy="475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未知"/>
              <p:cNvSpPr/>
              <p:nvPr/>
            </p:nvSpPr>
            <p:spPr>
              <a:xfrm rot="9762000">
                <a:off x="6633000" y="5819760"/>
                <a:ext cx="28872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 rot="10060200">
                <a:off x="6706080" y="5767920"/>
                <a:ext cx="21636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未知"/>
              <p:cNvSpPr/>
              <p:nvPr/>
            </p:nvSpPr>
            <p:spPr>
              <a:xfrm rot="10060200">
                <a:off x="6676560" y="5736600"/>
                <a:ext cx="21636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765840" y="5402520"/>
              <a:ext cx="485280" cy="442440"/>
              <a:chOff x="6765840" y="5402520"/>
              <a:chExt cx="485280" cy="442440"/>
            </a:xfrm>
          </p:grpSpPr>
          <p:sp>
            <p:nvSpPr>
              <p:cNvPr id="770" name="未知"/>
              <p:cNvSpPr/>
              <p:nvPr/>
            </p:nvSpPr>
            <p:spPr>
              <a:xfrm rot="13857000">
                <a:off x="6916320" y="5385600"/>
                <a:ext cx="183600" cy="475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未知"/>
              <p:cNvSpPr/>
              <p:nvPr/>
            </p:nvSpPr>
            <p:spPr>
              <a:xfrm rot="15901800">
                <a:off x="6869880" y="5598000"/>
                <a:ext cx="209880" cy="54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未知"/>
              <p:cNvSpPr/>
              <p:nvPr/>
            </p:nvSpPr>
            <p:spPr>
              <a:xfrm rot="16200000">
                <a:off x="6946920" y="5640480"/>
                <a:ext cx="157320" cy="403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未知"/>
              <p:cNvSpPr/>
              <p:nvPr/>
            </p:nvSpPr>
            <p:spPr>
              <a:xfrm rot="16200000">
                <a:off x="6990120" y="5631840"/>
                <a:ext cx="157680" cy="27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66480" y="5484240"/>
              <a:ext cx="370800" cy="394920"/>
              <a:chOff x="6666480" y="5484240"/>
              <a:chExt cx="370800" cy="394920"/>
            </a:xfrm>
          </p:grpSpPr>
          <p:sp>
            <p:nvSpPr>
              <p:cNvPr id="775" name="未知"/>
              <p:cNvSpPr/>
              <p:nvPr/>
            </p:nvSpPr>
            <p:spPr>
              <a:xfrm rot="11895600">
                <a:off x="6709680" y="5520240"/>
                <a:ext cx="28404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未知"/>
              <p:cNvSpPr/>
              <p:nvPr/>
            </p:nvSpPr>
            <p:spPr>
              <a:xfrm rot="13940400">
                <a:off x="6672240" y="5677200"/>
                <a:ext cx="32436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未知"/>
              <p:cNvSpPr/>
              <p:nvPr/>
            </p:nvSpPr>
            <p:spPr>
              <a:xfrm rot="14238600">
                <a:off x="6770880" y="5709600"/>
                <a:ext cx="24336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未知"/>
              <p:cNvSpPr/>
              <p:nvPr/>
            </p:nvSpPr>
            <p:spPr>
              <a:xfrm rot="14238600">
                <a:off x="6782400" y="5678280"/>
                <a:ext cx="24336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668640" y="5852160"/>
              <a:ext cx="443520" cy="477720"/>
              <a:chOff x="6668640" y="5852160"/>
              <a:chExt cx="443520" cy="477720"/>
            </a:xfrm>
          </p:grpSpPr>
          <p:sp>
            <p:nvSpPr>
              <p:cNvPr id="780" name="未知"/>
              <p:cNvSpPr/>
              <p:nvPr/>
            </p:nvSpPr>
            <p:spPr>
              <a:xfrm rot="4063800">
                <a:off x="6698160" y="5929560"/>
                <a:ext cx="384120" cy="3222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未知"/>
              <p:cNvSpPr/>
              <p:nvPr/>
            </p:nvSpPr>
            <p:spPr>
              <a:xfrm rot="6108000">
                <a:off x="6692760" y="6076080"/>
                <a:ext cx="439200" cy="37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未知"/>
              <p:cNvSpPr/>
              <p:nvPr/>
            </p:nvSpPr>
            <p:spPr>
              <a:xfrm rot="6406200">
                <a:off x="6736680" y="6000480"/>
                <a:ext cx="32940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未知"/>
              <p:cNvSpPr/>
              <p:nvPr/>
            </p:nvSpPr>
            <p:spPr>
              <a:xfrm rot="6406200">
                <a:off x="6699240" y="6027120"/>
                <a:ext cx="329400" cy="18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6772680" y="5670720"/>
              <a:ext cx="329400" cy="329040"/>
              <a:chOff x="6772680" y="5670720"/>
              <a:chExt cx="329400" cy="329040"/>
            </a:xfrm>
          </p:grpSpPr>
          <p:sp>
            <p:nvSpPr>
              <p:cNvPr id="785" name=""/>
              <p:cNvSpPr/>
              <p:nvPr/>
            </p:nvSpPr>
            <p:spPr>
              <a:xfrm>
                <a:off x="6772680" y="5670720"/>
                <a:ext cx="329400" cy="329040"/>
              </a:xfrm>
              <a:custGeom>
                <a:avLst/>
                <a:gdLst>
                  <a:gd name="textAreaLeft" fmla="*/ 77400 w 329400"/>
                  <a:gd name="textAreaRight" fmla="*/ 252000 w 329400"/>
                  <a:gd name="textAreaTop" fmla="*/ 77040 h 329040"/>
                  <a:gd name="textAreaBottom" fmla="*/ 252000 h 32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29920" y="5718960"/>
                <a:ext cx="219600" cy="21924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7" name=""/>
          <p:cNvGrpSpPr/>
          <p:nvPr/>
        </p:nvGrpSpPr>
        <p:grpSpPr>
          <a:xfrm>
            <a:off x="6217920" y="5850000"/>
            <a:ext cx="728640" cy="789480"/>
            <a:chOff x="6217920" y="5850000"/>
            <a:chExt cx="728640" cy="789480"/>
          </a:xfrm>
        </p:grpSpPr>
        <p:grpSp>
          <p:nvGrpSpPr>
            <p:cNvPr id="788" name=""/>
            <p:cNvGrpSpPr/>
            <p:nvPr/>
          </p:nvGrpSpPr>
          <p:grpSpPr>
            <a:xfrm>
              <a:off x="6543000" y="6011640"/>
              <a:ext cx="398160" cy="399600"/>
              <a:chOff x="6543000" y="6011640"/>
              <a:chExt cx="398160" cy="399600"/>
            </a:xfrm>
          </p:grpSpPr>
          <p:sp>
            <p:nvSpPr>
              <p:cNvPr id="789" name="未知"/>
              <p:cNvSpPr/>
              <p:nvPr/>
            </p:nvSpPr>
            <p:spPr>
              <a:xfrm rot="18826800">
                <a:off x="6588360" y="6082920"/>
                <a:ext cx="307080" cy="257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未知"/>
              <p:cNvSpPr/>
              <p:nvPr/>
            </p:nvSpPr>
            <p:spPr>
              <a:xfrm rot="20871600">
                <a:off x="6561720" y="617904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未知"/>
              <p:cNvSpPr/>
              <p:nvPr/>
            </p:nvSpPr>
            <p:spPr>
              <a:xfrm rot="21169800">
                <a:off x="6549840" y="621792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未知"/>
              <p:cNvSpPr/>
              <p:nvPr/>
            </p:nvSpPr>
            <p:spPr>
              <a:xfrm rot="21169800">
                <a:off x="6578280" y="6241320"/>
                <a:ext cx="26316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549840" y="5939280"/>
              <a:ext cx="322920" cy="359280"/>
              <a:chOff x="6549840" y="5939280"/>
              <a:chExt cx="322920" cy="359280"/>
            </a:xfrm>
          </p:grpSpPr>
          <p:sp>
            <p:nvSpPr>
              <p:cNvPr id="794" name="未知"/>
              <p:cNvSpPr/>
              <p:nvPr/>
            </p:nvSpPr>
            <p:spPr>
              <a:xfrm rot="17034600">
                <a:off x="6557760" y="5990400"/>
                <a:ext cx="30672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未知"/>
              <p:cNvSpPr/>
              <p:nvPr/>
            </p:nvSpPr>
            <p:spPr>
              <a:xfrm rot="19078800">
                <a:off x="6522840" y="6091200"/>
                <a:ext cx="35064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未知"/>
              <p:cNvSpPr/>
              <p:nvPr/>
            </p:nvSpPr>
            <p:spPr>
              <a:xfrm rot="19377600">
                <a:off x="6535800" y="6152760"/>
                <a:ext cx="26280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未知"/>
              <p:cNvSpPr/>
              <p:nvPr/>
            </p:nvSpPr>
            <p:spPr>
              <a:xfrm rot="19377600">
                <a:off x="6570360" y="615924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359400" y="5850000"/>
              <a:ext cx="396360" cy="399960"/>
              <a:chOff x="6359400" y="5850000"/>
              <a:chExt cx="396360" cy="399960"/>
            </a:xfrm>
          </p:grpSpPr>
          <p:sp>
            <p:nvSpPr>
              <p:cNvPr id="799" name="未知"/>
              <p:cNvSpPr/>
              <p:nvPr/>
            </p:nvSpPr>
            <p:spPr>
              <a:xfrm rot="13688400">
                <a:off x="6404040" y="5921280"/>
                <a:ext cx="30636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未知"/>
              <p:cNvSpPr/>
              <p:nvPr/>
            </p:nvSpPr>
            <p:spPr>
              <a:xfrm rot="15733200">
                <a:off x="6364440" y="603828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未知"/>
              <p:cNvSpPr/>
              <p:nvPr/>
            </p:nvSpPr>
            <p:spPr>
              <a:xfrm rot="16031400">
                <a:off x="6438240" y="6099840"/>
                <a:ext cx="2628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未知"/>
              <p:cNvSpPr/>
              <p:nvPr/>
            </p:nvSpPr>
            <p:spPr>
              <a:xfrm rot="16031400">
                <a:off x="6460200" y="607644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6222600" y="5960160"/>
              <a:ext cx="362160" cy="320400"/>
              <a:chOff x="6222600" y="5960160"/>
              <a:chExt cx="362160" cy="320400"/>
            </a:xfrm>
          </p:grpSpPr>
          <p:sp>
            <p:nvSpPr>
              <p:cNvPr id="804" name="未知"/>
              <p:cNvSpPr/>
              <p:nvPr/>
            </p:nvSpPr>
            <p:spPr>
              <a:xfrm rot="10003800">
                <a:off x="6247800" y="5991840"/>
                <a:ext cx="30708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未知"/>
              <p:cNvSpPr/>
              <p:nvPr/>
            </p:nvSpPr>
            <p:spPr>
              <a:xfrm rot="12048600">
                <a:off x="6220800" y="612288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未知"/>
              <p:cNvSpPr/>
              <p:nvPr/>
            </p:nvSpPr>
            <p:spPr>
              <a:xfrm rot="12346800">
                <a:off x="6329880" y="612828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未知"/>
              <p:cNvSpPr/>
              <p:nvPr/>
            </p:nvSpPr>
            <p:spPr>
              <a:xfrm rot="12346800">
                <a:off x="6316920" y="609948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6423840" y="6206040"/>
              <a:ext cx="398520" cy="398880"/>
              <a:chOff x="6423840" y="6206040"/>
              <a:chExt cx="398520" cy="398880"/>
            </a:xfrm>
          </p:grpSpPr>
          <p:sp>
            <p:nvSpPr>
              <p:cNvPr id="809" name="未知"/>
              <p:cNvSpPr/>
              <p:nvPr/>
            </p:nvSpPr>
            <p:spPr>
              <a:xfrm rot="2727600">
                <a:off x="6469920" y="6276600"/>
                <a:ext cx="30636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未知"/>
              <p:cNvSpPr/>
              <p:nvPr/>
            </p:nvSpPr>
            <p:spPr>
              <a:xfrm rot="4772400">
                <a:off x="6465600" y="638640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未知"/>
              <p:cNvSpPr/>
              <p:nvPr/>
            </p:nvSpPr>
            <p:spPr>
              <a:xfrm rot="5070600">
                <a:off x="6476400" y="6333840"/>
                <a:ext cx="2628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未知"/>
              <p:cNvSpPr/>
              <p:nvPr/>
            </p:nvSpPr>
            <p:spPr>
              <a:xfrm rot="5070600">
                <a:off x="6455880" y="636516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6295680" y="6226920"/>
              <a:ext cx="277200" cy="322920"/>
              <a:chOff x="6295680" y="6226920"/>
              <a:chExt cx="277200" cy="322920"/>
            </a:xfrm>
          </p:grpSpPr>
          <p:sp>
            <p:nvSpPr>
              <p:cNvPr id="814" name="未知"/>
              <p:cNvSpPr/>
              <p:nvPr/>
            </p:nvSpPr>
            <p:spPr>
              <a:xfrm rot="5628000">
                <a:off x="6280920" y="6259680"/>
                <a:ext cx="306360" cy="2574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未知"/>
              <p:cNvSpPr/>
              <p:nvPr/>
            </p:nvSpPr>
            <p:spPr>
              <a:xfrm rot="7672800">
                <a:off x="6273720" y="638388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未知"/>
              <p:cNvSpPr/>
              <p:nvPr/>
            </p:nvSpPr>
            <p:spPr>
              <a:xfrm rot="7971000">
                <a:off x="6337440" y="6325920"/>
                <a:ext cx="262800" cy="219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未知"/>
              <p:cNvSpPr/>
              <p:nvPr/>
            </p:nvSpPr>
            <p:spPr>
              <a:xfrm rot="7971000">
                <a:off x="6302880" y="633240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6219720" y="6110640"/>
              <a:ext cx="363600" cy="387360"/>
              <a:chOff x="6219720" y="6110640"/>
              <a:chExt cx="363600" cy="387360"/>
            </a:xfrm>
          </p:grpSpPr>
          <p:sp>
            <p:nvSpPr>
              <p:cNvPr id="819" name="未知"/>
              <p:cNvSpPr/>
              <p:nvPr/>
            </p:nvSpPr>
            <p:spPr>
              <a:xfrm rot="6925800">
                <a:off x="6247800" y="6175800"/>
                <a:ext cx="30708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未知"/>
              <p:cNvSpPr/>
              <p:nvPr/>
            </p:nvSpPr>
            <p:spPr>
              <a:xfrm rot="8970600">
                <a:off x="6235920" y="630468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未知"/>
              <p:cNvSpPr/>
              <p:nvPr/>
            </p:nvSpPr>
            <p:spPr>
              <a:xfrm rot="9268800">
                <a:off x="6321600" y="625824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未知"/>
              <p:cNvSpPr/>
              <p:nvPr/>
            </p:nvSpPr>
            <p:spPr>
              <a:xfrm rot="9268800">
                <a:off x="6288840" y="625176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6577560" y="6138360"/>
              <a:ext cx="369000" cy="331560"/>
              <a:chOff x="6577560" y="6138360"/>
              <a:chExt cx="369000" cy="331560"/>
            </a:xfrm>
          </p:grpSpPr>
          <p:sp>
            <p:nvSpPr>
              <p:cNvPr id="824" name="未知"/>
              <p:cNvSpPr/>
              <p:nvPr/>
            </p:nvSpPr>
            <p:spPr>
              <a:xfrm rot="20636400">
                <a:off x="6609600" y="6175800"/>
                <a:ext cx="307080" cy="256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未知"/>
              <p:cNvSpPr/>
              <p:nvPr/>
            </p:nvSpPr>
            <p:spPr>
              <a:xfrm rot="1081200">
                <a:off x="6592320" y="6271560"/>
                <a:ext cx="35100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未知"/>
              <p:cNvSpPr/>
              <p:nvPr/>
            </p:nvSpPr>
            <p:spPr>
              <a:xfrm rot="1379400">
                <a:off x="6571080" y="6277680"/>
                <a:ext cx="26316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rot="1379400">
                <a:off x="6585480" y="6312600"/>
                <a:ext cx="263160" cy="14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6500880" y="6217560"/>
              <a:ext cx="356040" cy="313200"/>
              <a:chOff x="6500880" y="6217560"/>
              <a:chExt cx="356040" cy="313200"/>
            </a:xfrm>
          </p:grpSpPr>
          <p:sp>
            <p:nvSpPr>
              <p:cNvPr id="829" name="未知"/>
              <p:cNvSpPr/>
              <p:nvPr/>
            </p:nvSpPr>
            <p:spPr>
              <a:xfrm rot="805800">
                <a:off x="6525720" y="6249600"/>
                <a:ext cx="306360" cy="2487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未知"/>
              <p:cNvSpPr/>
              <p:nvPr/>
            </p:nvSpPr>
            <p:spPr>
              <a:xfrm rot="2850600">
                <a:off x="6515640" y="6346800"/>
                <a:ext cx="35028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未知"/>
              <p:cNvSpPr/>
              <p:nvPr/>
            </p:nvSpPr>
            <p:spPr>
              <a:xfrm rot="3148800">
                <a:off x="6503040" y="6320160"/>
                <a:ext cx="262800" cy="20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未知"/>
              <p:cNvSpPr/>
              <p:nvPr/>
            </p:nvSpPr>
            <p:spPr>
              <a:xfrm rot="3148800">
                <a:off x="6500160" y="6357240"/>
                <a:ext cx="262800" cy="14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6217920" y="6032520"/>
              <a:ext cx="422280" cy="394200"/>
              <a:chOff x="6217920" y="6032520"/>
              <a:chExt cx="422280" cy="394200"/>
            </a:xfrm>
          </p:grpSpPr>
          <p:sp>
            <p:nvSpPr>
              <p:cNvPr id="834" name="未知"/>
              <p:cNvSpPr/>
              <p:nvPr/>
            </p:nvSpPr>
            <p:spPr>
              <a:xfrm rot="7717200">
                <a:off x="6328080" y="6039720"/>
                <a:ext cx="201600" cy="379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未知"/>
              <p:cNvSpPr/>
              <p:nvPr/>
            </p:nvSpPr>
            <p:spPr>
              <a:xfrm rot="9762000">
                <a:off x="6320520" y="6233040"/>
                <a:ext cx="23040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未知"/>
              <p:cNvSpPr/>
              <p:nvPr/>
            </p:nvSpPr>
            <p:spPr>
              <a:xfrm rot="10060200">
                <a:off x="6379200" y="6192000"/>
                <a:ext cx="172800" cy="320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未知"/>
              <p:cNvSpPr/>
              <p:nvPr/>
            </p:nvSpPr>
            <p:spPr>
              <a:xfrm rot="10060200">
                <a:off x="6355440" y="6166440"/>
                <a:ext cx="17280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6426360" y="5900040"/>
              <a:ext cx="387000" cy="353160"/>
              <a:chOff x="6426360" y="5900040"/>
              <a:chExt cx="387000" cy="353160"/>
            </a:xfrm>
          </p:grpSpPr>
          <p:sp>
            <p:nvSpPr>
              <p:cNvPr id="839" name="未知"/>
              <p:cNvSpPr/>
              <p:nvPr/>
            </p:nvSpPr>
            <p:spPr>
              <a:xfrm rot="13857000">
                <a:off x="6546600" y="5886720"/>
                <a:ext cx="146520" cy="3798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未知"/>
              <p:cNvSpPr/>
              <p:nvPr/>
            </p:nvSpPr>
            <p:spPr>
              <a:xfrm rot="15901800">
                <a:off x="6509520" y="6055920"/>
                <a:ext cx="167760" cy="43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未知"/>
              <p:cNvSpPr/>
              <p:nvPr/>
            </p:nvSpPr>
            <p:spPr>
              <a:xfrm rot="16200000">
                <a:off x="6570720" y="6089760"/>
                <a:ext cx="125640" cy="324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未知"/>
              <p:cNvSpPr/>
              <p:nvPr/>
            </p:nvSpPr>
            <p:spPr>
              <a:xfrm rot="16200000">
                <a:off x="6605280" y="6082920"/>
                <a:ext cx="12564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6347520" y="5965560"/>
              <a:ext cx="295560" cy="315000"/>
              <a:chOff x="6347520" y="5965560"/>
              <a:chExt cx="295560" cy="315000"/>
            </a:xfrm>
          </p:grpSpPr>
          <p:sp>
            <p:nvSpPr>
              <p:cNvPr id="844" name="未知"/>
              <p:cNvSpPr/>
              <p:nvPr/>
            </p:nvSpPr>
            <p:spPr>
              <a:xfrm rot="11895600">
                <a:off x="6381720" y="5994360"/>
                <a:ext cx="226440" cy="257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未知"/>
              <p:cNvSpPr/>
              <p:nvPr/>
            </p:nvSpPr>
            <p:spPr>
              <a:xfrm rot="13940400">
                <a:off x="6351120" y="6119280"/>
                <a:ext cx="25884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未知"/>
              <p:cNvSpPr/>
              <p:nvPr/>
            </p:nvSpPr>
            <p:spPr>
              <a:xfrm rot="14238600">
                <a:off x="6430320" y="6144840"/>
                <a:ext cx="19404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未知"/>
              <p:cNvSpPr/>
              <p:nvPr/>
            </p:nvSpPr>
            <p:spPr>
              <a:xfrm rot="14238600">
                <a:off x="6439680" y="6119640"/>
                <a:ext cx="1944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6348960" y="6258600"/>
              <a:ext cx="354240" cy="380880"/>
              <a:chOff x="6348960" y="6258600"/>
              <a:chExt cx="354240" cy="380880"/>
            </a:xfrm>
          </p:grpSpPr>
          <p:sp>
            <p:nvSpPr>
              <p:cNvPr id="849" name="未知"/>
              <p:cNvSpPr/>
              <p:nvPr/>
            </p:nvSpPr>
            <p:spPr>
              <a:xfrm rot="4063800">
                <a:off x="6372720" y="6320520"/>
                <a:ext cx="306360" cy="2570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未知"/>
              <p:cNvSpPr/>
              <p:nvPr/>
            </p:nvSpPr>
            <p:spPr>
              <a:xfrm rot="6108000">
                <a:off x="6368760" y="6437160"/>
                <a:ext cx="350280" cy="295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未知"/>
              <p:cNvSpPr/>
              <p:nvPr/>
            </p:nvSpPr>
            <p:spPr>
              <a:xfrm rot="6406200">
                <a:off x="6402960" y="6376680"/>
                <a:ext cx="262800" cy="216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未知"/>
              <p:cNvSpPr/>
              <p:nvPr/>
            </p:nvSpPr>
            <p:spPr>
              <a:xfrm rot="6406200">
                <a:off x="6373440" y="6397920"/>
                <a:ext cx="262800" cy="14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432120" y="6113880"/>
              <a:ext cx="263160" cy="262800"/>
              <a:chOff x="6432120" y="6113880"/>
              <a:chExt cx="263160" cy="262800"/>
            </a:xfrm>
          </p:grpSpPr>
          <p:sp>
            <p:nvSpPr>
              <p:cNvPr id="854" name=""/>
              <p:cNvSpPr/>
              <p:nvPr/>
            </p:nvSpPr>
            <p:spPr>
              <a:xfrm>
                <a:off x="6432120" y="6113880"/>
                <a:ext cx="263160" cy="262800"/>
              </a:xfrm>
              <a:custGeom>
                <a:avLst/>
                <a:gdLst>
                  <a:gd name="textAreaLeft" fmla="*/ 61560 w 263160"/>
                  <a:gd name="textAreaRight" fmla="*/ 201600 w 263160"/>
                  <a:gd name="textAreaTop" fmla="*/ 61560 h 262800"/>
                  <a:gd name="textAreaBottom" fmla="*/ 201240 h 26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77840" y="6152400"/>
                <a:ext cx="175680" cy="17496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6" name=""/>
          <p:cNvGrpSpPr/>
          <p:nvPr/>
        </p:nvGrpSpPr>
        <p:grpSpPr>
          <a:xfrm>
            <a:off x="6602760" y="4269600"/>
            <a:ext cx="1925280" cy="1875240"/>
            <a:chOff x="6602760" y="4269600"/>
            <a:chExt cx="1925280" cy="1875240"/>
          </a:xfrm>
        </p:grpSpPr>
        <p:grpSp>
          <p:nvGrpSpPr>
            <p:cNvPr id="857" name=""/>
            <p:cNvGrpSpPr/>
            <p:nvPr/>
          </p:nvGrpSpPr>
          <p:grpSpPr>
            <a:xfrm>
              <a:off x="7107840" y="5076360"/>
              <a:ext cx="888840" cy="979200"/>
              <a:chOff x="7107840" y="5076360"/>
              <a:chExt cx="888840" cy="979200"/>
            </a:xfrm>
          </p:grpSpPr>
          <p:sp>
            <p:nvSpPr>
              <p:cNvPr id="858" name="未知"/>
              <p:cNvSpPr/>
              <p:nvPr/>
            </p:nvSpPr>
            <p:spPr>
              <a:xfrm rot="3869400">
                <a:off x="7158600" y="526464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未知"/>
              <p:cNvSpPr/>
              <p:nvPr/>
            </p:nvSpPr>
            <p:spPr>
              <a:xfrm rot="5914200">
                <a:off x="7145640" y="553752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未知"/>
              <p:cNvSpPr/>
              <p:nvPr/>
            </p:nvSpPr>
            <p:spPr>
              <a:xfrm rot="6213000">
                <a:off x="7230600" y="538416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未知"/>
              <p:cNvSpPr/>
              <p:nvPr/>
            </p:nvSpPr>
            <p:spPr>
              <a:xfrm rot="6213000">
                <a:off x="7161120" y="544356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6863400" y="4952880"/>
              <a:ext cx="742320" cy="839160"/>
              <a:chOff x="6863400" y="4952880"/>
              <a:chExt cx="742320" cy="839160"/>
            </a:xfrm>
          </p:grpSpPr>
          <p:sp>
            <p:nvSpPr>
              <p:cNvPr id="863" name="未知"/>
              <p:cNvSpPr/>
              <p:nvPr/>
            </p:nvSpPr>
            <p:spPr>
              <a:xfrm rot="5910600">
                <a:off x="6858000" y="505332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未知"/>
              <p:cNvSpPr/>
              <p:nvPr/>
            </p:nvSpPr>
            <p:spPr>
              <a:xfrm rot="7955400">
                <a:off x="6838200" y="536400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未知"/>
              <p:cNvSpPr/>
              <p:nvPr/>
            </p:nvSpPr>
            <p:spPr>
              <a:xfrm rot="8253600">
                <a:off x="7007760" y="522576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未知"/>
              <p:cNvSpPr/>
              <p:nvPr/>
            </p:nvSpPr>
            <p:spPr>
              <a:xfrm rot="8253600">
                <a:off x="6921720" y="523440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6602760" y="4713120"/>
              <a:ext cx="964080" cy="985680"/>
              <a:chOff x="6602760" y="4713120"/>
              <a:chExt cx="964080" cy="985680"/>
            </a:xfrm>
          </p:grpSpPr>
          <p:sp>
            <p:nvSpPr>
              <p:cNvPr id="868" name="未知"/>
              <p:cNvSpPr/>
              <p:nvPr/>
            </p:nvSpPr>
            <p:spPr>
              <a:xfrm rot="7644000">
                <a:off x="6708240" y="488700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未知"/>
              <p:cNvSpPr/>
              <p:nvPr/>
            </p:nvSpPr>
            <p:spPr>
              <a:xfrm rot="9688800">
                <a:off x="6670440" y="521028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未知"/>
              <p:cNvSpPr/>
              <p:nvPr/>
            </p:nvSpPr>
            <p:spPr>
              <a:xfrm rot="9987000">
                <a:off x="6904080" y="512064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未知"/>
              <p:cNvSpPr/>
              <p:nvPr/>
            </p:nvSpPr>
            <p:spPr>
              <a:xfrm rot="9987000">
                <a:off x="6828840" y="508788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6796440" y="4482000"/>
              <a:ext cx="919440" cy="843120"/>
              <a:chOff x="6796440" y="4482000"/>
              <a:chExt cx="919440" cy="843120"/>
            </a:xfrm>
          </p:grpSpPr>
          <p:sp>
            <p:nvSpPr>
              <p:cNvPr id="873" name="未知"/>
              <p:cNvSpPr/>
              <p:nvPr/>
            </p:nvSpPr>
            <p:spPr>
              <a:xfrm rot="9694200">
                <a:off x="6877800" y="458424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未知"/>
              <p:cNvSpPr/>
              <p:nvPr/>
            </p:nvSpPr>
            <p:spPr>
              <a:xfrm rot="11739000">
                <a:off x="6814080" y="490968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未知"/>
              <p:cNvSpPr/>
              <p:nvPr/>
            </p:nvSpPr>
            <p:spPr>
              <a:xfrm rot="12037200">
                <a:off x="7081560" y="490788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未知"/>
              <p:cNvSpPr/>
              <p:nvPr/>
            </p:nvSpPr>
            <p:spPr>
              <a:xfrm rot="12037200">
                <a:off x="7043040" y="483984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6936120" y="4370040"/>
              <a:ext cx="924480" cy="810000"/>
              <a:chOff x="6936120" y="4370040"/>
              <a:chExt cx="924480" cy="810000"/>
            </a:xfrm>
          </p:grpSpPr>
          <p:sp>
            <p:nvSpPr>
              <p:cNvPr id="878" name="未知"/>
              <p:cNvSpPr/>
              <p:nvPr/>
            </p:nvSpPr>
            <p:spPr>
              <a:xfrm rot="11763000">
                <a:off x="7004880" y="446652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未知"/>
              <p:cNvSpPr/>
              <p:nvPr/>
            </p:nvSpPr>
            <p:spPr>
              <a:xfrm rot="13807800">
                <a:off x="6917760" y="476568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未知"/>
              <p:cNvSpPr/>
              <p:nvPr/>
            </p:nvSpPr>
            <p:spPr>
              <a:xfrm rot="14106000">
                <a:off x="7170480" y="486288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未知"/>
              <p:cNvSpPr/>
              <p:nvPr/>
            </p:nvSpPr>
            <p:spPr>
              <a:xfrm rot="14106000">
                <a:off x="7178040" y="478512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7107840" y="4269600"/>
              <a:ext cx="968760" cy="994680"/>
              <a:chOff x="7107840" y="4269600"/>
              <a:chExt cx="968760" cy="994680"/>
            </a:xfrm>
          </p:grpSpPr>
          <p:sp>
            <p:nvSpPr>
              <p:cNvPr id="883" name="未知"/>
              <p:cNvSpPr/>
              <p:nvPr/>
            </p:nvSpPr>
            <p:spPr>
              <a:xfrm rot="13857000">
                <a:off x="7198560" y="446184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未知"/>
              <p:cNvSpPr/>
              <p:nvPr/>
            </p:nvSpPr>
            <p:spPr>
              <a:xfrm rot="15901800">
                <a:off x="7100280" y="473832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未知"/>
              <p:cNvSpPr/>
              <p:nvPr/>
            </p:nvSpPr>
            <p:spPr>
              <a:xfrm rot="16200000">
                <a:off x="7277400" y="489960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未知"/>
              <p:cNvSpPr/>
              <p:nvPr/>
            </p:nvSpPr>
            <p:spPr>
              <a:xfrm rot="16200000">
                <a:off x="7332840" y="484200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7315200" y="5066280"/>
              <a:ext cx="943560" cy="841320"/>
              <a:chOff x="7315200" y="5066280"/>
              <a:chExt cx="943560" cy="841320"/>
            </a:xfrm>
          </p:grpSpPr>
          <p:sp>
            <p:nvSpPr>
              <p:cNvPr id="888" name="未知"/>
              <p:cNvSpPr/>
              <p:nvPr/>
            </p:nvSpPr>
            <p:spPr>
              <a:xfrm rot="1156800">
                <a:off x="7393680" y="518508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未知"/>
              <p:cNvSpPr/>
              <p:nvPr/>
            </p:nvSpPr>
            <p:spPr>
              <a:xfrm rot="3201600">
                <a:off x="7369920" y="542700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未知"/>
              <p:cNvSpPr/>
              <p:nvPr/>
            </p:nvSpPr>
            <p:spPr>
              <a:xfrm rot="3499800">
                <a:off x="7347960" y="534060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未知"/>
              <p:cNvSpPr/>
              <p:nvPr/>
            </p:nvSpPr>
            <p:spPr>
              <a:xfrm rot="3499800">
                <a:off x="7334640" y="543456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7541640" y="4651200"/>
              <a:ext cx="986400" cy="976320"/>
              <a:chOff x="7541640" y="4651200"/>
              <a:chExt cx="986400" cy="976320"/>
            </a:xfrm>
          </p:grpSpPr>
          <p:sp>
            <p:nvSpPr>
              <p:cNvPr id="893" name="未知"/>
              <p:cNvSpPr/>
              <p:nvPr/>
            </p:nvSpPr>
            <p:spPr>
              <a:xfrm rot="19110000">
                <a:off x="7658280" y="482040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未知"/>
              <p:cNvSpPr/>
              <p:nvPr/>
            </p:nvSpPr>
            <p:spPr>
              <a:xfrm rot="21154800">
                <a:off x="7596720" y="505872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未知"/>
              <p:cNvSpPr/>
              <p:nvPr/>
            </p:nvSpPr>
            <p:spPr>
              <a:xfrm rot="21453000">
                <a:off x="7561800" y="514152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未知"/>
              <p:cNvSpPr/>
              <p:nvPr/>
            </p:nvSpPr>
            <p:spPr>
              <a:xfrm rot="21453000">
                <a:off x="7627320" y="520632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7450920" y="4476960"/>
              <a:ext cx="843120" cy="915840"/>
              <a:chOff x="7450920" y="4476960"/>
              <a:chExt cx="843120" cy="915840"/>
            </a:xfrm>
          </p:grpSpPr>
          <p:sp>
            <p:nvSpPr>
              <p:cNvPr id="898" name="未知"/>
              <p:cNvSpPr/>
              <p:nvPr/>
            </p:nvSpPr>
            <p:spPr>
              <a:xfrm rot="17306400">
                <a:off x="7495920" y="4615920"/>
                <a:ext cx="752760" cy="637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未知"/>
              <p:cNvSpPr/>
              <p:nvPr/>
            </p:nvSpPr>
            <p:spPr>
              <a:xfrm rot="19351800">
                <a:off x="7413120" y="486432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未知"/>
              <p:cNvSpPr/>
              <p:nvPr/>
            </p:nvSpPr>
            <p:spPr>
              <a:xfrm rot="19649400">
                <a:off x="7434360" y="500904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未知"/>
              <p:cNvSpPr/>
              <p:nvPr/>
            </p:nvSpPr>
            <p:spPr>
              <a:xfrm rot="19649400">
                <a:off x="7518240" y="503316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7447320" y="4320000"/>
              <a:ext cx="642240" cy="847080"/>
              <a:chOff x="7447320" y="4320000"/>
              <a:chExt cx="642240" cy="847080"/>
            </a:xfrm>
          </p:grpSpPr>
          <p:sp>
            <p:nvSpPr>
              <p:cNvPr id="903" name="未知"/>
              <p:cNvSpPr/>
              <p:nvPr/>
            </p:nvSpPr>
            <p:spPr>
              <a:xfrm rot="16059600">
                <a:off x="7374960" y="4435560"/>
                <a:ext cx="786600" cy="610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未知"/>
              <p:cNvSpPr/>
              <p:nvPr/>
            </p:nvSpPr>
            <p:spPr>
              <a:xfrm rot="18104400">
                <a:off x="7281000" y="468576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未知"/>
              <p:cNvSpPr/>
              <p:nvPr/>
            </p:nvSpPr>
            <p:spPr>
              <a:xfrm rot="18402600">
                <a:off x="7354440" y="485532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未知"/>
              <p:cNvSpPr/>
              <p:nvPr/>
            </p:nvSpPr>
            <p:spPr>
              <a:xfrm rot="18402600">
                <a:off x="7438680" y="484416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7457400" y="5036760"/>
              <a:ext cx="822960" cy="679680"/>
              <a:chOff x="7457400" y="5036760"/>
              <a:chExt cx="822960" cy="679680"/>
            </a:xfrm>
          </p:grpSpPr>
          <p:sp>
            <p:nvSpPr>
              <p:cNvPr id="908" name="未知"/>
              <p:cNvSpPr/>
              <p:nvPr/>
            </p:nvSpPr>
            <p:spPr>
              <a:xfrm rot="21405000">
                <a:off x="7494840" y="5057640"/>
                <a:ext cx="752760" cy="637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未知"/>
              <p:cNvSpPr/>
              <p:nvPr/>
            </p:nvSpPr>
            <p:spPr>
              <a:xfrm rot="1849200">
                <a:off x="7461720" y="5300640"/>
                <a:ext cx="860400" cy="73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未知"/>
              <p:cNvSpPr/>
              <p:nvPr/>
            </p:nvSpPr>
            <p:spPr>
              <a:xfrm rot="2148000">
                <a:off x="7412040" y="5279400"/>
                <a:ext cx="645120" cy="54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未知"/>
              <p:cNvSpPr/>
              <p:nvPr/>
            </p:nvSpPr>
            <p:spPr>
              <a:xfrm rot="2148000">
                <a:off x="7429320" y="5372640"/>
                <a:ext cx="645480" cy="36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7002000" y="5107320"/>
              <a:ext cx="671400" cy="863280"/>
              <a:chOff x="7002000" y="5107320"/>
              <a:chExt cx="671400" cy="863280"/>
            </a:xfrm>
          </p:grpSpPr>
          <p:sp>
            <p:nvSpPr>
              <p:cNvPr id="913" name="未知"/>
              <p:cNvSpPr/>
              <p:nvPr/>
            </p:nvSpPr>
            <p:spPr>
              <a:xfrm rot="5119200">
                <a:off x="6944040" y="5238720"/>
                <a:ext cx="786600" cy="609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未知"/>
              <p:cNvSpPr/>
              <p:nvPr/>
            </p:nvSpPr>
            <p:spPr>
              <a:xfrm rot="7164000">
                <a:off x="6926760" y="552672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未知"/>
              <p:cNvSpPr/>
              <p:nvPr/>
            </p:nvSpPr>
            <p:spPr>
              <a:xfrm rot="7462200">
                <a:off x="7071840" y="537372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未知"/>
              <p:cNvSpPr/>
              <p:nvPr/>
            </p:nvSpPr>
            <p:spPr>
              <a:xfrm rot="7462200">
                <a:off x="6988320" y="540576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7217280" y="5153760"/>
              <a:ext cx="983880" cy="991080"/>
              <a:chOff x="7217280" y="5153760"/>
              <a:chExt cx="983880" cy="991080"/>
            </a:xfrm>
          </p:grpSpPr>
          <p:sp>
            <p:nvSpPr>
              <p:cNvPr id="918" name="未知"/>
              <p:cNvSpPr/>
              <p:nvPr/>
            </p:nvSpPr>
            <p:spPr>
              <a:xfrm rot="2797200">
                <a:off x="7315920" y="5343840"/>
                <a:ext cx="786600" cy="61056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85ff"/>
                  </a:gs>
                  <a:gs pos="100000">
                    <a:srgbClr val="feeefe"/>
                  </a:gs>
                </a:gsLst>
                <a:lin ang="77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未知"/>
              <p:cNvSpPr/>
              <p:nvPr/>
            </p:nvSpPr>
            <p:spPr>
              <a:xfrm rot="4842000">
                <a:off x="7301520" y="5604120"/>
                <a:ext cx="898920" cy="702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未知"/>
              <p:cNvSpPr/>
              <p:nvPr/>
            </p:nvSpPr>
            <p:spPr>
              <a:xfrm rot="5140200">
                <a:off x="7338240" y="5466600"/>
                <a:ext cx="673920" cy="518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未知"/>
              <p:cNvSpPr/>
              <p:nvPr/>
            </p:nvSpPr>
            <p:spPr>
              <a:xfrm rot="5140200">
                <a:off x="7287120" y="5545080"/>
                <a:ext cx="674280" cy="349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ff66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7274160" y="4816440"/>
              <a:ext cx="644040" cy="673920"/>
              <a:chOff x="7274160" y="4816440"/>
              <a:chExt cx="644040" cy="673920"/>
            </a:xfrm>
          </p:grpSpPr>
          <p:sp>
            <p:nvSpPr>
              <p:cNvPr id="923" name=""/>
              <p:cNvSpPr/>
              <p:nvPr/>
            </p:nvSpPr>
            <p:spPr>
              <a:xfrm rot="16200000">
                <a:off x="7259040" y="4831200"/>
                <a:ext cx="673920" cy="644040"/>
              </a:xfrm>
              <a:custGeom>
                <a:avLst/>
                <a:gdLst>
                  <a:gd name="textAreaLeft" fmla="*/ 158040 w 673920"/>
                  <a:gd name="textAreaRight" fmla="*/ 515880 w 673920"/>
                  <a:gd name="textAreaTop" fmla="*/ 151200 h 644040"/>
                  <a:gd name="textAreaBottom" fmla="*/ 492840 h 64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6200000">
                <a:off x="7358400" y="4933800"/>
                <a:ext cx="449640" cy="42912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"/>
          <p:cNvGrpSpPr/>
          <p:nvPr/>
        </p:nvGrpSpPr>
        <p:grpSpPr>
          <a:xfrm>
            <a:off x="7756560" y="4313160"/>
            <a:ext cx="1404720" cy="1524960"/>
            <a:chOff x="7756560" y="4313160"/>
            <a:chExt cx="1404720" cy="1524960"/>
          </a:xfrm>
        </p:grpSpPr>
        <p:grpSp>
          <p:nvGrpSpPr>
            <p:cNvPr id="926" name=""/>
            <p:cNvGrpSpPr/>
            <p:nvPr/>
          </p:nvGrpSpPr>
          <p:grpSpPr>
            <a:xfrm>
              <a:off x="8383680" y="4626000"/>
              <a:ext cx="767520" cy="770760"/>
              <a:chOff x="8383680" y="4626000"/>
              <a:chExt cx="767520" cy="770760"/>
            </a:xfrm>
          </p:grpSpPr>
          <p:sp>
            <p:nvSpPr>
              <p:cNvPr id="927" name="未知"/>
              <p:cNvSpPr/>
              <p:nvPr/>
            </p:nvSpPr>
            <p:spPr>
              <a:xfrm rot="18826800">
                <a:off x="8471520" y="4763160"/>
                <a:ext cx="591840" cy="496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未知"/>
              <p:cNvSpPr/>
              <p:nvPr/>
            </p:nvSpPr>
            <p:spPr>
              <a:xfrm rot="20871600">
                <a:off x="8420040" y="4948920"/>
                <a:ext cx="6764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未知"/>
              <p:cNvSpPr/>
              <p:nvPr/>
            </p:nvSpPr>
            <p:spPr>
              <a:xfrm rot="21169800">
                <a:off x="8397720" y="502272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未知"/>
              <p:cNvSpPr/>
              <p:nvPr/>
            </p:nvSpPr>
            <p:spPr>
              <a:xfrm rot="21169800">
                <a:off x="8452440" y="506808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8396280" y="4486320"/>
              <a:ext cx="623520" cy="693720"/>
              <a:chOff x="8396280" y="4486320"/>
              <a:chExt cx="623520" cy="693720"/>
            </a:xfrm>
          </p:grpSpPr>
          <p:sp>
            <p:nvSpPr>
              <p:cNvPr id="932" name="未知"/>
              <p:cNvSpPr/>
              <p:nvPr/>
            </p:nvSpPr>
            <p:spPr>
              <a:xfrm rot="17034600">
                <a:off x="8411760" y="4585320"/>
                <a:ext cx="591840" cy="495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未知"/>
              <p:cNvSpPr/>
              <p:nvPr/>
            </p:nvSpPr>
            <p:spPr>
              <a:xfrm rot="19078800">
                <a:off x="8345160" y="4779360"/>
                <a:ext cx="67644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未知"/>
              <p:cNvSpPr/>
              <p:nvPr/>
            </p:nvSpPr>
            <p:spPr>
              <a:xfrm rot="19377600">
                <a:off x="8370000" y="489780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未知"/>
              <p:cNvSpPr/>
              <p:nvPr/>
            </p:nvSpPr>
            <p:spPr>
              <a:xfrm rot="19377600">
                <a:off x="8436600" y="491112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8029800" y="4313160"/>
              <a:ext cx="764280" cy="771840"/>
              <a:chOff x="8029800" y="4313160"/>
              <a:chExt cx="764280" cy="771840"/>
            </a:xfrm>
          </p:grpSpPr>
          <p:sp>
            <p:nvSpPr>
              <p:cNvPr id="937" name="未知"/>
              <p:cNvSpPr/>
              <p:nvPr/>
            </p:nvSpPr>
            <p:spPr>
              <a:xfrm rot="13688400">
                <a:off x="8116200" y="4450680"/>
                <a:ext cx="59148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未知"/>
              <p:cNvSpPr/>
              <p:nvPr/>
            </p:nvSpPr>
            <p:spPr>
              <a:xfrm rot="15733200">
                <a:off x="8039880" y="4676400"/>
                <a:ext cx="67608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未知"/>
              <p:cNvSpPr/>
              <p:nvPr/>
            </p:nvSpPr>
            <p:spPr>
              <a:xfrm rot="16031400">
                <a:off x="8182080" y="4795560"/>
                <a:ext cx="50688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未知"/>
              <p:cNvSpPr/>
              <p:nvPr/>
            </p:nvSpPr>
            <p:spPr>
              <a:xfrm rot="16031400">
                <a:off x="8224920" y="475056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7766640" y="4526640"/>
              <a:ext cx="697320" cy="618120"/>
              <a:chOff x="7766640" y="4526640"/>
              <a:chExt cx="697320" cy="618120"/>
            </a:xfrm>
          </p:grpSpPr>
          <p:sp>
            <p:nvSpPr>
              <p:cNvPr id="942" name="未知"/>
              <p:cNvSpPr/>
              <p:nvPr/>
            </p:nvSpPr>
            <p:spPr>
              <a:xfrm rot="10003800">
                <a:off x="7815240" y="4587840"/>
                <a:ext cx="591840" cy="495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未知"/>
              <p:cNvSpPr/>
              <p:nvPr/>
            </p:nvSpPr>
            <p:spPr>
              <a:xfrm rot="12048600">
                <a:off x="7761960" y="4840200"/>
                <a:ext cx="67644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未知"/>
              <p:cNvSpPr/>
              <p:nvPr/>
            </p:nvSpPr>
            <p:spPr>
              <a:xfrm rot="12346800">
                <a:off x="7972560" y="485028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未知"/>
              <p:cNvSpPr/>
              <p:nvPr/>
            </p:nvSpPr>
            <p:spPr>
              <a:xfrm rot="12346800">
                <a:off x="7948080" y="479484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8154720" y="5000760"/>
              <a:ext cx="768600" cy="769680"/>
              <a:chOff x="8154720" y="5000760"/>
              <a:chExt cx="768600" cy="769680"/>
            </a:xfrm>
          </p:grpSpPr>
          <p:sp>
            <p:nvSpPr>
              <p:cNvPr id="947" name="未知"/>
              <p:cNvSpPr/>
              <p:nvPr/>
            </p:nvSpPr>
            <p:spPr>
              <a:xfrm rot="2727600">
                <a:off x="8243280" y="5137200"/>
                <a:ext cx="59148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未知"/>
              <p:cNvSpPr/>
              <p:nvPr/>
            </p:nvSpPr>
            <p:spPr>
              <a:xfrm rot="4772400">
                <a:off x="8233920" y="5348880"/>
                <a:ext cx="67608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未知"/>
              <p:cNvSpPr/>
              <p:nvPr/>
            </p:nvSpPr>
            <p:spPr>
              <a:xfrm rot="5070600">
                <a:off x="8255880" y="5247720"/>
                <a:ext cx="50688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未知"/>
              <p:cNvSpPr/>
              <p:nvPr/>
            </p:nvSpPr>
            <p:spPr>
              <a:xfrm rot="5070600">
                <a:off x="8215200" y="530820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7907400" y="5041440"/>
              <a:ext cx="534600" cy="623160"/>
              <a:chOff x="7907400" y="5041440"/>
              <a:chExt cx="534600" cy="623160"/>
            </a:xfrm>
          </p:grpSpPr>
          <p:sp>
            <p:nvSpPr>
              <p:cNvPr id="952" name="未知"/>
              <p:cNvSpPr/>
              <p:nvPr/>
            </p:nvSpPr>
            <p:spPr>
              <a:xfrm rot="5628000">
                <a:off x="7878600" y="5104800"/>
                <a:ext cx="591480" cy="496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未知"/>
              <p:cNvSpPr/>
              <p:nvPr/>
            </p:nvSpPr>
            <p:spPr>
              <a:xfrm rot="7672800">
                <a:off x="7864200" y="5343840"/>
                <a:ext cx="67608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未知"/>
              <p:cNvSpPr/>
              <p:nvPr/>
            </p:nvSpPr>
            <p:spPr>
              <a:xfrm rot="7971000">
                <a:off x="7988400" y="5232240"/>
                <a:ext cx="50688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未知"/>
              <p:cNvSpPr/>
              <p:nvPr/>
            </p:nvSpPr>
            <p:spPr>
              <a:xfrm rot="7971000">
                <a:off x="7921440" y="524484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7760160" y="4816800"/>
              <a:ext cx="702000" cy="747720"/>
              <a:chOff x="7760160" y="4816800"/>
              <a:chExt cx="702000" cy="747720"/>
            </a:xfrm>
          </p:grpSpPr>
          <p:sp>
            <p:nvSpPr>
              <p:cNvPr id="957" name="未知"/>
              <p:cNvSpPr/>
              <p:nvPr/>
            </p:nvSpPr>
            <p:spPr>
              <a:xfrm rot="6925800">
                <a:off x="7815240" y="4942800"/>
                <a:ext cx="591840" cy="495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未知"/>
              <p:cNvSpPr/>
              <p:nvPr/>
            </p:nvSpPr>
            <p:spPr>
              <a:xfrm rot="8970600">
                <a:off x="7791480" y="5191200"/>
                <a:ext cx="67644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未知"/>
              <p:cNvSpPr/>
              <p:nvPr/>
            </p:nvSpPr>
            <p:spPr>
              <a:xfrm rot="9268800">
                <a:off x="7957080" y="510228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未知"/>
              <p:cNvSpPr/>
              <p:nvPr/>
            </p:nvSpPr>
            <p:spPr>
              <a:xfrm rot="9268800">
                <a:off x="7893000" y="508932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8449920" y="4870440"/>
              <a:ext cx="711360" cy="640080"/>
              <a:chOff x="8449920" y="4870440"/>
              <a:chExt cx="711360" cy="640080"/>
            </a:xfrm>
          </p:grpSpPr>
          <p:sp>
            <p:nvSpPr>
              <p:cNvPr id="962" name="未知"/>
              <p:cNvSpPr/>
              <p:nvPr/>
            </p:nvSpPr>
            <p:spPr>
              <a:xfrm rot="20636400">
                <a:off x="8512200" y="4942440"/>
                <a:ext cx="591840" cy="4957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未知"/>
              <p:cNvSpPr/>
              <p:nvPr/>
            </p:nvSpPr>
            <p:spPr>
              <a:xfrm rot="1081200">
                <a:off x="8479080" y="5128200"/>
                <a:ext cx="676440" cy="56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未知"/>
              <p:cNvSpPr/>
              <p:nvPr/>
            </p:nvSpPr>
            <p:spPr>
              <a:xfrm rot="1379400">
                <a:off x="8438040" y="5139000"/>
                <a:ext cx="50724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未知"/>
              <p:cNvSpPr/>
              <p:nvPr/>
            </p:nvSpPr>
            <p:spPr>
              <a:xfrm rot="1379400">
                <a:off x="8465760" y="520704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8303040" y="5022360"/>
              <a:ext cx="686880" cy="604080"/>
              <a:chOff x="8303040" y="5022360"/>
              <a:chExt cx="686880" cy="604080"/>
            </a:xfrm>
          </p:grpSpPr>
          <p:sp>
            <p:nvSpPr>
              <p:cNvPr id="967" name="未知"/>
              <p:cNvSpPr/>
              <p:nvPr/>
            </p:nvSpPr>
            <p:spPr>
              <a:xfrm rot="805800">
                <a:off x="8350560" y="5084280"/>
                <a:ext cx="591480" cy="479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未知"/>
              <p:cNvSpPr/>
              <p:nvPr/>
            </p:nvSpPr>
            <p:spPr>
              <a:xfrm rot="2850600">
                <a:off x="8331480" y="5272560"/>
                <a:ext cx="67608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未知"/>
              <p:cNvSpPr/>
              <p:nvPr/>
            </p:nvSpPr>
            <p:spPr>
              <a:xfrm rot="3148800">
                <a:off x="8306280" y="5220360"/>
                <a:ext cx="506880" cy="406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未知"/>
              <p:cNvSpPr/>
              <p:nvPr/>
            </p:nvSpPr>
            <p:spPr>
              <a:xfrm rot="3148800">
                <a:off x="8301960" y="5292720"/>
                <a:ext cx="507240" cy="273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7756560" y="4666320"/>
              <a:ext cx="814320" cy="760680"/>
              <a:chOff x="7756560" y="4666320"/>
              <a:chExt cx="814320" cy="760680"/>
            </a:xfrm>
          </p:grpSpPr>
          <p:sp>
            <p:nvSpPr>
              <p:cNvPr id="972" name="未知"/>
              <p:cNvSpPr/>
              <p:nvPr/>
            </p:nvSpPr>
            <p:spPr>
              <a:xfrm rot="7717200">
                <a:off x="7968960" y="4680360"/>
                <a:ext cx="388800" cy="731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未知"/>
              <p:cNvSpPr/>
              <p:nvPr/>
            </p:nvSpPr>
            <p:spPr>
              <a:xfrm rot="9762000">
                <a:off x="7956000" y="5052960"/>
                <a:ext cx="444240" cy="84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未知"/>
              <p:cNvSpPr/>
              <p:nvPr/>
            </p:nvSpPr>
            <p:spPr>
              <a:xfrm rot="10060200">
                <a:off x="8067960" y="4972320"/>
                <a:ext cx="333360" cy="62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未知"/>
              <p:cNvSpPr/>
              <p:nvPr/>
            </p:nvSpPr>
            <p:spPr>
              <a:xfrm rot="10060200">
                <a:off x="8021880" y="4924440"/>
                <a:ext cx="333360" cy="41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8159040" y="4410720"/>
              <a:ext cx="746640" cy="680760"/>
              <a:chOff x="8159040" y="4410720"/>
              <a:chExt cx="746640" cy="680760"/>
            </a:xfrm>
          </p:grpSpPr>
          <p:sp>
            <p:nvSpPr>
              <p:cNvPr id="977" name="未知"/>
              <p:cNvSpPr/>
              <p:nvPr/>
            </p:nvSpPr>
            <p:spPr>
              <a:xfrm rot="13857000">
                <a:off x="8390520" y="4384800"/>
                <a:ext cx="282960" cy="7318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未知"/>
              <p:cNvSpPr/>
              <p:nvPr/>
            </p:nvSpPr>
            <p:spPr>
              <a:xfrm rot="15901800">
                <a:off x="8319600" y="4711320"/>
                <a:ext cx="323280" cy="84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未知"/>
              <p:cNvSpPr/>
              <p:nvPr/>
            </p:nvSpPr>
            <p:spPr>
              <a:xfrm rot="16200000">
                <a:off x="8437320" y="4776840"/>
                <a:ext cx="242640" cy="62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未知"/>
              <p:cNvSpPr/>
              <p:nvPr/>
            </p:nvSpPr>
            <p:spPr>
              <a:xfrm rot="16200000">
                <a:off x="8504280" y="4763880"/>
                <a:ext cx="242640" cy="41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8006040" y="4536720"/>
              <a:ext cx="570960" cy="608040"/>
              <a:chOff x="8006040" y="4536720"/>
              <a:chExt cx="570960" cy="608040"/>
            </a:xfrm>
          </p:grpSpPr>
          <p:sp>
            <p:nvSpPr>
              <p:cNvPr id="982" name="未知"/>
              <p:cNvSpPr/>
              <p:nvPr/>
            </p:nvSpPr>
            <p:spPr>
              <a:xfrm rot="11895600">
                <a:off x="8072640" y="4592520"/>
                <a:ext cx="437400" cy="496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未知"/>
              <p:cNvSpPr/>
              <p:nvPr/>
            </p:nvSpPr>
            <p:spPr>
              <a:xfrm rot="13940400">
                <a:off x="8014680" y="4833360"/>
                <a:ext cx="50004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未知"/>
              <p:cNvSpPr/>
              <p:nvPr/>
            </p:nvSpPr>
            <p:spPr>
              <a:xfrm rot="14238600">
                <a:off x="8166960" y="4883760"/>
                <a:ext cx="37476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未知"/>
              <p:cNvSpPr/>
              <p:nvPr/>
            </p:nvSpPr>
            <p:spPr>
              <a:xfrm rot="14238600">
                <a:off x="8184960" y="4835520"/>
                <a:ext cx="37512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8010000" y="5102640"/>
              <a:ext cx="683280" cy="735480"/>
              <a:chOff x="8010000" y="5102640"/>
              <a:chExt cx="683280" cy="735480"/>
            </a:xfrm>
          </p:grpSpPr>
          <p:sp>
            <p:nvSpPr>
              <p:cNvPr id="987" name="未知"/>
              <p:cNvSpPr/>
              <p:nvPr/>
            </p:nvSpPr>
            <p:spPr>
              <a:xfrm rot="4063800">
                <a:off x="8055720" y="5222160"/>
                <a:ext cx="591480" cy="4960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未知"/>
              <p:cNvSpPr/>
              <p:nvPr/>
            </p:nvSpPr>
            <p:spPr>
              <a:xfrm rot="6108000">
                <a:off x="8047440" y="5447160"/>
                <a:ext cx="676080" cy="57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未知"/>
              <p:cNvSpPr/>
              <p:nvPr/>
            </p:nvSpPr>
            <p:spPr>
              <a:xfrm rot="6406200">
                <a:off x="8114760" y="5330160"/>
                <a:ext cx="506880" cy="421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未知"/>
              <p:cNvSpPr/>
              <p:nvPr/>
            </p:nvSpPr>
            <p:spPr>
              <a:xfrm rot="6406200">
                <a:off x="8057160" y="5371560"/>
                <a:ext cx="507240" cy="28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8169840" y="4822920"/>
              <a:ext cx="507240" cy="506880"/>
              <a:chOff x="8169840" y="4822920"/>
              <a:chExt cx="507240" cy="506880"/>
            </a:xfrm>
          </p:grpSpPr>
          <p:sp>
            <p:nvSpPr>
              <p:cNvPr id="992" name=""/>
              <p:cNvSpPr/>
              <p:nvPr/>
            </p:nvSpPr>
            <p:spPr>
              <a:xfrm>
                <a:off x="8169840" y="4822920"/>
                <a:ext cx="507240" cy="506880"/>
              </a:xfrm>
              <a:custGeom>
                <a:avLst/>
                <a:gdLst>
                  <a:gd name="textAreaLeft" fmla="*/ 119160 w 507240"/>
                  <a:gd name="textAreaRight" fmla="*/ 388080 w 507240"/>
                  <a:gd name="textAreaTop" fmla="*/ 118800 h 506880"/>
                  <a:gd name="textAreaBottom" fmla="*/ 388080 h 50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258040" y="4897440"/>
                <a:ext cx="338400" cy="33768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4" name=""/>
          <p:cNvGrpSpPr/>
          <p:nvPr/>
        </p:nvGrpSpPr>
        <p:grpSpPr>
          <a:xfrm>
            <a:off x="7731720" y="2991960"/>
            <a:ext cx="1827360" cy="1924920"/>
            <a:chOff x="7731720" y="2991960"/>
            <a:chExt cx="1827360" cy="1924920"/>
          </a:xfrm>
        </p:grpSpPr>
        <p:grpSp>
          <p:nvGrpSpPr>
            <p:cNvPr id="995" name=""/>
            <p:cNvGrpSpPr/>
            <p:nvPr/>
          </p:nvGrpSpPr>
          <p:grpSpPr>
            <a:xfrm>
              <a:off x="8552520" y="3380040"/>
              <a:ext cx="986400" cy="991080"/>
              <a:chOff x="8552520" y="3380040"/>
              <a:chExt cx="986400" cy="991080"/>
            </a:xfrm>
          </p:grpSpPr>
          <p:sp>
            <p:nvSpPr>
              <p:cNvPr id="996" name="未知"/>
              <p:cNvSpPr/>
              <p:nvPr/>
            </p:nvSpPr>
            <p:spPr>
              <a:xfrm rot="18826800">
                <a:off x="8656200" y="3565440"/>
                <a:ext cx="778320" cy="6202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未知"/>
              <p:cNvSpPr/>
              <p:nvPr/>
            </p:nvSpPr>
            <p:spPr>
              <a:xfrm rot="20871600">
                <a:off x="8588880" y="379800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未知"/>
              <p:cNvSpPr/>
              <p:nvPr/>
            </p:nvSpPr>
            <p:spPr>
              <a:xfrm rot="21169800">
                <a:off x="8559000" y="389124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未知"/>
              <p:cNvSpPr/>
              <p:nvPr/>
            </p:nvSpPr>
            <p:spPr>
              <a:xfrm rot="21169800">
                <a:off x="8630640" y="394776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8572680" y="3200040"/>
              <a:ext cx="788760" cy="904320"/>
              <a:chOff x="8572680" y="3200040"/>
              <a:chExt cx="788760" cy="904320"/>
            </a:xfrm>
          </p:grpSpPr>
          <p:sp>
            <p:nvSpPr>
              <p:cNvPr id="1001" name="未知"/>
              <p:cNvSpPr/>
              <p:nvPr/>
            </p:nvSpPr>
            <p:spPr>
              <a:xfrm rot="17034600">
                <a:off x="8578080" y="3342240"/>
                <a:ext cx="77796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未知"/>
              <p:cNvSpPr/>
              <p:nvPr/>
            </p:nvSpPr>
            <p:spPr>
              <a:xfrm rot="19078800">
                <a:off x="8490960" y="3585600"/>
                <a:ext cx="88920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未知"/>
              <p:cNvSpPr/>
              <p:nvPr/>
            </p:nvSpPr>
            <p:spPr>
              <a:xfrm rot="19377600">
                <a:off x="8521920" y="3737880"/>
                <a:ext cx="66672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未知"/>
              <p:cNvSpPr/>
              <p:nvPr/>
            </p:nvSpPr>
            <p:spPr>
              <a:xfrm rot="19377600">
                <a:off x="8607600" y="3752280"/>
                <a:ext cx="66708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8087760" y="2991960"/>
              <a:ext cx="979560" cy="986400"/>
              <a:chOff x="8087760" y="2991960"/>
              <a:chExt cx="979560" cy="986400"/>
            </a:xfrm>
          </p:grpSpPr>
          <p:sp>
            <p:nvSpPr>
              <p:cNvPr id="1006" name="未知"/>
              <p:cNvSpPr/>
              <p:nvPr/>
            </p:nvSpPr>
            <p:spPr>
              <a:xfrm rot="13688400">
                <a:off x="8207640" y="3158640"/>
                <a:ext cx="739800" cy="652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未知"/>
              <p:cNvSpPr/>
              <p:nvPr/>
            </p:nvSpPr>
            <p:spPr>
              <a:xfrm rot="15733200">
                <a:off x="8110080" y="3456000"/>
                <a:ext cx="84564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未知"/>
              <p:cNvSpPr/>
              <p:nvPr/>
            </p:nvSpPr>
            <p:spPr>
              <a:xfrm rot="16031400">
                <a:off x="8291880" y="3605040"/>
                <a:ext cx="63396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未知"/>
              <p:cNvSpPr/>
              <p:nvPr/>
            </p:nvSpPr>
            <p:spPr>
              <a:xfrm rot="16031400">
                <a:off x="8347680" y="3549240"/>
                <a:ext cx="63432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7731720" y="3265560"/>
              <a:ext cx="912600" cy="781920"/>
              <a:chOff x="7731720" y="3265560"/>
              <a:chExt cx="912600" cy="781920"/>
            </a:xfrm>
          </p:grpSpPr>
          <p:sp>
            <p:nvSpPr>
              <p:cNvPr id="1011" name="未知"/>
              <p:cNvSpPr/>
              <p:nvPr/>
            </p:nvSpPr>
            <p:spPr>
              <a:xfrm rot="10003800">
                <a:off x="7792560" y="3346560"/>
                <a:ext cx="77832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未知"/>
              <p:cNvSpPr/>
              <p:nvPr/>
            </p:nvSpPr>
            <p:spPr>
              <a:xfrm rot="12048600">
                <a:off x="7723800" y="366192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未知"/>
              <p:cNvSpPr/>
              <p:nvPr/>
            </p:nvSpPr>
            <p:spPr>
              <a:xfrm rot="12346800">
                <a:off x="7998840" y="367812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未知"/>
              <p:cNvSpPr/>
              <p:nvPr/>
            </p:nvSpPr>
            <p:spPr>
              <a:xfrm rot="12346800">
                <a:off x="7964640" y="360720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8253360" y="3852000"/>
              <a:ext cx="983880" cy="984960"/>
              <a:chOff x="8253360" y="3852000"/>
              <a:chExt cx="983880" cy="984960"/>
            </a:xfrm>
          </p:grpSpPr>
          <p:sp>
            <p:nvSpPr>
              <p:cNvPr id="1016" name="未知"/>
              <p:cNvSpPr/>
              <p:nvPr/>
            </p:nvSpPr>
            <p:spPr>
              <a:xfrm rot="2727600">
                <a:off x="8375040" y="4017960"/>
                <a:ext cx="739800" cy="652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未知"/>
              <p:cNvSpPr/>
              <p:nvPr/>
            </p:nvSpPr>
            <p:spPr>
              <a:xfrm rot="4772400">
                <a:off x="8366040" y="4296240"/>
                <a:ext cx="84564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未知"/>
              <p:cNvSpPr/>
              <p:nvPr/>
            </p:nvSpPr>
            <p:spPr>
              <a:xfrm rot="5070600">
                <a:off x="8390160" y="4170600"/>
                <a:ext cx="63396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未知"/>
              <p:cNvSpPr/>
              <p:nvPr/>
            </p:nvSpPr>
            <p:spPr>
              <a:xfrm rot="5070600">
                <a:off x="8336520" y="4246920"/>
                <a:ext cx="63432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7916040" y="3913560"/>
              <a:ext cx="700560" cy="781200"/>
              <a:chOff x="7916040" y="3913560"/>
              <a:chExt cx="700560" cy="781200"/>
            </a:xfrm>
          </p:grpSpPr>
          <p:sp>
            <p:nvSpPr>
              <p:cNvPr id="1021" name="未知"/>
              <p:cNvSpPr/>
              <p:nvPr/>
            </p:nvSpPr>
            <p:spPr>
              <a:xfrm rot="5628000">
                <a:off x="7896240" y="3977640"/>
                <a:ext cx="739800" cy="6526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未知"/>
              <p:cNvSpPr/>
              <p:nvPr/>
            </p:nvSpPr>
            <p:spPr>
              <a:xfrm rot="7672800">
                <a:off x="7880400" y="4292280"/>
                <a:ext cx="84564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未知"/>
              <p:cNvSpPr/>
              <p:nvPr/>
            </p:nvSpPr>
            <p:spPr>
              <a:xfrm rot="7971000">
                <a:off x="8033040" y="4150800"/>
                <a:ext cx="63396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未知"/>
              <p:cNvSpPr/>
              <p:nvPr/>
            </p:nvSpPr>
            <p:spPr>
              <a:xfrm rot="7971000">
                <a:off x="7947000" y="4164840"/>
                <a:ext cx="63432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7734600" y="3617280"/>
              <a:ext cx="894240" cy="969120"/>
              <a:chOff x="7734600" y="3617280"/>
              <a:chExt cx="894240" cy="969120"/>
            </a:xfrm>
          </p:grpSpPr>
          <p:sp>
            <p:nvSpPr>
              <p:cNvPr id="1026" name="未知"/>
              <p:cNvSpPr/>
              <p:nvPr/>
            </p:nvSpPr>
            <p:spPr>
              <a:xfrm rot="6925800">
                <a:off x="7792560" y="3791880"/>
                <a:ext cx="77832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未知"/>
              <p:cNvSpPr/>
              <p:nvPr/>
            </p:nvSpPr>
            <p:spPr>
              <a:xfrm rot="8970600">
                <a:off x="7760880" y="410220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未知"/>
              <p:cNvSpPr/>
              <p:nvPr/>
            </p:nvSpPr>
            <p:spPr>
              <a:xfrm rot="9268800">
                <a:off x="7979760" y="398772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未知"/>
              <p:cNvSpPr/>
              <p:nvPr/>
            </p:nvSpPr>
            <p:spPr>
              <a:xfrm rot="9268800">
                <a:off x="7896600" y="397368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8629200" y="3695040"/>
              <a:ext cx="929880" cy="811080"/>
              <a:chOff x="8629200" y="3695040"/>
              <a:chExt cx="929880" cy="811080"/>
            </a:xfrm>
          </p:grpSpPr>
          <p:sp>
            <p:nvSpPr>
              <p:cNvPr id="1031" name="未知"/>
              <p:cNvSpPr/>
              <p:nvPr/>
            </p:nvSpPr>
            <p:spPr>
              <a:xfrm rot="20636400">
                <a:off x="8709840" y="3790440"/>
                <a:ext cx="778320" cy="6199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未知"/>
              <p:cNvSpPr/>
              <p:nvPr/>
            </p:nvSpPr>
            <p:spPr>
              <a:xfrm rot="1081200">
                <a:off x="8665200" y="4023000"/>
                <a:ext cx="889560" cy="71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未知"/>
              <p:cNvSpPr/>
              <p:nvPr/>
            </p:nvSpPr>
            <p:spPr>
              <a:xfrm rot="1379400">
                <a:off x="8612640" y="4033800"/>
                <a:ext cx="6670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未知"/>
              <p:cNvSpPr/>
              <p:nvPr/>
            </p:nvSpPr>
            <p:spPr>
              <a:xfrm rot="1379400">
                <a:off x="8650800" y="4119840"/>
                <a:ext cx="667440" cy="352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8452800" y="3874680"/>
              <a:ext cx="866520" cy="786240"/>
              <a:chOff x="8452800" y="3874680"/>
              <a:chExt cx="866520" cy="786240"/>
            </a:xfrm>
          </p:grpSpPr>
          <p:sp>
            <p:nvSpPr>
              <p:cNvPr id="1036" name="未知"/>
              <p:cNvSpPr/>
              <p:nvPr/>
            </p:nvSpPr>
            <p:spPr>
              <a:xfrm rot="805800">
                <a:off x="8516160" y="3951720"/>
                <a:ext cx="739800" cy="63144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未知"/>
              <p:cNvSpPr/>
              <p:nvPr/>
            </p:nvSpPr>
            <p:spPr>
              <a:xfrm rot="2850600">
                <a:off x="8494200" y="4200120"/>
                <a:ext cx="845640" cy="7272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未知"/>
              <p:cNvSpPr/>
              <p:nvPr/>
            </p:nvSpPr>
            <p:spPr>
              <a:xfrm rot="3148800">
                <a:off x="8460000" y="4136760"/>
                <a:ext cx="633960" cy="536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未知"/>
              <p:cNvSpPr/>
              <p:nvPr/>
            </p:nvSpPr>
            <p:spPr>
              <a:xfrm rot="3148800">
                <a:off x="8451720" y="4230000"/>
                <a:ext cx="634320" cy="3600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7734240" y="3435120"/>
              <a:ext cx="1034280" cy="970920"/>
              <a:chOff x="7734240" y="3435120"/>
              <a:chExt cx="1034280" cy="970920"/>
            </a:xfrm>
          </p:grpSpPr>
          <p:sp>
            <p:nvSpPr>
              <p:cNvPr id="1041" name="未知"/>
              <p:cNvSpPr/>
              <p:nvPr/>
            </p:nvSpPr>
            <p:spPr>
              <a:xfrm rot="7717200">
                <a:off x="7995600" y="3462840"/>
                <a:ext cx="511200" cy="91548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未知"/>
              <p:cNvSpPr/>
              <p:nvPr/>
            </p:nvSpPr>
            <p:spPr>
              <a:xfrm rot="9762000">
                <a:off x="7976880" y="3927960"/>
                <a:ext cx="584280" cy="1054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未知"/>
              <p:cNvSpPr/>
              <p:nvPr/>
            </p:nvSpPr>
            <p:spPr>
              <a:xfrm rot="10060200">
                <a:off x="8125560" y="3827160"/>
                <a:ext cx="438120" cy="777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未知"/>
              <p:cNvSpPr/>
              <p:nvPr/>
            </p:nvSpPr>
            <p:spPr>
              <a:xfrm rot="10060200">
                <a:off x="8065440" y="3766680"/>
                <a:ext cx="438480" cy="5256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8250480" y="3110040"/>
              <a:ext cx="971280" cy="881640"/>
              <a:chOff x="8250480" y="3110040"/>
              <a:chExt cx="971280" cy="881640"/>
            </a:xfrm>
          </p:grpSpPr>
          <p:sp>
            <p:nvSpPr>
              <p:cNvPr id="1046" name="未知"/>
              <p:cNvSpPr/>
              <p:nvPr/>
            </p:nvSpPr>
            <p:spPr>
              <a:xfrm rot="13857000">
                <a:off x="8558640" y="3069000"/>
                <a:ext cx="354240" cy="96300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未知"/>
              <p:cNvSpPr/>
              <p:nvPr/>
            </p:nvSpPr>
            <p:spPr>
              <a:xfrm rot="15901800">
                <a:off x="8466840" y="3498480"/>
                <a:ext cx="404640" cy="1108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未知"/>
              <p:cNvSpPr/>
              <p:nvPr/>
            </p:nvSpPr>
            <p:spPr>
              <a:xfrm rot="16200000">
                <a:off x="8619120" y="3581280"/>
                <a:ext cx="303480" cy="82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未知"/>
              <p:cNvSpPr/>
              <p:nvPr/>
            </p:nvSpPr>
            <p:spPr>
              <a:xfrm rot="16200000">
                <a:off x="8707320" y="3565440"/>
                <a:ext cx="303480" cy="5508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8058600" y="3267000"/>
              <a:ext cx="723600" cy="790920"/>
              <a:chOff x="8058600" y="3267000"/>
              <a:chExt cx="723600" cy="790920"/>
            </a:xfrm>
          </p:grpSpPr>
          <p:sp>
            <p:nvSpPr>
              <p:cNvPr id="1051" name="未知"/>
              <p:cNvSpPr/>
              <p:nvPr/>
            </p:nvSpPr>
            <p:spPr>
              <a:xfrm rot="11895600">
                <a:off x="8146800" y="3336120"/>
                <a:ext cx="54684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未知"/>
              <p:cNvSpPr/>
              <p:nvPr/>
            </p:nvSpPr>
            <p:spPr>
              <a:xfrm rot="13940400">
                <a:off x="8072640" y="3652560"/>
                <a:ext cx="62496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未知"/>
              <p:cNvSpPr/>
              <p:nvPr/>
            </p:nvSpPr>
            <p:spPr>
              <a:xfrm rot="14238600">
                <a:off x="8265240" y="3714120"/>
                <a:ext cx="46872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未知"/>
              <p:cNvSpPr/>
              <p:nvPr/>
            </p:nvSpPr>
            <p:spPr>
              <a:xfrm rot="14238600">
                <a:off x="8290800" y="3652560"/>
                <a:ext cx="46872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8056440" y="3985200"/>
              <a:ext cx="884160" cy="931680"/>
              <a:chOff x="8056440" y="3985200"/>
              <a:chExt cx="884160" cy="931680"/>
            </a:xfrm>
          </p:grpSpPr>
          <p:sp>
            <p:nvSpPr>
              <p:cNvPr id="1056" name="未知"/>
              <p:cNvSpPr/>
              <p:nvPr/>
            </p:nvSpPr>
            <p:spPr>
              <a:xfrm rot="4063800">
                <a:off x="8128440" y="4124880"/>
                <a:ext cx="739800" cy="652320"/>
              </a:xfrm>
              <a:custGeom>
                <a:avLst/>
                <a:gdLst/>
                <a:ahLst/>
                <a:rect l="l" t="t" r="r" b="b"/>
                <a:pathLst>
                  <a:path w="476" h="399">
                    <a:moveTo>
                      <a:pt x="302" y="343"/>
                    </a:moveTo>
                    <a:cubicBezTo>
                      <a:pt x="236" y="305"/>
                      <a:pt x="74" y="164"/>
                      <a:pt x="37" y="110"/>
                    </a:cubicBezTo>
                    <a:cubicBezTo>
                      <a:pt x="0" y="56"/>
                      <a:pt x="21" y="0"/>
                      <a:pt x="83" y="19"/>
                    </a:cubicBezTo>
                    <a:cubicBezTo>
                      <a:pt x="145" y="38"/>
                      <a:pt x="348" y="163"/>
                      <a:pt x="410" y="223"/>
                    </a:cubicBezTo>
                    <a:cubicBezTo>
                      <a:pt x="472" y="283"/>
                      <a:pt x="476" y="359"/>
                      <a:pt x="458" y="379"/>
                    </a:cubicBezTo>
                    <a:cubicBezTo>
                      <a:pt x="440" y="399"/>
                      <a:pt x="334" y="350"/>
                      <a:pt x="302" y="34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未知"/>
              <p:cNvSpPr/>
              <p:nvPr/>
            </p:nvSpPr>
            <p:spPr>
              <a:xfrm rot="6108000">
                <a:off x="8120160" y="4420080"/>
                <a:ext cx="845640" cy="752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未知"/>
              <p:cNvSpPr/>
              <p:nvPr/>
            </p:nvSpPr>
            <p:spPr>
              <a:xfrm rot="6406200">
                <a:off x="8201160" y="4273200"/>
                <a:ext cx="633960" cy="55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未知"/>
              <p:cNvSpPr/>
              <p:nvPr/>
            </p:nvSpPr>
            <p:spPr>
              <a:xfrm rot="6406200">
                <a:off x="8126280" y="4324680"/>
                <a:ext cx="634320" cy="37440"/>
              </a:xfrm>
              <a:custGeom>
                <a:avLst/>
                <a:gdLst/>
                <a:ahLst/>
                <a:rect l="l" t="t" r="r" b="b"/>
                <a:pathLst>
                  <a:path w="507" h="59">
                    <a:moveTo>
                      <a:pt x="439" y="7"/>
                    </a:moveTo>
                    <a:cubicBezTo>
                      <a:pt x="371" y="0"/>
                      <a:pt x="60" y="0"/>
                      <a:pt x="30" y="7"/>
                    </a:cubicBezTo>
                    <a:cubicBezTo>
                      <a:pt x="0" y="14"/>
                      <a:pt x="189" y="45"/>
                      <a:pt x="257" y="52"/>
                    </a:cubicBezTo>
                    <a:cubicBezTo>
                      <a:pt x="325" y="59"/>
                      <a:pt x="409" y="59"/>
                      <a:pt x="439" y="52"/>
                    </a:cubicBezTo>
                    <a:cubicBezTo>
                      <a:pt x="469" y="45"/>
                      <a:pt x="507" y="14"/>
                      <a:pt x="439" y="7"/>
                    </a:cubicBezTo>
                    <a:close/>
                  </a:path>
                </a:pathLst>
              </a:custGeom>
              <a:solidFill>
                <a:srgbClr val="dddddd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8259120" y="3640680"/>
              <a:ext cx="667080" cy="633960"/>
              <a:chOff x="8259120" y="3640680"/>
              <a:chExt cx="667080" cy="633960"/>
            </a:xfrm>
          </p:grpSpPr>
          <p:sp>
            <p:nvSpPr>
              <p:cNvPr id="1061" name=""/>
              <p:cNvSpPr/>
              <p:nvPr/>
            </p:nvSpPr>
            <p:spPr>
              <a:xfrm>
                <a:off x="8259120" y="3640680"/>
                <a:ext cx="667080" cy="633960"/>
              </a:xfrm>
              <a:custGeom>
                <a:avLst/>
                <a:gdLst>
                  <a:gd name="textAreaLeft" fmla="*/ 156600 w 667080"/>
                  <a:gd name="textAreaRight" fmla="*/ 510480 w 667080"/>
                  <a:gd name="textAreaTop" fmla="*/ 148680 h 633960"/>
                  <a:gd name="textAreaBottom" fmla="*/ 485280 h 63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731" y="11506"/>
                    </a:lnTo>
                    <a:lnTo>
                      <a:pt x="198" y="12861"/>
                    </a:lnTo>
                    <a:lnTo>
                      <a:pt x="3014" y="13033"/>
                    </a:lnTo>
                    <a:lnTo>
                      <a:pt x="786" y="14846"/>
                    </a:lnTo>
                    <a:lnTo>
                      <a:pt x="3648" y="14603"/>
                    </a:lnTo>
                    <a:lnTo>
                      <a:pt x="1742" y="16682"/>
                    </a:lnTo>
                    <a:lnTo>
                      <a:pt x="4505" y="15897"/>
                    </a:lnTo>
                    <a:lnTo>
                      <a:pt x="3163" y="18437"/>
                    </a:lnTo>
                    <a:lnTo>
                      <a:pt x="5593" y="17005"/>
                    </a:lnTo>
                    <a:lnTo>
                      <a:pt x="4761" y="19754"/>
                    </a:lnTo>
                    <a:lnTo>
                      <a:pt x="6873" y="17884"/>
                    </a:lnTo>
                    <a:lnTo>
                      <a:pt x="6580" y="20741"/>
                    </a:lnTo>
                    <a:lnTo>
                      <a:pt x="8432" y="18546"/>
                    </a:lnTo>
                    <a:lnTo>
                      <a:pt x="8555" y="21364"/>
                    </a:lnTo>
                    <a:lnTo>
                      <a:pt x="9953" y="18856"/>
                    </a:lnTo>
                    <a:lnTo>
                      <a:pt x="10800" y="21600"/>
                    </a:lnTo>
                    <a:lnTo>
                      <a:pt x="11506" y="18869"/>
                    </a:lnTo>
                    <a:lnTo>
                      <a:pt x="12861" y="21402"/>
                    </a:lnTo>
                    <a:lnTo>
                      <a:pt x="13033" y="18586"/>
                    </a:lnTo>
                    <a:lnTo>
                      <a:pt x="14846" y="20814"/>
                    </a:lnTo>
                    <a:lnTo>
                      <a:pt x="14603" y="17952"/>
                    </a:lnTo>
                    <a:lnTo>
                      <a:pt x="16682" y="19858"/>
                    </a:lnTo>
                    <a:lnTo>
                      <a:pt x="15897" y="17095"/>
                    </a:lnTo>
                    <a:lnTo>
                      <a:pt x="18437" y="18437"/>
                    </a:lnTo>
                    <a:lnTo>
                      <a:pt x="17005" y="16007"/>
                    </a:lnTo>
                    <a:lnTo>
                      <a:pt x="19754" y="16839"/>
                    </a:lnTo>
                    <a:lnTo>
                      <a:pt x="17884" y="14727"/>
                    </a:lnTo>
                    <a:lnTo>
                      <a:pt x="20741" y="15020"/>
                    </a:lnTo>
                    <a:lnTo>
                      <a:pt x="18546" y="13168"/>
                    </a:lnTo>
                    <a:lnTo>
                      <a:pt x="21364" y="13045"/>
                    </a:lnTo>
                    <a:lnTo>
                      <a:pt x="18856" y="11647"/>
                    </a:lnTo>
                    <a:lnTo>
                      <a:pt x="21600" y="10800"/>
                    </a:lnTo>
                    <a:lnTo>
                      <a:pt x="18869" y="10094"/>
                    </a:lnTo>
                    <a:lnTo>
                      <a:pt x="21402" y="8739"/>
                    </a:lnTo>
                    <a:lnTo>
                      <a:pt x="18586" y="8567"/>
                    </a:lnTo>
                    <a:lnTo>
                      <a:pt x="20814" y="6754"/>
                    </a:lnTo>
                    <a:lnTo>
                      <a:pt x="17952" y="6997"/>
                    </a:lnTo>
                    <a:lnTo>
                      <a:pt x="19858" y="4918"/>
                    </a:lnTo>
                    <a:lnTo>
                      <a:pt x="17095" y="5703"/>
                    </a:lnTo>
                    <a:lnTo>
                      <a:pt x="18437" y="3163"/>
                    </a:lnTo>
                    <a:lnTo>
                      <a:pt x="16007" y="4595"/>
                    </a:lnTo>
                    <a:lnTo>
                      <a:pt x="16839" y="1846"/>
                    </a:lnTo>
                    <a:lnTo>
                      <a:pt x="14727" y="3716"/>
                    </a:lnTo>
                    <a:lnTo>
                      <a:pt x="15020" y="859"/>
                    </a:lnTo>
                    <a:lnTo>
                      <a:pt x="13168" y="3054"/>
                    </a:lnTo>
                    <a:lnTo>
                      <a:pt x="13045" y="236"/>
                    </a:lnTo>
                    <a:lnTo>
                      <a:pt x="11647" y="2744"/>
                    </a:lnTo>
                    <a:lnTo>
                      <a:pt x="10800" y="0"/>
                    </a:lnTo>
                    <a:lnTo>
                      <a:pt x="10094" y="2731"/>
                    </a:lnTo>
                    <a:lnTo>
                      <a:pt x="8739" y="198"/>
                    </a:lnTo>
                    <a:lnTo>
                      <a:pt x="8567" y="3014"/>
                    </a:lnTo>
                    <a:lnTo>
                      <a:pt x="6754" y="786"/>
                    </a:lnTo>
                    <a:lnTo>
                      <a:pt x="6997" y="3648"/>
                    </a:lnTo>
                    <a:lnTo>
                      <a:pt x="4918" y="1742"/>
                    </a:lnTo>
                    <a:lnTo>
                      <a:pt x="5703" y="4505"/>
                    </a:lnTo>
                    <a:lnTo>
                      <a:pt x="3163" y="3163"/>
                    </a:lnTo>
                    <a:lnTo>
                      <a:pt x="4595" y="5593"/>
                    </a:lnTo>
                    <a:lnTo>
                      <a:pt x="1846" y="4761"/>
                    </a:lnTo>
                    <a:lnTo>
                      <a:pt x="3716" y="6873"/>
                    </a:lnTo>
                    <a:lnTo>
                      <a:pt x="859" y="6580"/>
                    </a:lnTo>
                    <a:lnTo>
                      <a:pt x="3054" y="8432"/>
                    </a:lnTo>
                    <a:lnTo>
                      <a:pt x="236" y="8555"/>
                    </a:lnTo>
                    <a:lnTo>
                      <a:pt x="2744" y="995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73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75040" y="3733920"/>
                <a:ext cx="444960" cy="42228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2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810080" y="112536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绿色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682560" y="3213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a00"/>
            </a:gs>
            <a:gs pos="100000">
              <a:srgbClr val="e5ed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0:11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4:35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