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D1F-4691-4EC6-BB8A-C8E1CAD6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6ED-649B-4AD1-8847-5A1FCC8D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DBA-208E-42DD-A633-6F67D378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C42-2738-468B-ADBD-2E70554B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E80-94E6-4596-B66B-69B3684E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4E3-4A4A-4342-94B3-2565918E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251-60C3-48FB-ACD5-46E4114E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94C-7D80-4C66-8539-3C8FC67A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42B-4742-4B7D-A754-D859655E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D41-1B5B-4E48-BB24-8387D0E9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24E-D5E2-4395-AFB0-A00C4BAB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493-8B7E-4EB8-94F5-E974667B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B930-06BA-4A31-B3C2-B0B845AD08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AC06-AA44-46B8-BBCA-D8676A8B0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qljyzx.com/Article/yw/xiao04/200612/4429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qljyzx.com/Article/yw/xiao04/200612/4429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9" descr="20061272010261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179280" y="1773360"/>
            <a:ext cx="8610840" cy="14238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月光.wma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279360" cy="279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34360" y="177336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牧场之国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9772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黑体"/>
              </a:rPr>
              <a:t>生字、词语、多音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1484280"/>
            <a:ext cx="914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牧场    镶嵌  骏马     毛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吆喝    公爵  牲畜     牛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噜    圈里  哞哞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796000" y="25956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1547640" y="2565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1071360" y="4594320"/>
            <a:ext cx="705672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膘肥体壮      辽阔无垠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仪态端庄      悠然自得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7385040" y="475452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47640" y="3645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80880" y="50292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1143000" y="480060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47640" y="450864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模样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547640" y="5805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ó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模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648320" y="51055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5410080" y="48769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5867280" y="4495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j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羊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5867280" y="579132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圆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犊的模样像贵夫人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仪态端庄。老牛好似牛群的家长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比尊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4596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抹晚霞也渐渐消失了，整个天地都暗了下来。狗不叫了，圈里的牛也不再发出哞哞声，马也忘记了踢马房的挡板。沉睡的牲畜，无声的低地，漆黑的夜晚，远处的几座灯塔在闪烁着微弱的光芒。这就是真正的荷兰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mm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070-1777-4F23-A829-1B79357401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08000" y="1384200"/>
            <a:ext cx="882000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总分结构，开篇点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细致的观察，恰当地运用比喻、排比、拟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等修辞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最重要的一点是详略分明的写作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00400" y="436572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练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62760" y="546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作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067120" y="5011560"/>
            <a:ext cx="513972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请你运用这节课学到的写作方法也来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处自己喜欢的景点。题目自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20061272010261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3:57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54:49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