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972F-70F3-44D9-9CFF-40D4349AE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35D3-EE06-4880-B79D-16A8D7BA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4E74-3CA8-4DD9-A3E3-B813E2C2D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F0D7-FC48-4DEB-A7CD-7F61E60E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CBFD-E81B-4168-A354-F2E3C17F9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0AF0-16FB-41DA-976E-498C39C3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BA5C-6996-4A10-B4E8-F01753CC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D8C2-250E-46CA-9FEC-290F98A0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2FE0-82F1-49EC-B74F-5A2DCCBF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0D73-808A-4D14-BA0B-DCF6A480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2BF4-E764-42E5-9182-267B8DA7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4809-8762-41A6-90B4-DBD45D11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CD0F-F6E0-4179-92DE-5F6E5089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022F-B85C-424C-934C-EA8C8C0A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1611-5F9F-4D7C-B8CD-4C2247C3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C151-1966-47C0-A74E-BC9863D2E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0C7C-AE9E-4051-B413-2D21AD99F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52E5-BC93-43EF-A464-9E8E4AC6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88B6-5CBC-414D-A5EA-BB9F42AF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39AD-1367-4BB1-AAF0-22A8CE36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1E49-DC84-4E3A-9C30-B53F3226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9EC9-CBB1-4A79-B9B2-E79ED856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9AD3-38E0-474B-9C73-226E6640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7EB8-4C59-439D-BBF7-2DC63F76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9BA9-06D6-4A58-9AFB-4D5113646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4250-6B1B-4B50-8B60-B350D1ACB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ndbsyr.com/ly/jd/200812/806.shtml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荷兰-牧场-4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2572560" y="51588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西师大版四年级语文下册第八单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19640" y="2205000"/>
            <a:ext cx="170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《牧场之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件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200812272317212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476280"/>
            <a:ext cx="5185080" cy="36003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1763640" y="458136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碧绿色的低地上有成群的骏马，它们膘肥体壮，是辽阔原野的主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1042920" y="549360"/>
            <a:ext cx="7416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真正的荷兰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：在绿色的草地上，绵羊悠然自得，猪群不停地呼噜，小鸡、长毛山羊安闲自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黑体"/>
                <a:ea typeface="黑体"/>
              </a:rPr>
              <a:t>4.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真正的荷兰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：傍晚，有人驾驶船默默挤奶，船只行驶舒缓平稳</a:t>
            </a:r>
            <a:r>
              <a:rPr b="1" lang="en-US" sz="3600" spc="-1" strike="noStrike">
                <a:solidFill>
                  <a:srgbClr val="006600"/>
                </a:solidFill>
                <a:latin typeface="Times New Roman"/>
                <a:ea typeface="黑体"/>
              </a:rPr>
              <a:t>……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一片静谧，一幅沉寂的静夜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900000" y="4724280"/>
            <a:ext cx="7559640" cy="76428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既是介绍荷兰特点，又是对荷兰独特风光的赞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2484360" y="3141720"/>
            <a:ext cx="4105440" cy="31687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7"/>
          <p:cNvSpPr/>
          <p:nvPr/>
        </p:nvSpPr>
        <p:spPr>
          <a:xfrm>
            <a:off x="1332000" y="33336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楷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楷体"/>
              </a:rPr>
              <a:t>金色的晚霞铺在西天，远处偶尔传来汽笛声，接着又是一片寂静。在这里，谁都不叫喊吆喝，牛脖子上的铃铛也没有响声，挤奶的人更是默默无言。沉睡的牲畜，无声的低地，漆黑的夜晚，远处的几座灯塔在闪烁着微弱的光芒。这就是真正的荷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1d2622804f119fb2b0f58109bcda8a92"/>
          <p:cNvPicPr/>
          <p:nvPr/>
        </p:nvPicPr>
        <p:blipFill>
          <a:blip r:embed="rId1"/>
          <a:stretch/>
        </p:blipFill>
        <p:spPr>
          <a:xfrm>
            <a:off x="324000" y="2133720"/>
            <a:ext cx="4190760" cy="2736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2"/>
          <a:stretch/>
        </p:blipFill>
        <p:spPr>
          <a:xfrm>
            <a:off x="5219640" y="2060640"/>
            <a:ext cx="3780000" cy="28083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7"/>
          <p:cNvSpPr/>
          <p:nvPr/>
        </p:nvSpPr>
        <p:spPr>
          <a:xfrm>
            <a:off x="3299040" y="54936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欣赏荷兰优美地的风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FD27-8E3B-49F8-88F9-31177A0588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荷兰-风车-2"/>
          <p:cNvPicPr/>
          <p:nvPr/>
        </p:nvPicPr>
        <p:blipFill>
          <a:blip r:embed="rId1"/>
          <a:stretch/>
        </p:blipFill>
        <p:spPr>
          <a:xfrm>
            <a:off x="539640" y="2133720"/>
            <a:ext cx="3816360" cy="2950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荷兰-风车-3"/>
          <p:cNvPicPr/>
          <p:nvPr/>
        </p:nvPicPr>
        <p:blipFill>
          <a:blip r:embed="rId2"/>
          <a:stretch/>
        </p:blipFill>
        <p:spPr>
          <a:xfrm>
            <a:off x="4716360" y="2133720"/>
            <a:ext cx="40705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荷兰-花"/>
          <p:cNvPicPr/>
          <p:nvPr/>
        </p:nvPicPr>
        <p:blipFill>
          <a:blip r:embed="rId1"/>
          <a:stretch/>
        </p:blipFill>
        <p:spPr>
          <a:xfrm>
            <a:off x="1187280" y="1341360"/>
            <a:ext cx="6913800" cy="46087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2608200" y="2602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荷兰的国花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隶书"/>
              </a:rPr>
              <a:t>——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郁金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6600"/>
                </a:solidFill>
                <a:latin typeface="Times New Roman"/>
                <a:ea typeface="黑体"/>
              </a:rPr>
              <a:t>生字、词语、多音字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04920" y="1219320"/>
            <a:ext cx="853416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镶 嵌    骏 马    膘肥体壮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辽阔无垠（   ）   公 爵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悠然自得    牲畜（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429000" y="228600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í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791320" y="3429000"/>
            <a:ext cx="121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380880" y="502920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1143000" y="4800600"/>
            <a:ext cx="457200" cy="1371600"/>
          </a:xfrm>
          <a:custGeom>
            <a:avLst/>
            <a:gdLst>
              <a:gd name="textAreaLeft" fmla="*/ 292320 w 457200"/>
              <a:gd name="textAreaRight" fmla="*/ 45756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1547640" y="450864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ú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模样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1547640" y="580536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ó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模型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4648320" y="5105520"/>
            <a:ext cx="213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1"/>
          <p:cNvSpPr/>
          <p:nvPr/>
        </p:nvSpPr>
        <p:spPr>
          <a:xfrm>
            <a:off x="5410080" y="4876920"/>
            <a:ext cx="457200" cy="1371600"/>
          </a:xfrm>
          <a:custGeom>
            <a:avLst/>
            <a:gdLst>
              <a:gd name="textAreaLeft" fmla="*/ 292320 w 457200"/>
              <a:gd name="textAreaRight" fmla="*/ 45756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5867280" y="44956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ju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à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羊圈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5867280" y="5791320"/>
            <a:ext cx="39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qu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ā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圆圈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228600" y="1066680"/>
            <a:ext cx="8686800" cy="3353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5877000"/>
            <a:ext cx="611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阅读要求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042920" y="1989000"/>
            <a:ext cx="761832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课文第一自然段有什么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说说牧场之国荷兰给你留下了怎样的印象？你是从课文的哪些地方感受到的？请带着你的感受读一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6705360"/>
            <a:ext cx="4572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黑体"/>
              </a:rPr>
              <a:t>欣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47640" y="620640"/>
            <a:ext cx="6077160" cy="41436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3083040" y="515772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牧场之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——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荷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荷兰-牧场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2963880" y="1052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荷兰牧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755640" y="6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    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一条条运河之间的绿色低地上，黑白花牛，白头黑牛，白腰蓝嘴黑牛，在低头吃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极目远眺，四周全是丝绒般的碧绿草原和黑白两色的花牛。这就是真正的荷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332000" y="1700280"/>
            <a:ext cx="66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课文为什么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四次写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这就是真正的荷兰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黑体"/>
              </a:rPr>
              <a:t>四次写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  <a:ea typeface="黑体"/>
              </a:rPr>
              <a:t>这就是真正的荷兰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52560" y="2214720"/>
            <a:ext cx="7580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真正的荷兰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：牧场上一片碧草，上面有黑白两色花牛，他们在吃草，悠闲自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真正的荷兰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：碧绿色的低地上有成群的骏马，它们膘肥体壮，是辽阔原野的主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380880" y="380880"/>
            <a:ext cx="8382240" cy="914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002"/>
          <p:cNvPicPr/>
          <p:nvPr/>
        </p:nvPicPr>
        <p:blipFill>
          <a:blip r:embed="rId1"/>
          <a:stretch/>
        </p:blipFill>
        <p:spPr>
          <a:xfrm>
            <a:off x="1258920" y="476280"/>
            <a:ext cx="6896160" cy="46767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6"/>
          <p:cNvSpPr/>
          <p:nvPr/>
        </p:nvSpPr>
        <p:spPr>
          <a:xfrm>
            <a:off x="1763640" y="5373720"/>
            <a:ext cx="59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牧场上的黑白花牛，白头黑牛，白腰蓝嘴黑牛在吃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14:30:1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3:35:47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