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7D0-F819-4553-A628-208F0E2D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C82-BDF1-4A77-869E-8790E710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0EA-C504-4915-A26C-B1692C2C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BC7-7680-4EFF-AEBE-FEC8848B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D89-E476-438C-8065-3540F658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BF1-25E7-4B13-B65B-0E3C9108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0FF-C0AE-4BF2-8E64-2CB0BF42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F50-4D31-41C2-9AAD-1BCECDB4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3B6-1F90-4D04-A32E-191B1517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428-D1DB-4166-AE5E-E80420AF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0AE-6ECF-45DF-9155-A845E03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10A-C854-4DC3-966F-7BF9CA0D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95EE-3372-47CA-8022-9195CE98CB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257,9,&#24187;&#28783;&#29255; 9" TargetMode="External"/><Relationship Id="rId4" Type="http://schemas.openxmlformats.org/officeDocument/2006/relationships/hyperlink" Target="287,4,&#24187;&#28783;&#29255; 4" TargetMode="External"/><Relationship Id="rId5" Type="http://schemas.openxmlformats.org/officeDocument/2006/relationships/hyperlink" Target="287,4,&#24187;&#28783;&#29255; 4" TargetMode="External"/><Relationship Id="rId6" Type="http://schemas.openxmlformats.org/officeDocument/2006/relationships/hyperlink" Target="271,3,&#24187;&#28783;&#29255; 3" TargetMode="External"/><Relationship Id="rId7" Type="http://schemas.openxmlformats.org/officeDocument/2006/relationships/hyperlink" Target="271,3,&#24187;&#28783;&#29255; 3" TargetMode="External"/><Relationship Id="rId8" Type="http://schemas.openxmlformats.org/officeDocument/2006/relationships/hyperlink" Target="265,2,&#24187;&#28783;&#29255; 2" TargetMode="External"/><Relationship Id="rId9" Type="http://schemas.openxmlformats.org/officeDocument/2006/relationships/hyperlink" Target="265,2,&#24187;&#28783;&#29255; 2" TargetMode="External"/><Relationship Id="rId10" Type="http://schemas.openxmlformats.org/officeDocument/2006/relationships/hyperlink" Target="288,5,&#24187;&#28783;&#29255; 5" TargetMode="External"/><Relationship Id="rId11" Type="http://schemas.openxmlformats.org/officeDocument/2006/relationships/hyperlink" Target="288,5,&#24187;&#28783;&#29255; 5" TargetMode="External"/><Relationship Id="rId12" Type="http://schemas.openxmlformats.org/officeDocument/2006/relationships/hyperlink" Target="288,5,&#24187;&#28783;&#29255; 5" TargetMode="External"/><Relationship Id="rId13" Type="http://schemas.openxmlformats.org/officeDocument/2006/relationships/hyperlink" Target="289,6,&#24187;&#28783;&#29255; 6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8,&#24187;&#28783;&#29255; 8" TargetMode="External"/><Relationship Id="rId3" Type="http://schemas.openxmlformats.org/officeDocument/2006/relationships/hyperlink" Target="256,16,&#24187;&#28783;&#29255; 16" TargetMode="External"/><Relationship Id="rId4" Type="http://schemas.openxmlformats.org/officeDocument/2006/relationships/hyperlink" Target="256,16,&#24187;&#28783;&#29255; 16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16,&#24187;&#28783;&#29255; 16" TargetMode="External"/><Relationship Id="rId3" Type="http://schemas.openxmlformats.org/officeDocument/2006/relationships/hyperlink" Target="256,25,&#24187;&#28783;&#29255; 25" TargetMode="External"/><Relationship Id="rId4" Type="http://schemas.openxmlformats.org/officeDocument/2006/relationships/hyperlink" Target="256,22,&#24187;&#28783;&#29255; 22" TargetMode="External"/><Relationship Id="rId5" Type="http://schemas.openxmlformats.org/officeDocument/2006/relationships/hyperlink" Target="256,10,&#24187;&#28783;&#29255; 10" TargetMode="External"/><Relationship Id="rId6" Type="http://schemas.openxmlformats.org/officeDocument/2006/relationships/hyperlink" Target="256,13,&#24187;&#28783;&#29255; 13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53,&#24187;&#28783;&#29255; 53" TargetMode="External"/><Relationship Id="rId3" Type="http://schemas.openxmlformats.org/officeDocument/2006/relationships/hyperlink" Target="256,42,&#24187;&#28783;&#29255; 42" TargetMode="External"/><Relationship Id="rId4" Type="http://schemas.openxmlformats.org/officeDocument/2006/relationships/hyperlink" Target="-1,22,&#24187;&#28783;&#29255; 22" TargetMode="External"/><Relationship Id="rId5" Type="http://schemas.openxmlformats.org/officeDocument/2006/relationships/hyperlink" Target="-1,22,&#24187;&#28783;&#29255; 22" TargetMode="External"/><Relationship Id="rId6" Type="http://schemas.openxmlformats.org/officeDocument/2006/relationships/hyperlink" Target="256,52,&#24187;&#28783;&#29255; 52" TargetMode="External"/><Relationship Id="rId7" Type="http://schemas.openxmlformats.org/officeDocument/2006/relationships/hyperlink" Target="256,15,&#24187;&#28783;&#29255; 15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image" Target="../media/image3.gif"/><Relationship Id="rId4" Type="http://schemas.openxmlformats.org/officeDocument/2006/relationships/hyperlink" Target="http://www.guoxue.com/dunhuang/abroad/rob/cjdfx.htm" TargetMode="External"/><Relationship Id="rId5" Type="http://schemas.openxmlformats.org/officeDocument/2006/relationships/hyperlink" Target="http://www.guoxue.com/dunhuang/abroad/rob/cjdfx.htm" TargetMode="External"/><Relationship Id="rId6" Type="http://schemas.openxmlformats.org/officeDocument/2006/relationships/hyperlink" Target="http://www.guoxue.com/dunhuang/abroad/rob/cjdfx.htm" TargetMode="External"/><Relationship Id="rId7" Type="http://schemas.openxmlformats.org/officeDocument/2006/relationships/hyperlink" Target="http://www.guoxue.com/dunhuang/abroad/rob/cjdfx.htm" TargetMode="External"/><Relationship Id="rId8" Type="http://schemas.openxmlformats.org/officeDocument/2006/relationships/hyperlink" Target="http://www.guoxue.com/dunhuang/abroad/rob/dhjbl.htm" TargetMode="External"/><Relationship Id="rId9" Type="http://schemas.openxmlformats.org/officeDocument/2006/relationships/hyperlink" Target="http://www.guoxue.com/dunhuang/abroad/rob/dhjbl.htm" TargetMode="External"/><Relationship Id="rId10" Type="http://schemas.openxmlformats.org/officeDocument/2006/relationships/hyperlink" Target="http://www.guoxue.com/dunhuang/abroad/rob/dhjbl.htm" TargetMode="External"/><Relationship Id="rId11" Type="http://schemas.openxmlformats.org/officeDocument/2006/relationships/hyperlink" Target="http://www.guoxue.com/dunhuang/abroad/rob/dhjbl.htm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nwh.org/cnsites/nmgk/mgk.htm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image" Target="../media/image3.gif"/><Relationship Id="rId22" Type="http://schemas.openxmlformats.org/officeDocument/2006/relationships/image" Target="../media/image4.png"/><Relationship Id="rId23" Type="http://schemas.openxmlformats.org/officeDocument/2006/relationships/hyperlink" Target="http://www.eeppt.com/moban/kejian/" TargetMode="External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" name="Picture 3" descr="外观041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08000" y="-98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7093080" y="334800"/>
            <a:ext cx="144756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7010280" y="533412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影片导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352680" y="2438280"/>
            <a:ext cx="7621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4"/>
              </a:rPr>
              <a:t>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5"/>
              </a:rPr>
              <a:t>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4572000" y="2438280"/>
            <a:ext cx="7621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6"/>
              </a:rPr>
              <a:t>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7"/>
              </a:rPr>
              <a:t>塑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943600" y="2362320"/>
            <a:ext cx="7621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8"/>
              </a:rPr>
              <a:t>位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9"/>
              </a:rPr>
              <a:t>置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Text Box 21"/>
          <p:cNvSpPr/>
          <p:nvPr/>
        </p:nvSpPr>
        <p:spPr>
          <a:xfrm>
            <a:off x="2133720" y="2362320"/>
            <a:ext cx="83808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10"/>
              </a:rPr>
              <a:t>藏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11"/>
              </a:rPr>
              <a:t>经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12"/>
              </a:rPr>
              <a:t>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990720" y="2362320"/>
            <a:ext cx="761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13"/>
              </a:rPr>
              <a:t>艺术宝库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29760" y="1054080"/>
            <a:ext cx="3603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《莫高窟》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课件模板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457200"/>
            <a:ext cx="85345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莫高窟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敦煌莫高窟是祖国西北的一颗明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珠。她坐落在甘肃省三危山和鸣沙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怀抱中，</a:t>
            </a: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2"/>
              </a:rPr>
              <a:t>四周布满沙丘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</a:t>
            </a: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3"/>
              </a:rPr>
              <a:t>４９２个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4"/>
              </a:rPr>
              <a:t>洞窟像蜂窝似的排列在断崖绝壁上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" name="Picture 6" descr="back3">
            <a:hlinkClick r:id="" action="ppaction://hlinkshowjump?jump=firs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5791320"/>
            <a:ext cx="1143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80880" y="228600"/>
            <a:ext cx="84582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莫高窟保存着两千多尊彩塑。这些彩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塑</a:t>
            </a:r>
            <a:r>
              <a:rPr b="0" lang="zh-CN" sz="34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2"/>
              </a:rPr>
              <a:t>个性鲜明，神态各异</a:t>
            </a: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有慈眉善目</a:t>
            </a:r>
            <a:r>
              <a:rPr b="0" lang="zh-CN" sz="34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3"/>
              </a:rPr>
              <a:t>菩萨</a:t>
            </a: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威风凛凛的</a:t>
            </a:r>
            <a:r>
              <a:rPr b="0" lang="zh-CN" sz="34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4"/>
              </a:rPr>
              <a:t>天王</a:t>
            </a: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还有强壮勇猛的</a:t>
            </a:r>
            <a:r>
              <a:rPr b="0" lang="zh-CN" sz="34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5"/>
              </a:rPr>
              <a:t>力士</a:t>
            </a: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一尊</a:t>
            </a:r>
            <a:r>
              <a:rPr b="0" lang="zh-CN" sz="3400" spc="-1" strike="noStrike" u="sng">
                <a:solidFill>
                  <a:srgbClr val="ff0033"/>
                </a:solidFill>
                <a:uFillTx/>
                <a:latin typeface="Times New Roman"/>
                <a:ea typeface="楷体_GB2312"/>
                <a:hlinkClick r:id="rId6"/>
              </a:rPr>
              <a:t>卧佛</a:t>
            </a: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长达１６米，他侧身卧着，眼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睛微闭，神态安详。看到这一尊惟妙惟肖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彩塑，游人无不啧啧赞叹。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" name="Picture 4" descr="back3">
            <a:hlinkClick r:id="" action="ppaction://hlinkshowjump?jump=firstslide"/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5943600"/>
            <a:ext cx="1143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533520" y="533520"/>
            <a:ext cx="8229600" cy="57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莫高窟不仅有精妙绝伦的彩塑，还有四万五千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多平方米宏伟瑰丽的壁画。壁画的内容丰富多彩，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记录</a:t>
            </a:r>
            <a:r>
              <a:rPr b="0" lang="zh-CN" sz="2700" spc="-1" strike="noStrike" u="sng">
                <a:solidFill>
                  <a:srgbClr val="ff0033"/>
                </a:solidFill>
                <a:uFillTx/>
                <a:latin typeface="楷体_GB2312"/>
                <a:ea typeface="楷体_GB2312"/>
                <a:hlinkClick r:id="rId2"/>
              </a:rPr>
              <a:t>神佛故事</a:t>
            </a: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。有描绘</a:t>
            </a:r>
            <a:r>
              <a:rPr b="0" lang="zh-CN" sz="2700" spc="-1" strike="noStrike" u="sng">
                <a:solidFill>
                  <a:srgbClr val="ff0033"/>
                </a:solidFill>
                <a:uFillTx/>
                <a:latin typeface="楷体_GB2312"/>
                <a:ea typeface="楷体_GB2312"/>
                <a:hlinkClick r:id="rId3"/>
              </a:rPr>
              <a:t>神佛形象</a:t>
            </a: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，有反映</a:t>
            </a:r>
            <a:r>
              <a:rPr b="0" lang="zh-CN" sz="2700" spc="-1" strike="noStrike" u="sng">
                <a:solidFill>
                  <a:srgbClr val="ff0033"/>
                </a:solidFill>
                <a:uFillTx/>
                <a:latin typeface="楷体_GB2312"/>
                <a:ea typeface="楷体_GB2312"/>
                <a:hlinkClick r:id="rId4"/>
              </a:rPr>
              <a:t>民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 u="sng">
                <a:solidFill>
                  <a:srgbClr val="ff0033"/>
                </a:solidFill>
                <a:uFillTx/>
                <a:latin typeface="楷体_GB2312"/>
                <a:ea typeface="楷体_GB2312"/>
                <a:hlinkClick r:id="rId5"/>
              </a:rPr>
              <a:t>间生活</a:t>
            </a: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，还有描绘</a:t>
            </a:r>
            <a:r>
              <a:rPr b="0" lang="zh-CN" sz="2700" spc="-1" strike="noStrike" u="sng">
                <a:solidFill>
                  <a:srgbClr val="ff0033"/>
                </a:solidFill>
                <a:uFillTx/>
                <a:latin typeface="楷体_GB2312"/>
                <a:ea typeface="楷体_GB2312"/>
                <a:hlinkClick r:id="rId6"/>
              </a:rPr>
              <a:t>自然风光</a:t>
            </a: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。其中最引人注目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，是那成百上千的</a:t>
            </a:r>
            <a:r>
              <a:rPr b="0" lang="zh-CN" sz="2700" spc="-1" strike="noStrike" u="sng">
                <a:solidFill>
                  <a:srgbClr val="ff0033"/>
                </a:solidFill>
                <a:uFillTx/>
                <a:latin typeface="楷体_GB2312"/>
                <a:ea typeface="楷体_GB2312"/>
                <a:hlinkClick r:id="rId7"/>
              </a:rPr>
              <a:t>飞天</a:t>
            </a: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壁画上的飞天，有的臂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挎花篮，采摘鲜花；有的怀抱琵琶，轻拨银弦；有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倒悬身子，自天而降；有的彩带飘拂，漫天遨游；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舒展双臂，翩翩起舞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……</a:t>
            </a:r>
            <a:r>
              <a:rPr b="0" lang="en-US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着这些精美的壁，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像是走进了灿烂辉煌的艺术殿堂。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ture 4" descr="back3">
            <a:hlinkClick r:id="" action="ppaction://hlinkshowjump?jump=firstslide"/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467480" y="6019920"/>
            <a:ext cx="1143000" cy="365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68360" y="692280"/>
            <a:ext cx="830592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</a:t>
            </a: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莫高窟里还有一个面积不大的洞窟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——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藏经洞。洞里曾藏有我国古代的各种经、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文书、帛画、刺绣、铜像等六万多件。由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于清王朝腐败无能，大量正规的文物被帝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国主义分子掠走。仅存的部分经卷，现在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陈列于北京故宫等处。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5486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5" name="Picture 7" descr="back3">
            <a:hlinkClick r:id="" action="ppaction://hlinkshowjump?jump=firs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5867280"/>
            <a:ext cx="1143000" cy="365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2195640" y="5734080"/>
            <a:ext cx="48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网页浏览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——《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藏经洞的发现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050920" y="5157720"/>
            <a:ext cx="48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网页浏览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——《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敦煌劫宝录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99072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　　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莫高窟是举世闻名的艺术宝库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里的每一尊彩塑、每一幅壁画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每一幅壁画，都是我国古代劳动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民智慧的结晶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048120" y="5029200"/>
            <a:ext cx="304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世界文化遗产网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1" name="Picture 6" descr="back3">
            <a:hlinkClick r:id="" action="ppaction://hlinkshowjump?jump=firs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5943600"/>
            <a:ext cx="1143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7"/>
          <p:cNvSpPr/>
          <p:nvPr/>
        </p:nvSpPr>
        <p:spPr>
          <a:xfrm>
            <a:off x="2627280" y="119700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7"/>
              </a:rPr>
              <a:t>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ff0033"/>
                </a:solidFill>
                <a:uFillTx/>
                <a:latin typeface="Calibri"/>
                <a:hlinkClick r:id="rId19"/>
              </a:rPr>
              <a:t>/yuwen/167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Picture 8" descr="back3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8001000" y="6492960"/>
            <a:ext cx="1143000" cy="3650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6" name="莫高窟开头.avi" descr=""/>
          <p:cNvPicPr/>
          <p:nvPr/>
        </p:nvPicPr>
        <p:blipFill>
          <a:blip r:embed="rId22"/>
          <a:stretch/>
        </p:blipFill>
        <p:spPr>
          <a:xfrm>
            <a:off x="250920" y="260280"/>
            <a:ext cx="8642160" cy="6377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8720" y="4581360"/>
            <a:ext cx="756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3"/>
              </a:rPr>
              <a:t>ppt课件模板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65D-2E02-4FC8-8D6C-38A5162C3A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7:44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31:36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