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5993-E79B-4685-BAE6-C1040153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59C5-362F-4467-B434-80540DE6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585E-7796-421F-96B0-986A61473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9E73-2D32-4EAF-A393-D6DDBE89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5999-C823-4C96-BD9B-9EA5FDA3E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4692-CC3D-472F-BA3E-21AFD0A6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488F-7E58-4F0D-B078-7D075289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7642-9496-4974-B1EE-C1F26DF5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8E49-F038-4428-BF53-47A4AF49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9474-301E-4D95-BF62-EE9A0906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0853-4321-445C-BDF8-6AED64EE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46CD-F7FC-4BA2-A3E1-A2CC95FA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DF6C-CDE9-4751-ADA9-603DB63C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B8F7-8D49-4626-8CFF-8BFA236B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08D1-366B-4758-AD09-E6016EFB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6CC2-8D4C-400A-87DD-F452A359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400D-8E22-45CD-9763-90C601681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8785-6387-42B8-8D4B-06AA59D0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4DC7-3F04-41DF-AE3C-F6FCBA7A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5E0F-51FF-4F95-BA07-1873A306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06EF-DB33-44B8-B0A9-58713930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D5BC-0C3B-484B-8205-1A038F3C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DAB5-EAC7-4AEC-A945-53EF9901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EDC1-F7A2-4609-8189-65361356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1219-50C4-425C-AA77-010EFB1EA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4A96-16A7-4EE1-88E6-676048EA6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1728720" y="1197000"/>
            <a:ext cx="52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西师大版 三年级语文 下册 第三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1763640" y="2421000"/>
            <a:ext cx="525636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6000"/>
                    </a:srgbClr>
                  </a:outerShdw>
                </a:effectLst>
                <a:latin typeface="宋体"/>
              </a:rPr>
              <a:t>美丽的小兴安岭</a:t>
            </a:r>
            <a:endParaRPr b="1" lang="en-US" sz="18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"/>
          <p:cNvSpPr/>
          <p:nvPr/>
        </p:nvSpPr>
        <p:spPr>
          <a:xfrm>
            <a:off x="227520" y="6021360"/>
            <a:ext cx="192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1258920" y="134136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隶书"/>
                <a:ea typeface="隶书"/>
              </a:rPr>
              <a:t>初读感知</a:t>
            </a:r>
            <a:r>
              <a:rPr b="1" lang="en-US" sz="4000" spc="-1" strike="noStrike">
                <a:solidFill>
                  <a:srgbClr val="ff33cc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71640" y="2276640"/>
            <a:ext cx="7200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是按什么顺序描写小兴安岭的美丽景色？你是从哪里知道的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兴安岭四季的美体现在哪方面？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1116000" y="1773360"/>
            <a:ext cx="70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宋体"/>
              </a:rPr>
              <a:t>四人小组讨论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课文一共有几个自然段，每段具体写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476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小兴安岭像绿色的海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小兴安岭春天的美景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小兴安岭夏天的美景。</a:t>
            </a:r>
            <a:br>
              <a:rPr sz="3200"/>
            </a:b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403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小兴安岭秋天的美景。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⑤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小兴安岭冬天的美景。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⑥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小兴安岭是花园，也是宝库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1187280" y="112536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隶书"/>
                <a:ea typeface="隶书"/>
              </a:rPr>
              <a:t>朗读学习</a:t>
            </a:r>
            <a:r>
              <a:rPr b="1" lang="en-US" sz="3600" spc="-1" strike="noStrike">
                <a:solidFill>
                  <a:srgbClr val="ff33cc"/>
                </a:solidFill>
                <a:latin typeface="隶书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116000" y="1916280"/>
            <a:ext cx="720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课文以它优美的文字向我们展示了小兴安岭一年四季的风光。同学们运用边读边想的方法找出自己欣赏或感兴趣的景物，说一说感兴趣的理由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自己先思考，然后小组交流讨论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ff"/>
                </a:solidFill>
                <a:latin typeface="Arial"/>
                <a:ea typeface="隶书"/>
              </a:rPr>
              <a:t>交流感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8920" y="1484280"/>
            <a:ext cx="712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Arial"/>
                <a:ea typeface="华文行楷"/>
              </a:rPr>
              <a:t>春天：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天是个美丽的季节。说说你感兴趣的景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呀，一片生机勃勃的景色真叫人喜欢，谁愿意来读一读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7520" y="6021360"/>
            <a:ext cx="192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42560" y="1268280"/>
            <a:ext cx="705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山上的积雪融化了，雪花汇成小溪，淙淙地流着。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66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66ff"/>
                </a:solidFill>
                <a:latin typeface="Arial"/>
              </a:rPr>
              <a:t>汇”写出雪化成水的动态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</a:rPr>
              <a:t>    “</a:t>
            </a:r>
            <a:r>
              <a:rPr b="1" lang="zh-CN" sz="2800" spc="-1" strike="noStrike">
                <a:solidFill>
                  <a:srgbClr val="ff66ff"/>
                </a:solidFill>
                <a:latin typeface="Arial"/>
              </a:rPr>
              <a:t>淙淙”写出溪水流淌美妙的声音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鹿在溪边散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欣赏自己映在水里的影子。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拟人化的手法写出小鹿生活的惬意，也体现了春天的美好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4040" y="1484280"/>
            <a:ext cx="754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Arial"/>
                <a:ea typeface="华文楷体"/>
              </a:rPr>
              <a:t>夏天：</a:t>
            </a: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欣赏了生机勃勃的春天。我们还没看够呢，夏天又来了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花木繁茂，团团白雾，明亮金光，这些构成了小兴安岭美丽的夏景。从这段描写中，我们可以看出作者很注意突出季节的特点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26560" y="148428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夏天，树木长得葱葱茏茏，密密层层的枝叶把森林封得严严实实，挡住了人们的视线，遮住了蓝蓝的天空。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突出夏天小兴安岭树木繁茂的特点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早晨，雾从山谷里升起来，整个森林浸在乳白色的浓雾里。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99ff"/>
                </a:solidFill>
                <a:latin typeface="Arial"/>
              </a:rPr>
              <a:t>雾在山谷里飘起，由于森林被叶子封得严严实实的，雾不易散去，整个森林就像泡在浓雾中。你要是置身其中，你感觉怎样？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15640" y="1484280"/>
            <a:ext cx="734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秋天：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秋天是迷人的季节，秋天的小兴安岭哪些景物能吸引你呢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秋季果实累累，遍地是名药材，无边的森林尽是宝藏，这是多么令人惊喜！事实上，小兴安岭一年四季到处都是宝。你还知道小兴安岭有哪些物产？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755640" y="2133720"/>
            <a:ext cx="741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习作者按四季的顺序，抓住特色进行观察的方法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确流利、有感情地朗读课文，认识祖国东北的小兴安岭的美丽和富饶，感受小兴安岭一年四季特有的美。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700360" y="90792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71640" y="907560"/>
            <a:ext cx="7345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森林中的变化：白桦和栎树的叶子变黄了，松柏显得更苍翠了。秋风吹来，落叶在林中飞舞。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是呀，这一切变化又将小兴安岭装扮得更加美丽，谁愿意美美地读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在这美景之中人们的收获可不少。酸甜可口的山葡萄，又香又甜的榛子，鲜嫩的蘑菇和木耳、人参等名贵药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这么多的收获真是让人目不暇接，乐得嘴都合不拢了！同学们带着喜悦的心情读一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040" y="1628640"/>
            <a:ext cx="747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Arial"/>
                <a:ea typeface="华文行楷"/>
              </a:rPr>
              <a:t>冬天：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这冰天雪地的冬天，小兴安岭会有什么吸引你的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7520" y="6021360"/>
            <a:ext cx="192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BC82-B2D2-4344-9C40-A84956B5D6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Arial"/>
                <a:ea typeface="楷体_GB2312"/>
              </a:rPr>
              <a:t>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6327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兴安岭一年四季景色迷人，你觉得小兴安岭是个什么样的地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2771640" y="907920"/>
            <a:ext cx="30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Arial"/>
                <a:ea typeface="华文楷体"/>
              </a:rPr>
              <a:t>延伸拓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042920" y="1773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者通过细致观察，抓住小兴安岭在不同季节的特点，进行生动、具体的描述，向大家展示了一幅绚丽多彩的画面。同学们学习本课特点写景物的方法，课后自己去观察校园内的花儿、树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一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87280" y="6381720"/>
            <a:ext cx="6112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0129"/>
          <p:cNvPicPr/>
          <p:nvPr/>
        </p:nvPicPr>
        <p:blipFill>
          <a:blip r:embed="rId2"/>
          <a:stretch/>
        </p:blipFill>
        <p:spPr>
          <a:xfrm>
            <a:off x="1403280" y="765000"/>
            <a:ext cx="6408720" cy="45356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3197520" y="54450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隶书"/>
              </a:rPr>
              <a:t>小兴安岭的春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0189"/>
          <p:cNvPicPr/>
          <p:nvPr/>
        </p:nvPicPr>
        <p:blipFill>
          <a:blip r:embed="rId2"/>
          <a:stretch/>
        </p:blipFill>
        <p:spPr>
          <a:xfrm>
            <a:off x="1258920" y="765000"/>
            <a:ext cx="6696000" cy="43992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3197520" y="54450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Arial"/>
                <a:ea typeface="隶书"/>
              </a:rPr>
              <a:t>小兴安岭的夏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447383663328483eab184c8c"/>
          <p:cNvPicPr/>
          <p:nvPr/>
        </p:nvPicPr>
        <p:blipFill>
          <a:blip r:embed="rId2"/>
          <a:stretch/>
        </p:blipFill>
        <p:spPr>
          <a:xfrm>
            <a:off x="1258920" y="765000"/>
            <a:ext cx="6626160" cy="47293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3197520" y="55897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ff"/>
                </a:solidFill>
                <a:latin typeface="Arial"/>
                <a:ea typeface="隶书"/>
              </a:rPr>
              <a:t>小兴安岭的夏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7c6fb811b445a21b203f2e1a"/>
          <p:cNvPicPr/>
          <p:nvPr/>
        </p:nvPicPr>
        <p:blipFill>
          <a:blip r:embed="rId2"/>
          <a:stretch/>
        </p:blipFill>
        <p:spPr>
          <a:xfrm>
            <a:off x="1332000" y="765000"/>
            <a:ext cx="6480000" cy="46292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2981520" y="55166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Arial"/>
                <a:ea typeface="隶书"/>
              </a:rPr>
              <a:t>小兴安岭的秋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ZW010006"/>
          <p:cNvPicPr/>
          <p:nvPr/>
        </p:nvPicPr>
        <p:blipFill>
          <a:blip r:embed="rId2"/>
          <a:stretch/>
        </p:blipFill>
        <p:spPr>
          <a:xfrm>
            <a:off x="1619280" y="765000"/>
            <a:ext cx="6119640" cy="45356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3197520" y="54450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Arial"/>
                <a:ea typeface="隶书"/>
              </a:rPr>
              <a:t>小兴安岭的秋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65628191"/>
          <p:cNvPicPr/>
          <p:nvPr/>
        </p:nvPicPr>
        <p:blipFill>
          <a:blip r:embed="rId2"/>
          <a:stretch/>
        </p:blipFill>
        <p:spPr>
          <a:xfrm>
            <a:off x="1619280" y="692280"/>
            <a:ext cx="6291360" cy="45352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3269160" y="53737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小兴安岭的冬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7520" y="6021360"/>
            <a:ext cx="192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65507273"/>
          <p:cNvPicPr/>
          <p:nvPr/>
        </p:nvPicPr>
        <p:blipFill>
          <a:blip r:embed="rId2"/>
          <a:stretch/>
        </p:blipFill>
        <p:spPr>
          <a:xfrm>
            <a:off x="1619280" y="765000"/>
            <a:ext cx="6192720" cy="4537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7"/>
          <p:cNvSpPr/>
          <p:nvPr/>
        </p:nvSpPr>
        <p:spPr>
          <a:xfrm>
            <a:off x="3197520" y="54450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小兴安岭的冬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9:31:5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3:26:26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