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9311-E035-4C89-A48E-63F07F702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C2D8-0DDC-42A2-8FFD-FC6ACDEF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8C29-2906-4791-8AB9-05D8DEF85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78DA-B9FD-40E6-B800-ABD5FDAB7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EE1D-714E-4C30-9244-1FFDFF3D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A14F-4911-49C3-A6EC-2872A29C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4802-3098-4E2D-AB7E-0664CB04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1DA2-37D8-4A7D-896F-DA2BD0A6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495B-4538-446E-A2C1-65791C17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7FF1-BEA1-4F98-A3CF-8DD5741D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38CD-0851-481B-BF66-327E4260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2637-CBCD-473B-8FFA-2481686F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A636-3471-4658-81DF-EC5D4A6535A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263,7,&#24187;&#28783;&#29255; 7" TargetMode="External"/><Relationship Id="rId4" Type="http://schemas.openxmlformats.org/officeDocument/2006/relationships/hyperlink" Target="264,8,&#24187;&#28783;&#29255; 8" TargetMode="External"/><Relationship Id="rId5" Type="http://schemas.openxmlformats.org/officeDocument/2006/relationships/hyperlink" Target="265,9,&#24187;&#28783;&#29255; 9" TargetMode="External"/><Relationship Id="rId6" Type="http://schemas.openxmlformats.org/officeDocument/2006/relationships/hyperlink" Target="266,10,&#24187;&#28783;&#29255; 10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908000" y="981000"/>
            <a:ext cx="6019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63104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45840" y="1413000"/>
            <a:ext cx="20948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Times New Roman"/>
              </a:rPr>
              <a:t>《麋鹿》免费课件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PPT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E:\教案\课件库\第十册资料\11麋鹿\幼鹿1.jpg"/>
          <p:cNvPicPr/>
          <p:nvPr/>
        </p:nvPicPr>
        <p:blipFill>
          <a:blip r:embed="rId2"/>
          <a:stretch/>
        </p:blipFill>
        <p:spPr>
          <a:xfrm>
            <a:off x="4724280" y="3505320"/>
            <a:ext cx="4191120" cy="2971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E:\教案\课件库\第十册资料\11麋鹿\幼鹿2.jpg"/>
          <p:cNvPicPr/>
          <p:nvPr/>
        </p:nvPicPr>
        <p:blipFill>
          <a:blip r:embed="rId3"/>
          <a:stretch/>
        </p:blipFill>
        <p:spPr>
          <a:xfrm>
            <a:off x="4648320" y="304920"/>
            <a:ext cx="4267080" cy="3047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E:\教案\课件库\第十册资料\11麋鹿\幼鹿3.jpg"/>
          <p:cNvPicPr/>
          <p:nvPr/>
        </p:nvPicPr>
        <p:blipFill>
          <a:blip r:embed="rId4"/>
          <a:stretch/>
        </p:blipFill>
        <p:spPr>
          <a:xfrm>
            <a:off x="228600" y="3505320"/>
            <a:ext cx="4191120" cy="3028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E:\教案\课件库\第十册资料\11麋鹿\幼鹿5.jpg"/>
          <p:cNvPicPr/>
          <p:nvPr/>
        </p:nvPicPr>
        <p:blipFill>
          <a:blip r:embed="rId5"/>
          <a:stretch/>
        </p:blipFill>
        <p:spPr>
          <a:xfrm>
            <a:off x="304920" y="304920"/>
            <a:ext cx="4114800" cy="302868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6"/>
          <p:cNvSpPr/>
          <p:nvPr/>
        </p:nvSpPr>
        <p:spPr>
          <a:xfrm>
            <a:off x="8153280" y="6172200"/>
            <a:ext cx="685800" cy="457200"/>
          </a:xfrm>
          <a:custGeom>
            <a:avLst/>
            <a:gdLst>
              <a:gd name="textAreaLeft" fmla="*/ 28440 w 685800"/>
              <a:gd name="textAreaRight" fmla="*/ 657360 w 6858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1042" y="1350"/>
                </a:lnTo>
                <a:lnTo>
                  <a:pt x="1350" y="135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1042" y="20250"/>
                </a:lnTo>
                <a:lnTo>
                  <a:pt x="31042" y="135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1042" y="2025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2392" h="21600">
                <a:moveTo>
                  <a:pt x="9152" y="10800"/>
                </a:moveTo>
                <a:lnTo>
                  <a:pt x="23240" y="3756"/>
                </a:lnTo>
                <a:lnTo>
                  <a:pt x="23240" y="17844"/>
                </a:lnTo>
                <a:close/>
              </a:path>
            </a:pathLst>
          </a:custGeom>
          <a:solidFill>
            <a:srgbClr val="ff99cc">
              <a:alpha val="50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1027440" y="91440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作业：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849120" y="2193840"/>
            <a:ext cx="167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学着讲解员的样子说说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麋鹿的外形特点和生活习惯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3925440" y="3870360"/>
            <a:ext cx="167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读课文五至七自然段，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试着说说麋鹿的传奇经历。 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080808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2" descr="E:\教案\课件库\第十册资料\11麋鹿\78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28720" y="4581360"/>
            <a:ext cx="61117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80808"/>
                </a:solidFill>
                <a:uFillTx/>
                <a:latin typeface="Times New Roman"/>
                <a:hlinkClick r:id="rId3"/>
              </a:rPr>
              <a:t>ppt课件模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311C-B3B3-4AA2-843B-BBCA0C44E4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1452960" y="762120"/>
            <a:ext cx="387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自读课文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2-4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自然段：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990720" y="19051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想想课文介绍麋鹿的哪些外型特点和繁殖特点的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490120" y="3429000"/>
            <a:ext cx="4447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学着片断中的样子，任选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个方面介绍麋鹿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可以用书上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语言，也可以用自己搜集的资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料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0" descr="E:\教案\课件库\第十册资料\11麋鹿\麋鹿1.jpg"/>
          <p:cNvPicPr/>
          <p:nvPr/>
        </p:nvPicPr>
        <p:blipFill>
          <a:blip r:embed="rId2"/>
          <a:stretch/>
        </p:blipFill>
        <p:spPr>
          <a:xfrm>
            <a:off x="179280" y="533520"/>
            <a:ext cx="4603680" cy="5333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4506120" y="2068560"/>
            <a:ext cx="17049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80808"/>
                </a:solidFill>
                <a:uFillTx/>
                <a:latin typeface="Times New Roman"/>
              </a:rPr>
              <a:t>外  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6230880" y="2068560"/>
            <a:ext cx="790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80808"/>
                </a:solidFill>
                <a:uFillTx/>
                <a:latin typeface="Times New Roman"/>
                <a:hlinkClick r:id="rId3"/>
              </a:rPr>
              <a:t>角型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7907400" y="2068560"/>
            <a:ext cx="790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80808"/>
                </a:solidFill>
                <a:uFillTx/>
                <a:latin typeface="Times New Roman"/>
                <a:hlinkClick r:id="rId4"/>
              </a:rPr>
              <a:t>尾巴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6307200" y="3098880"/>
            <a:ext cx="790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80808"/>
                </a:solidFill>
                <a:uFillTx/>
                <a:latin typeface="Times New Roman"/>
                <a:hlinkClick r:id="rId5"/>
              </a:rPr>
              <a:t>蹄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7918560" y="30988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毛色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4576680" y="4114800"/>
            <a:ext cx="1095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80808"/>
                </a:solidFill>
                <a:uFillTx/>
                <a:latin typeface="Times New Roman"/>
                <a:hlinkClick r:id="rId6"/>
              </a:rPr>
              <a:t>繁 殖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1">
            <a:hlinkClick r:id="" action="ppaction://hlinkshowjump?jump=lastslide"/>
          </p:cNvPr>
          <p:cNvSpPr/>
          <p:nvPr/>
        </p:nvSpPr>
        <p:spPr>
          <a:xfrm>
            <a:off x="7315200" y="5943600"/>
            <a:ext cx="838080" cy="457200"/>
          </a:xfrm>
          <a:custGeom>
            <a:avLst/>
            <a:gdLst>
              <a:gd name="textAreaLeft" fmla="*/ 28440 w 838080"/>
              <a:gd name="textAreaRight" fmla="*/ 809640 w 83808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230" y="1350"/>
                </a:lnTo>
                <a:lnTo>
                  <a:pt x="1350" y="135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230" y="20250"/>
                </a:lnTo>
                <a:lnTo>
                  <a:pt x="38230" y="135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8230" y="2025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ff99cc">
              <a:alpha val="50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Times New Roman"/>
              </a:rPr>
              <a:t>作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E:\教案\课件库\第十册资料\11麋鹿\麋鹿1.jpg"/>
          <p:cNvPicPr/>
          <p:nvPr/>
        </p:nvPicPr>
        <p:blipFill>
          <a:blip r:embed="rId2"/>
          <a:stretch/>
        </p:blipFill>
        <p:spPr>
          <a:xfrm>
            <a:off x="380880" y="228600"/>
            <a:ext cx="6042240" cy="64008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5562720" y="31050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角似鹿，面似马，蹄似牛，尾似驴，所以又被称作“四不象”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7848720" y="6172200"/>
            <a:ext cx="685800" cy="457200"/>
          </a:xfrm>
          <a:custGeom>
            <a:avLst/>
            <a:gdLst>
              <a:gd name="textAreaLeft" fmla="*/ 28440 w 685800"/>
              <a:gd name="textAreaRight" fmla="*/ 657360 w 6858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1042" y="1350"/>
                </a:lnTo>
                <a:lnTo>
                  <a:pt x="1350" y="135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1042" y="20250"/>
                </a:lnTo>
                <a:lnTo>
                  <a:pt x="31042" y="135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1042" y="2025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2392" h="21600">
                <a:moveTo>
                  <a:pt x="9152" y="10800"/>
                </a:moveTo>
                <a:lnTo>
                  <a:pt x="23240" y="3756"/>
                </a:lnTo>
                <a:lnTo>
                  <a:pt x="23240" y="17844"/>
                </a:lnTo>
                <a:close/>
              </a:path>
            </a:pathLst>
          </a:custGeom>
          <a:solidFill>
            <a:srgbClr val="ff99cc">
              <a:alpha val="50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" descr="E:\教案\课件库\第十册资料\11麋鹿\jianxing1.psd.jpg"/>
          <p:cNvPicPr/>
          <p:nvPr/>
        </p:nvPicPr>
        <p:blipFill>
          <a:blip r:embed="rId2"/>
          <a:stretch/>
        </p:blipFill>
        <p:spPr>
          <a:xfrm>
            <a:off x="4287960" y="1752480"/>
            <a:ext cx="4703760" cy="4800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E:\教案\课件库\第十册资料\11麋鹿\雌鹿.jpg"/>
          <p:cNvPicPr/>
          <p:nvPr/>
        </p:nvPicPr>
        <p:blipFill>
          <a:blip r:embed="rId3"/>
          <a:stretch/>
        </p:blipFill>
        <p:spPr>
          <a:xfrm>
            <a:off x="228600" y="152280"/>
            <a:ext cx="4030560" cy="44960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936720" y="47242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雌  麋  鹿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340240" y="10666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雄  麋  鹿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7"/>
          <p:cNvSpPr/>
          <p:nvPr/>
        </p:nvSpPr>
        <p:spPr>
          <a:xfrm>
            <a:off x="8305920" y="6172200"/>
            <a:ext cx="685800" cy="457200"/>
          </a:xfrm>
          <a:custGeom>
            <a:avLst/>
            <a:gdLst>
              <a:gd name="textAreaLeft" fmla="*/ 28440 w 685800"/>
              <a:gd name="textAreaRight" fmla="*/ 657360 w 6858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1042" y="1350"/>
                </a:lnTo>
                <a:lnTo>
                  <a:pt x="1350" y="135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1042" y="20250"/>
                </a:lnTo>
                <a:lnTo>
                  <a:pt x="31042" y="135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1042" y="2025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2392" h="21600">
                <a:moveTo>
                  <a:pt x="9152" y="10800"/>
                </a:moveTo>
                <a:lnTo>
                  <a:pt x="23240" y="3756"/>
                </a:lnTo>
                <a:lnTo>
                  <a:pt x="23240" y="17844"/>
                </a:lnTo>
                <a:close/>
              </a:path>
            </a:pathLst>
          </a:custGeom>
          <a:solidFill>
            <a:srgbClr val="ff99cc">
              <a:alpha val="50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" descr="E:\教案\课件库\第十册资料\11麋鹿\尾巴.jpg"/>
          <p:cNvPicPr/>
          <p:nvPr/>
        </p:nvPicPr>
        <p:blipFill>
          <a:blip r:embed="rId2"/>
          <a:stretch/>
        </p:blipFill>
        <p:spPr>
          <a:xfrm>
            <a:off x="533520" y="380880"/>
            <a:ext cx="8153280" cy="609624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3"/>
          <p:cNvSpPr/>
          <p:nvPr/>
        </p:nvSpPr>
        <p:spPr>
          <a:xfrm>
            <a:off x="8153280" y="6095880"/>
            <a:ext cx="685800" cy="457200"/>
          </a:xfrm>
          <a:custGeom>
            <a:avLst/>
            <a:gdLst>
              <a:gd name="textAreaLeft" fmla="*/ 28440 w 685800"/>
              <a:gd name="textAreaRight" fmla="*/ 657360 w 6858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1042" y="1350"/>
                </a:lnTo>
                <a:lnTo>
                  <a:pt x="1350" y="135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1042" y="20250"/>
                </a:lnTo>
                <a:lnTo>
                  <a:pt x="31042" y="135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1042" y="2025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2392" h="21600">
                <a:moveTo>
                  <a:pt x="9152" y="10800"/>
                </a:moveTo>
                <a:lnTo>
                  <a:pt x="23240" y="3756"/>
                </a:lnTo>
                <a:lnTo>
                  <a:pt x="23240" y="17844"/>
                </a:lnTo>
                <a:close/>
              </a:path>
            </a:pathLst>
          </a:custGeom>
          <a:solidFill>
            <a:srgbClr val="ff99cc">
              <a:alpha val="50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" descr="E:\教案\课件库\第十册资料\11麋鹿\站立.jpg"/>
          <p:cNvPicPr/>
          <p:nvPr/>
        </p:nvPicPr>
        <p:blipFill>
          <a:blip r:embed="rId2"/>
          <a:stretch/>
        </p:blipFill>
        <p:spPr>
          <a:xfrm>
            <a:off x="228600" y="304920"/>
            <a:ext cx="4267080" cy="3581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E:\教案\课件库\第十册资料\11麋鹿\跋涉.jpg"/>
          <p:cNvPicPr/>
          <p:nvPr/>
        </p:nvPicPr>
        <p:blipFill>
          <a:blip r:embed="rId3"/>
          <a:stretch/>
        </p:blipFill>
        <p:spPr>
          <a:xfrm>
            <a:off x="4343400" y="76320"/>
            <a:ext cx="4419720" cy="3352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E:\教案\课件库\第十册资料\11麋鹿\潜游.gif"/>
          <p:cNvPicPr/>
          <p:nvPr/>
        </p:nvPicPr>
        <p:blipFill>
          <a:blip r:embed="rId4"/>
          <a:stretch/>
        </p:blipFill>
        <p:spPr>
          <a:xfrm>
            <a:off x="304920" y="3733920"/>
            <a:ext cx="4647960" cy="3047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E:\教案\课件库\第十册资料\11麋鹿\觅食（隆冬）.jpg"/>
          <p:cNvPicPr/>
          <p:nvPr/>
        </p:nvPicPr>
        <p:blipFill>
          <a:blip r:embed="rId5"/>
          <a:stretch/>
        </p:blipFill>
        <p:spPr>
          <a:xfrm>
            <a:off x="4952880" y="3352680"/>
            <a:ext cx="4114800" cy="33530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836280" y="4572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站立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7754760" y="-111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涉水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3731760" y="57913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潜游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8065800" y="35053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觅食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8153280" y="6248520"/>
            <a:ext cx="685800" cy="457200"/>
          </a:xfrm>
          <a:custGeom>
            <a:avLst/>
            <a:gdLst>
              <a:gd name="textAreaLeft" fmla="*/ 28440 w 685800"/>
              <a:gd name="textAreaRight" fmla="*/ 657360 w 6858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1042" y="1350"/>
                </a:lnTo>
                <a:lnTo>
                  <a:pt x="1350" y="135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1042" y="20250"/>
                </a:lnTo>
                <a:lnTo>
                  <a:pt x="31042" y="135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1042" y="2025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2392" h="21600">
                <a:moveTo>
                  <a:pt x="9152" y="10800"/>
                </a:moveTo>
                <a:lnTo>
                  <a:pt x="23240" y="3756"/>
                </a:lnTo>
                <a:lnTo>
                  <a:pt x="23240" y="17844"/>
                </a:lnTo>
                <a:close/>
              </a:path>
            </a:pathLst>
          </a:custGeom>
          <a:solidFill>
            <a:srgbClr val="00ccff">
              <a:alpha val="50000"/>
            </a:srgbClr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2T03:37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7:41:32Z</dcterms:modified>
  <cp:revision>2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