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19DF-349E-4BD6-9A75-D83B5CE5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7F44-71AB-4EA5-940D-69561125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70B9-8A37-4596-A61D-EB153240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65D0-B1FF-4BA4-B7BF-A35CFCE1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9ED0-9922-4AB9-A1D0-D4CC88C4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8168-746A-4D6E-800A-A22C6AF4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DCDF-7E9E-4645-B206-2793CF74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715C-634E-4F37-A165-E77FBB78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9B8E-4273-403B-BDFB-55AA9A52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0387-E765-468B-94D9-04E8C9DA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DCAB-D24B-4391-B7DB-D7799966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3E23-6AEF-482E-BE1F-4FB8AE26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CD69-1109-4A8F-A484-3B49B734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F006-5EBC-43D3-8276-14B056D8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306B-D826-4D3E-9DEC-71E2E34A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5B32-F159-4BFE-B6AD-6AF7017D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C581-DCB4-4B78-BAF5-6971276D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6A99-EA92-46FA-9FA0-739201B5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8A73-F5E0-4543-AFD8-4B9C6AAF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D53B-3AA9-40C7-BEE3-C0CC5A5E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B2C7-2EEF-4815-83C3-CD3520D5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0ED8-8264-41A2-9DAC-97C07083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5246-EC4C-4203-B5DE-77EC4DAF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96E6-8B89-4633-A7DB-AC1D670E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76FC-CDF5-464C-9256-84865CF90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005E-45DA-4B21-BAC8-DED3740426BE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32200" y="1917720"/>
            <a:ext cx="3966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6600ff"/>
                </a:solidFill>
                <a:latin typeface="Arial"/>
              </a:rPr>
              <a:t>盘古开天地</a:t>
            </a:r>
            <a:r>
              <a:rPr b="1" lang="en-US" sz="4500" spc="-1" strike="noStrike">
                <a:solidFill>
                  <a:srgbClr val="6600ff"/>
                </a:solidFill>
                <a:latin typeface="Arial"/>
              </a:rPr>
              <a:t>PPT</a:t>
            </a:r>
            <a:r>
              <a:rPr b="1" lang="zh-CN" sz="4500" spc="-1" strike="noStrike">
                <a:solidFill>
                  <a:srgbClr val="6600ff"/>
                </a:solidFill>
                <a:latin typeface="Arial"/>
              </a:rPr>
              <a:t>课件</a:t>
            </a:r>
            <a:endParaRPr b="0" lang="en-US" sz="45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1166760" y="1562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0" lang="en-US" sz="8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1480680" y="727200"/>
            <a:ext cx="6031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99"/>
                </a:solidFill>
                <a:latin typeface="Arial"/>
              </a:rPr>
              <a:t>考考你：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混沌      清浊       滋润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轻而清的东西，缓缓上升，变成了天；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    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重而浊的东西，渐渐下降，变成了地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40328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484360" y="1165320"/>
            <a:ext cx="9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Arial"/>
              </a:rPr>
              <a:t>清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258920" y="11653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Arial"/>
              </a:rPr>
              <a:t>轻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7052760" y="11653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Arial"/>
              </a:rPr>
              <a:t>上升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312560" y="3645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Arial"/>
              </a:rPr>
              <a:t>重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536560" y="3645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Arial"/>
              </a:rPr>
              <a:t>浊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6940080" y="3645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Arial"/>
              </a:rPr>
              <a:t>下降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2609640" y="19573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Arial"/>
              </a:rPr>
              <a:t>天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2676240" y="443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Arial"/>
              </a:rPr>
              <a:t>地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5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9" name="Picture 6" descr="234990686587"/>
          <p:cNvPicPr/>
          <p:nvPr/>
        </p:nvPicPr>
        <p:blipFill>
          <a:blip r:embed="rId2"/>
          <a:stretch/>
        </p:blipFill>
        <p:spPr>
          <a:xfrm>
            <a:off x="0" y="-1467000"/>
            <a:ext cx="9144000" cy="9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289080" y="980640"/>
            <a:ext cx="101174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他呼出的气息，变成了四季的风和飘动的云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他发出的声音，化作了隆隆的雷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他的双眼变成了太阳和月亮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他的四肢，变成了大地上的东、西、南、北四极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他的肌肤，变成了辽阔的大地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他的血液，变成了奔流不息的江河；</a:t>
            </a:r>
            <a:br>
              <a:rPr sz="3200"/>
            </a:b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他的汗毛，变成了茂盛的花草树木；</a:t>
            </a:r>
            <a:br>
              <a:rPr sz="3200"/>
            </a:b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他的汗水，变成了滋润万物的雨露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……</a:t>
            </a:r>
            <a:br>
              <a:rPr sz="3200"/>
            </a:b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9216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他呼出的气息，变成了（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他发出的声音，化作了（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他的双眼变成了（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他的四肢，变成了（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他的肌肤，变成了（ 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他的血液，变成了（  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他的汗毛，变成了（  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他的汗水，变成了（  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他的（    ），变成了（   ）的（   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FA0B-076C-4DDB-832E-7BF7999C0D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03360" y="76464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抬头看天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那飘动的云格外洁白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我知道，这是盘古呼出的气息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放眼大地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辽阔的大地一片生机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我知道，这是（         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2360" y="645480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1:42:4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1:55:50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