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pu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E2FF-1F5A-4944-BA8C-998F538A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791F-B60B-4377-AFFB-22522AF3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279-3CAC-4B3D-9C24-6BC86943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96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96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CD6-E894-45D6-A278-5DE544D9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5015-AAE9-4ECF-A788-1D8C7343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F43-599A-4082-B217-530D3659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1953-1794-4516-876A-A2905E8C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B579-6CF3-4968-8B18-126CBEC8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496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BCC-3A02-4386-A06E-A98BD090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36D-C396-4555-99EB-D3F0ED80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6096-A9F4-4C8D-9C7E-71702C09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EAB-CCA9-4A6E-B405-4EAB4645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7840" indent="73656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0360" indent="554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36400" indent="37800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3DDE-34BB-41B5-83BC-C8024198369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9009-8476-4176-9777-D552D0CCF4F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audio" Target="../media/push.wav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audio" Target="../media/push.wav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-36360" y="765000"/>
            <a:ext cx="9191520" cy="537228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79"/>
          <p:cNvGrpSpPr/>
          <p:nvPr/>
        </p:nvGrpSpPr>
        <p:grpSpPr>
          <a:xfrm>
            <a:off x="1187280" y="893520"/>
            <a:ext cx="7128000" cy="4983480"/>
            <a:chOff x="1187280" y="893520"/>
            <a:chExt cx="7128000" cy="4983480"/>
          </a:xfrm>
        </p:grpSpPr>
        <p:grpSp>
          <p:nvGrpSpPr>
            <p:cNvPr id="44" name="组合 80"/>
            <p:cNvGrpSpPr/>
            <p:nvPr/>
          </p:nvGrpSpPr>
          <p:grpSpPr>
            <a:xfrm>
              <a:off x="1187280" y="893520"/>
              <a:ext cx="7128000" cy="4797720"/>
              <a:chOff x="1187280" y="893520"/>
              <a:chExt cx="7128000" cy="4797720"/>
            </a:xfrm>
          </p:grpSpPr>
          <p:sp>
            <p:nvSpPr>
              <p:cNvPr id="45" name="矩形 1"/>
              <p:cNvSpPr/>
              <p:nvPr/>
            </p:nvSpPr>
            <p:spPr>
              <a:xfrm>
                <a:off x="4889160" y="1197000"/>
                <a:ext cx="17236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文字内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矩形 1"/>
              <p:cNvSpPr/>
              <p:nvPr/>
            </p:nvSpPr>
            <p:spPr>
              <a:xfrm>
                <a:off x="6591600" y="3040200"/>
                <a:ext cx="17236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文字内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矩形 1"/>
              <p:cNvSpPr/>
              <p:nvPr/>
            </p:nvSpPr>
            <p:spPr>
              <a:xfrm>
                <a:off x="1187280" y="3162960"/>
                <a:ext cx="17236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文字内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矩形 1"/>
              <p:cNvSpPr/>
              <p:nvPr/>
            </p:nvSpPr>
            <p:spPr>
              <a:xfrm>
                <a:off x="2821320" y="4948200"/>
                <a:ext cx="17236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文字内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" name="组合 87"/>
              <p:cNvGrpSpPr/>
              <p:nvPr/>
            </p:nvGrpSpPr>
            <p:grpSpPr>
              <a:xfrm>
                <a:off x="1995120" y="893520"/>
                <a:ext cx="4776840" cy="4797720"/>
                <a:chOff x="1995120" y="893520"/>
                <a:chExt cx="4776840" cy="4797720"/>
              </a:xfrm>
            </p:grpSpPr>
            <p:cxnSp>
              <p:nvCxnSpPr>
                <p:cNvPr id="50" name="肘形连接符 88"/>
                <p:cNvCxnSpPr>
                  <a:stCxn id="51" idx="0"/>
                  <a:endCxn id="52" idx="2"/>
                </p:cNvCxnSpPr>
                <p:nvPr/>
              </p:nvCxnSpPr>
              <p:spPr>
                <a:xfrm flipH="1" flipV="1" rot="5400000">
                  <a:off x="3458160" y="2339640"/>
                  <a:ext cx="1069560" cy="28080"/>
                </a:xfrm>
                <a:prstGeom prst="bentConnector3">
                  <a:avLst>
                    <a:gd name="adj1" fmla="val 50875"/>
                  </a:avLst>
                </a:prstGeom>
                <a:ln cap="rnd" w="25560">
                  <a:solidFill>
                    <a:srgbClr val="eac300"/>
                  </a:solidFill>
                  <a:custDash>
                    <a:ds d="499000" sp="201000"/>
                    <a:ds d="199000" sp="201000"/>
                  </a:custDash>
                  <a:miter/>
                  <a:headEnd len="med" type="oval" w="med"/>
                  <a:tailEnd len="med" type="oval" w="med"/>
                </a:ln>
              </p:spPr>
            </p:cxnSp>
            <p:cxnSp>
              <p:nvCxnSpPr>
                <p:cNvPr id="53" name="肘形连接符 89"/>
                <p:cNvCxnSpPr>
                  <a:stCxn id="51" idx="6"/>
                  <a:endCxn id="54" idx="0"/>
                </p:cNvCxnSpPr>
                <p:nvPr/>
              </p:nvCxnSpPr>
              <p:spPr>
                <a:xfrm>
                  <a:off x="4764240" y="2905560"/>
                  <a:ext cx="1069560" cy="76680"/>
                </a:xfrm>
                <a:prstGeom prst="bentConnector3">
                  <a:avLst>
                    <a:gd name="adj1" fmla="val 52323"/>
                  </a:avLst>
                </a:prstGeom>
                <a:ln cap="rnd" w="25560">
                  <a:solidFill>
                    <a:srgbClr val="a50156"/>
                  </a:solidFill>
                  <a:custDash>
                    <a:ds d="499000" sp="201000"/>
                    <a:ds d="199000" sp="201000"/>
                  </a:custDash>
                  <a:miter/>
                  <a:headEnd len="med" type="oval" w="med"/>
                  <a:tailEnd len="med" type="oval" w="med"/>
                </a:ln>
              </p:spPr>
            </p:cxnSp>
            <p:cxnSp>
              <p:nvCxnSpPr>
                <p:cNvPr id="55" name="肘形连接符 90"/>
                <p:cNvCxnSpPr>
                  <a:stCxn id="51" idx="4"/>
                  <a:endCxn id="56" idx="6"/>
                </p:cNvCxnSpPr>
                <p:nvPr/>
              </p:nvCxnSpPr>
              <p:spPr>
                <a:xfrm rot="5400000">
                  <a:off x="4204440" y="4194360"/>
                  <a:ext cx="1081080" cy="74880"/>
                </a:xfrm>
                <a:prstGeom prst="bentConnector3">
                  <a:avLst>
                    <a:gd name="adj1" fmla="val 50799"/>
                  </a:avLst>
                </a:prstGeom>
                <a:ln cap="rnd" w="25560">
                  <a:solidFill>
                    <a:srgbClr val="0070c0"/>
                  </a:solidFill>
                  <a:custDash>
                    <a:ds d="499000" sp="201000"/>
                    <a:ds d="199000" sp="201000"/>
                  </a:custDash>
                  <a:miter/>
                  <a:headEnd len="med" type="oval" w="med"/>
                  <a:tailEnd len="med" type="oval" w="med"/>
                </a:ln>
              </p:spPr>
            </p:cxnSp>
            <p:cxnSp>
              <p:nvCxnSpPr>
                <p:cNvPr id="57" name="肘形连接符 91"/>
                <p:cNvCxnSpPr>
                  <a:stCxn id="58" idx="4"/>
                  <a:endCxn id="51" idx="2"/>
                </p:cNvCxnSpPr>
                <p:nvPr/>
              </p:nvCxnSpPr>
              <p:spPr>
                <a:xfrm>
                  <a:off x="2921760" y="3582720"/>
                  <a:ext cx="1075320" cy="90720"/>
                </a:xfrm>
                <a:prstGeom prst="bentConnector3">
                  <a:avLst>
                    <a:gd name="adj1" fmla="val 47253"/>
                  </a:avLst>
                </a:prstGeom>
                <a:ln cap="rnd" w="25560">
                  <a:solidFill>
                    <a:srgbClr val="01a2b3"/>
                  </a:solidFill>
                  <a:custDash>
                    <a:ds d="499000" sp="201000"/>
                    <a:ds d="199000" sp="201000"/>
                  </a:custDash>
                  <a:miter/>
                  <a:headEnd len="med" type="oval" w="med"/>
                  <a:tailEnd len="med" type="oval" w="med"/>
                </a:ln>
              </p:spPr>
            </p:cxnSp>
            <p:grpSp>
              <p:nvGrpSpPr>
                <p:cNvPr id="59" name="组合 92"/>
                <p:cNvGrpSpPr/>
                <p:nvPr/>
              </p:nvGrpSpPr>
              <p:grpSpPr>
                <a:xfrm>
                  <a:off x="3582000" y="2504160"/>
                  <a:ext cx="1583280" cy="1569960"/>
                  <a:chOff x="3582000" y="2504160"/>
                  <a:chExt cx="1583280" cy="1569960"/>
                </a:xfrm>
              </p:grpSpPr>
              <p:grpSp>
                <p:nvGrpSpPr>
                  <p:cNvPr id="60" name="组合 121"/>
                  <p:cNvGrpSpPr/>
                  <p:nvPr/>
                </p:nvGrpSpPr>
                <p:grpSpPr>
                  <a:xfrm>
                    <a:off x="3582000" y="2504160"/>
                    <a:ext cx="1583280" cy="1569960"/>
                    <a:chOff x="3582000" y="2504160"/>
                    <a:chExt cx="1583280" cy="1569960"/>
                  </a:xfrm>
                </p:grpSpPr>
                <p:grpSp>
                  <p:nvGrpSpPr>
                    <p:cNvPr id="61" name="组合 123"/>
                    <p:cNvGrpSpPr/>
                    <p:nvPr/>
                  </p:nvGrpSpPr>
                  <p:grpSpPr>
                    <a:xfrm>
                      <a:off x="3595320" y="2504160"/>
                      <a:ext cx="1569960" cy="1569960"/>
                      <a:chOff x="3595320" y="2504160"/>
                      <a:chExt cx="1569960" cy="1569960"/>
                    </a:xfrm>
                  </p:grpSpPr>
                  <p:sp>
                    <p:nvSpPr>
                      <p:cNvPr id="51" name="Oval 2737"/>
                      <p:cNvSpPr/>
                      <p:nvPr/>
                    </p:nvSpPr>
                    <p:spPr>
                      <a:xfrm rot="18900000">
                        <a:off x="3837600" y="2721240"/>
                        <a:ext cx="1084680" cy="1135440"/>
                      </a:xfrm>
                      <a:prstGeom prst="ellipse">
                        <a:avLst/>
                      </a:prstGeom>
                      <a:solidFill>
                        <a:srgbClr val="b3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" name="Oval 2737"/>
                      <p:cNvSpPr/>
                      <p:nvPr/>
                    </p:nvSpPr>
                    <p:spPr>
                      <a:xfrm rot="18900000">
                        <a:off x="3825360" y="2754720"/>
                        <a:ext cx="978480" cy="9802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ffffff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3" name="Freeform 2754"/>
                    <p:cNvSpPr/>
                    <p:nvPr/>
                  </p:nvSpPr>
                  <p:spPr>
                    <a:xfrm rot="18900000">
                      <a:off x="3751200" y="2829240"/>
                      <a:ext cx="929160" cy="864360"/>
                    </a:xfrm>
                    <a:prstGeom prst="pie">
                      <a:avLst/>
                    </a:prstGeom>
                    <a:blipFill rotWithShape="0">
                      <a:blip r:embed="rId2"/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" name="TextBox 122"/>
                  <p:cNvSpPr/>
                  <p:nvPr/>
                </p:nvSpPr>
                <p:spPr>
                  <a:xfrm>
                    <a:off x="4033800" y="2955240"/>
                    <a:ext cx="6073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ffffff"/>
                        </a:solidFill>
                        <a:latin typeface="黑体"/>
                        <a:ea typeface="黑体"/>
                      </a:rPr>
                      <a:t>文字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组合 93"/>
                <p:cNvGrpSpPr/>
                <p:nvPr/>
              </p:nvGrpSpPr>
              <p:grpSpPr>
                <a:xfrm>
                  <a:off x="1995120" y="2656080"/>
                  <a:ext cx="1217160" cy="1217160"/>
                  <a:chOff x="1995120" y="2656080"/>
                  <a:chExt cx="1217160" cy="1217160"/>
                </a:xfrm>
              </p:grpSpPr>
              <p:grpSp>
                <p:nvGrpSpPr>
                  <p:cNvPr id="66" name="组合 115"/>
                  <p:cNvGrpSpPr/>
                  <p:nvPr/>
                </p:nvGrpSpPr>
                <p:grpSpPr>
                  <a:xfrm>
                    <a:off x="1995120" y="2656080"/>
                    <a:ext cx="1217160" cy="1217160"/>
                    <a:chOff x="1995120" y="2656080"/>
                    <a:chExt cx="1217160" cy="1217160"/>
                  </a:xfrm>
                </p:grpSpPr>
                <p:grpSp>
                  <p:nvGrpSpPr>
                    <p:cNvPr id="67" name="组合 117"/>
                    <p:cNvGrpSpPr/>
                    <p:nvPr/>
                  </p:nvGrpSpPr>
                  <p:grpSpPr>
                    <a:xfrm>
                      <a:off x="1995120" y="2656080"/>
                      <a:ext cx="1217160" cy="1217160"/>
                      <a:chOff x="1995120" y="2656080"/>
                      <a:chExt cx="1217160" cy="1217160"/>
                    </a:xfrm>
                  </p:grpSpPr>
                  <p:sp>
                    <p:nvSpPr>
                      <p:cNvPr id="58" name="Oval 2737"/>
                      <p:cNvSpPr/>
                      <p:nvPr/>
                    </p:nvSpPr>
                    <p:spPr>
                      <a:xfrm rot="18900000">
                        <a:off x="2192040" y="2815200"/>
                        <a:ext cx="822960" cy="898560"/>
                      </a:xfrm>
                      <a:prstGeom prst="ellipse">
                        <a:avLst/>
                      </a:prstGeom>
                      <a:solidFill>
                        <a:srgbClr val="00b3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" name="Oval 2737"/>
                      <p:cNvSpPr/>
                      <p:nvPr/>
                    </p:nvSpPr>
                    <p:spPr>
                      <a:xfrm rot="18900000">
                        <a:off x="2170440" y="2851560"/>
                        <a:ext cx="742320" cy="775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ffffff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9" name="Freeform 2754"/>
                    <p:cNvSpPr/>
                    <p:nvPr/>
                  </p:nvSpPr>
                  <p:spPr>
                    <a:xfrm rot="18900000">
                      <a:off x="2133360" y="2888640"/>
                      <a:ext cx="704160" cy="682920"/>
                    </a:xfrm>
                    <a:prstGeom prst="pie">
                      <a:avLst/>
                    </a:prstGeom>
                    <a:blipFill rotWithShape="0">
                      <a:blip r:embed="rId3"/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" name="TextBox 116"/>
                  <p:cNvSpPr/>
                  <p:nvPr/>
                </p:nvSpPr>
                <p:spPr>
                  <a:xfrm>
                    <a:off x="2147400" y="2995920"/>
                    <a:ext cx="6361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Edwardian Script ITC"/>
                      </a:rPr>
                      <a:t> </a:t>
                    </a: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Edwardian Script ITC"/>
                      </a:rPr>
                      <a:t>D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组合 94"/>
                <p:cNvGrpSpPr/>
                <p:nvPr/>
              </p:nvGrpSpPr>
              <p:grpSpPr>
                <a:xfrm>
                  <a:off x="3689280" y="893520"/>
                  <a:ext cx="1242360" cy="1242360"/>
                  <a:chOff x="3689280" y="893520"/>
                  <a:chExt cx="1242360" cy="1242360"/>
                </a:xfrm>
              </p:grpSpPr>
              <p:grpSp>
                <p:nvGrpSpPr>
                  <p:cNvPr id="72" name="组合 109"/>
                  <p:cNvGrpSpPr/>
                  <p:nvPr/>
                </p:nvGrpSpPr>
                <p:grpSpPr>
                  <a:xfrm>
                    <a:off x="3689280" y="893520"/>
                    <a:ext cx="1242360" cy="1242360"/>
                    <a:chOff x="3689280" y="893520"/>
                    <a:chExt cx="1242360" cy="1242360"/>
                  </a:xfrm>
                </p:grpSpPr>
                <p:grpSp>
                  <p:nvGrpSpPr>
                    <p:cNvPr id="73" name="组合 111"/>
                    <p:cNvGrpSpPr/>
                    <p:nvPr/>
                  </p:nvGrpSpPr>
                  <p:grpSpPr>
                    <a:xfrm>
                      <a:off x="3689280" y="893520"/>
                      <a:ext cx="1242360" cy="1242360"/>
                      <a:chOff x="3689280" y="893520"/>
                      <a:chExt cx="1242360" cy="1242360"/>
                    </a:xfrm>
                  </p:grpSpPr>
                  <p:sp>
                    <p:nvSpPr>
                      <p:cNvPr id="52" name="Oval 2737"/>
                      <p:cNvSpPr/>
                      <p:nvPr/>
                    </p:nvSpPr>
                    <p:spPr>
                      <a:xfrm rot="18900000">
                        <a:off x="3881160" y="1065240"/>
                        <a:ext cx="858600" cy="898560"/>
                      </a:xfrm>
                      <a:prstGeom prst="ellipse">
                        <a:avLst/>
                      </a:prstGeom>
                      <a:solidFill>
                        <a:srgbClr val="bea1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" name="Oval 2737"/>
                      <p:cNvSpPr/>
                      <p:nvPr/>
                    </p:nvSpPr>
                    <p:spPr>
                      <a:xfrm rot="18900000">
                        <a:off x="3874320" y="1099080"/>
                        <a:ext cx="774720" cy="775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ffffff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5" name="Freeform 2754"/>
                    <p:cNvSpPr/>
                    <p:nvPr/>
                  </p:nvSpPr>
                  <p:spPr>
                    <a:xfrm rot="18900000">
                      <a:off x="3823200" y="1140480"/>
                      <a:ext cx="734760" cy="683280"/>
                    </a:xfrm>
                    <a:prstGeom prst="pie">
                      <a:avLst/>
                    </a:prstGeom>
                    <a:blipFill rotWithShape="0">
                      <a:blip r:embed="rId4"/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" name="TextBox 110"/>
                  <p:cNvSpPr/>
                  <p:nvPr/>
                </p:nvSpPr>
                <p:spPr>
                  <a:xfrm>
                    <a:off x="3888000" y="1234080"/>
                    <a:ext cx="5191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Edwardian Script ITC"/>
                      </a:rPr>
                      <a:t> </a:t>
                    </a: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Edwardian Script ITC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组合 95"/>
                <p:cNvGrpSpPr/>
                <p:nvPr/>
              </p:nvGrpSpPr>
              <p:grpSpPr>
                <a:xfrm>
                  <a:off x="5529600" y="2678040"/>
                  <a:ext cx="1242360" cy="1242360"/>
                  <a:chOff x="5529600" y="2678040"/>
                  <a:chExt cx="1242360" cy="1242360"/>
                </a:xfrm>
              </p:grpSpPr>
              <p:grpSp>
                <p:nvGrpSpPr>
                  <p:cNvPr id="78" name="组合 103"/>
                  <p:cNvGrpSpPr/>
                  <p:nvPr/>
                </p:nvGrpSpPr>
                <p:grpSpPr>
                  <a:xfrm>
                    <a:off x="5529600" y="2678040"/>
                    <a:ext cx="1242360" cy="1242360"/>
                    <a:chOff x="5529600" y="2678040"/>
                    <a:chExt cx="1242360" cy="1242360"/>
                  </a:xfrm>
                </p:grpSpPr>
                <p:grpSp>
                  <p:nvGrpSpPr>
                    <p:cNvPr id="79" name="组合 105"/>
                    <p:cNvGrpSpPr/>
                    <p:nvPr/>
                  </p:nvGrpSpPr>
                  <p:grpSpPr>
                    <a:xfrm>
                      <a:off x="5529600" y="2678040"/>
                      <a:ext cx="1242360" cy="1242360"/>
                      <a:chOff x="5529600" y="2678040"/>
                      <a:chExt cx="1242360" cy="1242360"/>
                    </a:xfrm>
                  </p:grpSpPr>
                  <p:sp>
                    <p:nvSpPr>
                      <p:cNvPr id="54" name="Oval 2737"/>
                      <p:cNvSpPr/>
                      <p:nvPr/>
                    </p:nvSpPr>
                    <p:spPr>
                      <a:xfrm rot="18900000">
                        <a:off x="5721480" y="2849760"/>
                        <a:ext cx="858600" cy="898560"/>
                      </a:xfrm>
                      <a:prstGeom prst="ellipse">
                        <a:avLst/>
                      </a:prstGeom>
                      <a:solidFill>
                        <a:srgbClr val="d200ad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" name="Oval 2737"/>
                      <p:cNvSpPr/>
                      <p:nvPr/>
                    </p:nvSpPr>
                    <p:spPr>
                      <a:xfrm rot="18900000">
                        <a:off x="5706360" y="2881080"/>
                        <a:ext cx="774720" cy="775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ffffff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1" name="Freeform 2754"/>
                    <p:cNvSpPr/>
                    <p:nvPr/>
                  </p:nvSpPr>
                  <p:spPr>
                    <a:xfrm rot="18900000">
                      <a:off x="5663520" y="2924640"/>
                      <a:ext cx="735120" cy="683640"/>
                    </a:xfrm>
                    <a:prstGeom prst="pie">
                      <a:avLst/>
                    </a:prstGeom>
                    <a:blipFill rotWithShape="0">
                      <a:blip r:embed="rId5"/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" name="TextBox 104"/>
                  <p:cNvSpPr/>
                  <p:nvPr/>
                </p:nvSpPr>
                <p:spPr>
                  <a:xfrm>
                    <a:off x="5755680" y="3047400"/>
                    <a:ext cx="5130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Edwardian Script ITC"/>
                      </a:rPr>
                      <a:t> </a:t>
                    </a: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Edwardian Script ITC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组合 96"/>
                <p:cNvGrpSpPr/>
                <p:nvPr/>
              </p:nvGrpSpPr>
              <p:grpSpPr>
                <a:xfrm>
                  <a:off x="3782160" y="4454280"/>
                  <a:ext cx="1242720" cy="1236960"/>
                  <a:chOff x="3782160" y="4454280"/>
                  <a:chExt cx="1242720" cy="1236960"/>
                </a:xfrm>
              </p:grpSpPr>
              <p:grpSp>
                <p:nvGrpSpPr>
                  <p:cNvPr id="84" name="组合 97"/>
                  <p:cNvGrpSpPr/>
                  <p:nvPr/>
                </p:nvGrpSpPr>
                <p:grpSpPr>
                  <a:xfrm>
                    <a:off x="3782160" y="4454280"/>
                    <a:ext cx="1242720" cy="1236960"/>
                    <a:chOff x="3782160" y="4454280"/>
                    <a:chExt cx="1242720" cy="1236960"/>
                  </a:xfrm>
                </p:grpSpPr>
                <p:grpSp>
                  <p:nvGrpSpPr>
                    <p:cNvPr id="85" name="组合 99"/>
                    <p:cNvGrpSpPr/>
                    <p:nvPr/>
                  </p:nvGrpSpPr>
                  <p:grpSpPr>
                    <a:xfrm>
                      <a:off x="3787920" y="4454280"/>
                      <a:ext cx="1236960" cy="1236960"/>
                      <a:chOff x="3787920" y="4454280"/>
                      <a:chExt cx="1236960" cy="1236960"/>
                    </a:xfrm>
                  </p:grpSpPr>
                  <p:sp>
                    <p:nvSpPr>
                      <p:cNvPr id="56" name="Oval 2737"/>
                      <p:cNvSpPr/>
                      <p:nvPr/>
                    </p:nvSpPr>
                    <p:spPr>
                      <a:xfrm rot="18900000">
                        <a:off x="3980880" y="4623480"/>
                        <a:ext cx="850680" cy="898560"/>
                      </a:xfrm>
                      <a:prstGeom prst="ellipse">
                        <a:avLst/>
                      </a:prstGeom>
                      <a:solidFill>
                        <a:srgbClr val="005cb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" name="Oval 2737"/>
                      <p:cNvSpPr/>
                      <p:nvPr/>
                    </p:nvSpPr>
                    <p:spPr>
                      <a:xfrm rot="18900000">
                        <a:off x="3972960" y="4646880"/>
                        <a:ext cx="767520" cy="775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ffffff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7" name="Freeform 2754"/>
                    <p:cNvSpPr/>
                    <p:nvPr/>
                  </p:nvSpPr>
                  <p:spPr>
                    <a:xfrm rot="18900000">
                      <a:off x="3917160" y="4703400"/>
                      <a:ext cx="729360" cy="684720"/>
                    </a:xfrm>
                    <a:prstGeom prst="pie">
                      <a:avLst/>
                    </a:prstGeom>
                    <a:blipFill rotWithShape="0">
                      <a:blip r:embed="rId6"/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" name="TextBox 98"/>
                  <p:cNvSpPr/>
                  <p:nvPr/>
                </p:nvSpPr>
                <p:spPr>
                  <a:xfrm>
                    <a:off x="4034520" y="4839120"/>
                    <a:ext cx="4993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Edwardian Script ITC"/>
                      </a:rPr>
                      <a:t> </a:t>
                    </a:r>
                    <a:r>
                      <a:rPr b="1" lang="en-US" sz="2800" spc="-1" strike="noStrike">
                        <a:solidFill>
                          <a:srgbClr val="ffffff"/>
                        </a:solidFill>
                        <a:latin typeface="Edwardian Script ITC"/>
                      </a:rPr>
                      <a:t>C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9" name="椭圆 81"/>
            <p:cNvSpPr/>
            <p:nvPr/>
          </p:nvSpPr>
          <p:spPr>
            <a:xfrm>
              <a:off x="2634480" y="5678640"/>
              <a:ext cx="4662720" cy="1983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82"/>
            <p:cNvSpPr/>
            <p:nvPr/>
          </p:nvSpPr>
          <p:spPr>
            <a:xfrm>
              <a:off x="2006280" y="5678640"/>
              <a:ext cx="4662720" cy="19836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107720" y="44280"/>
            <a:ext cx="28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模板大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9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478-3764-44D9-B70F-B2504E6D3A28}" type="slidenum">
              <a:t>2</a:t>
            </a:fld>
          </a:p>
        </p:txBody>
      </p:sp>
    </p:spTree>
  </p:cSld>
  <p:transition spd="med" advTm="2000">
    <p:split dir="out" orient="horz"/>
    <p:sndAc>
      <p:stSnd>
        <p:snd r:embed="rId26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09:49Z</dcterms:modified>
  <cp:revision>1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