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D0F-91C4-4CCD-A8E1-F1035CFB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B39-076A-4973-B5E1-5EAFF89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E1D-6FB0-497B-808A-D9209DA1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46F-B051-4BC2-900A-78459DF6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428-E546-4844-8FAF-1AA2BC69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DB8-D73A-4293-A846-062835D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32D-AF00-46A8-B5A1-588DE0F9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2DD-7D6A-4518-9FAE-5CFFD466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AB2-B2C1-431F-BC7C-54E0AC3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5C2-4A34-4161-8F46-F58485CF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AEB-705F-4F38-BDC3-3DACB92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5F4-693E-4DBF-8137-B8ADB5B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DE11-E4E8-4066-BF2C-4773BA8BB48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495-C37E-4880-8CE1-3582AC2E3F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3348000" y="6346800"/>
            <a:ext cx="535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900000" y="549360"/>
            <a:ext cx="6120000" cy="6046920"/>
            <a:chOff x="900000" y="549360"/>
            <a:chExt cx="6120000" cy="6046920"/>
          </a:xfrm>
        </p:grpSpPr>
        <p:pic>
          <p:nvPicPr>
            <p:cNvPr id="44" name="Object 2207" descr=""/>
            <p:cNvPicPr/>
            <p:nvPr/>
          </p:nvPicPr>
          <p:blipFill>
            <a:blip r:embed="rId2"/>
            <a:stretch/>
          </p:blipFill>
          <p:spPr>
            <a:xfrm>
              <a:off x="900000" y="549360"/>
              <a:ext cx="6120000" cy="411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3767040" y="6205680"/>
              <a:ext cx="1440" cy="1440"/>
              <a:chOff x="3767040" y="6205680"/>
              <a:chExt cx="1440" cy="1440"/>
            </a:xfrm>
          </p:grpSpPr>
          <p:sp>
            <p:nvSpPr>
              <p:cNvPr id="46" name="Line 1598"/>
              <p:cNvSpPr/>
              <p:nvPr/>
            </p:nvSpPr>
            <p:spPr>
              <a:xfrm>
                <a:off x="376704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>
                <a:off x="376704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3767040" y="6205680"/>
              <a:ext cx="1440" cy="1440"/>
              <a:chOff x="3767040" y="6205680"/>
              <a:chExt cx="1440" cy="1440"/>
            </a:xfrm>
          </p:grpSpPr>
          <p:sp>
            <p:nvSpPr>
              <p:cNvPr id="49" name="Line 1599"/>
              <p:cNvSpPr/>
              <p:nvPr/>
            </p:nvSpPr>
            <p:spPr>
              <a:xfrm>
                <a:off x="376704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 txBox="1"/>
              <p:nvPr/>
            </p:nvSpPr>
            <p:spPr>
              <a:xfrm>
                <a:off x="376704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3754440" y="6120000"/>
              <a:ext cx="1440" cy="1440"/>
              <a:chOff x="3754440" y="6120000"/>
              <a:chExt cx="1440" cy="1440"/>
            </a:xfrm>
          </p:grpSpPr>
          <p:sp>
            <p:nvSpPr>
              <p:cNvPr id="52" name="Line 1600"/>
              <p:cNvSpPr/>
              <p:nvPr/>
            </p:nvSpPr>
            <p:spPr>
              <a:xfrm>
                <a:off x="3754440" y="61200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3754440" y="6120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754440" y="6120000"/>
              <a:ext cx="1440" cy="1440"/>
              <a:chOff x="3754440" y="6120000"/>
              <a:chExt cx="1440" cy="1440"/>
            </a:xfrm>
          </p:grpSpPr>
          <p:sp>
            <p:nvSpPr>
              <p:cNvPr id="55" name="Line 1601"/>
              <p:cNvSpPr/>
              <p:nvPr/>
            </p:nvSpPr>
            <p:spPr>
              <a:xfrm>
                <a:off x="3754440" y="61200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3754440" y="6120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741840" y="6053400"/>
              <a:ext cx="1440" cy="1440"/>
              <a:chOff x="3741840" y="6053400"/>
              <a:chExt cx="1440" cy="1440"/>
            </a:xfrm>
          </p:grpSpPr>
          <p:sp>
            <p:nvSpPr>
              <p:cNvPr id="58" name="Line 1602"/>
              <p:cNvSpPr/>
              <p:nvPr/>
            </p:nvSpPr>
            <p:spPr>
              <a:xfrm>
                <a:off x="3741840" y="60534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3741840" y="6053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741840" y="6053400"/>
              <a:ext cx="1440" cy="1440"/>
              <a:chOff x="3741840" y="6053400"/>
              <a:chExt cx="1440" cy="1440"/>
            </a:xfrm>
          </p:grpSpPr>
          <p:sp>
            <p:nvSpPr>
              <p:cNvPr id="61" name="Line 1603"/>
              <p:cNvSpPr/>
              <p:nvPr/>
            </p:nvSpPr>
            <p:spPr>
              <a:xfrm>
                <a:off x="3741840" y="60534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741840" y="6053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611440" y="6115320"/>
              <a:ext cx="1440" cy="1440"/>
              <a:chOff x="2611440" y="6115320"/>
              <a:chExt cx="1440" cy="1440"/>
            </a:xfrm>
          </p:grpSpPr>
          <p:sp>
            <p:nvSpPr>
              <p:cNvPr id="64" name="Line 1612"/>
              <p:cNvSpPr/>
              <p:nvPr/>
            </p:nvSpPr>
            <p:spPr>
              <a:xfrm>
                <a:off x="2611440" y="6115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611440" y="611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611440" y="6115320"/>
              <a:ext cx="1440" cy="1440"/>
              <a:chOff x="2611440" y="6115320"/>
              <a:chExt cx="1440" cy="1440"/>
            </a:xfrm>
          </p:grpSpPr>
          <p:sp>
            <p:nvSpPr>
              <p:cNvPr id="67" name="Line 1613"/>
              <p:cNvSpPr/>
              <p:nvPr/>
            </p:nvSpPr>
            <p:spPr>
              <a:xfrm>
                <a:off x="2611440" y="6115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2611440" y="611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398680" y="6277320"/>
              <a:ext cx="1440" cy="1440"/>
              <a:chOff x="2398680" y="6277320"/>
              <a:chExt cx="1440" cy="1440"/>
            </a:xfrm>
          </p:grpSpPr>
          <p:sp>
            <p:nvSpPr>
              <p:cNvPr id="70" name="Line 1616"/>
              <p:cNvSpPr/>
              <p:nvPr/>
            </p:nvSpPr>
            <p:spPr>
              <a:xfrm>
                <a:off x="2398680" y="6277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2398680" y="6277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398680" y="6277320"/>
              <a:ext cx="1440" cy="1440"/>
              <a:chOff x="2398680" y="6277320"/>
              <a:chExt cx="1440" cy="1440"/>
            </a:xfrm>
          </p:grpSpPr>
          <p:sp>
            <p:nvSpPr>
              <p:cNvPr id="73" name="Line 1617"/>
              <p:cNvSpPr/>
              <p:nvPr/>
            </p:nvSpPr>
            <p:spPr>
              <a:xfrm>
                <a:off x="2398680" y="6277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398680" y="6277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385720" y="6191640"/>
              <a:ext cx="1440" cy="1440"/>
              <a:chOff x="2385720" y="6191640"/>
              <a:chExt cx="1440" cy="1440"/>
            </a:xfrm>
          </p:grpSpPr>
          <p:sp>
            <p:nvSpPr>
              <p:cNvPr id="76" name="Line 1620"/>
              <p:cNvSpPr/>
              <p:nvPr/>
            </p:nvSpPr>
            <p:spPr>
              <a:xfrm>
                <a:off x="2385720" y="619164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2385720" y="6191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385720" y="6191640"/>
              <a:ext cx="1440" cy="1440"/>
              <a:chOff x="2385720" y="6191640"/>
              <a:chExt cx="1440" cy="1440"/>
            </a:xfrm>
          </p:grpSpPr>
          <p:sp>
            <p:nvSpPr>
              <p:cNvPr id="79" name="Line 1621"/>
              <p:cNvSpPr/>
              <p:nvPr/>
            </p:nvSpPr>
            <p:spPr>
              <a:xfrm>
                <a:off x="2385720" y="619164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2385720" y="6191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376360" y="6124680"/>
              <a:ext cx="1440" cy="1440"/>
              <a:chOff x="2376360" y="6124680"/>
              <a:chExt cx="1440" cy="1440"/>
            </a:xfrm>
          </p:grpSpPr>
          <p:sp>
            <p:nvSpPr>
              <p:cNvPr id="82" name="Line 1623"/>
              <p:cNvSpPr/>
              <p:nvPr/>
            </p:nvSpPr>
            <p:spPr>
              <a:xfrm>
                <a:off x="2376360" y="6124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2376360" y="6124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376360" y="6124680"/>
              <a:ext cx="1440" cy="1440"/>
              <a:chOff x="2376360" y="6124680"/>
              <a:chExt cx="1440" cy="1440"/>
            </a:xfrm>
          </p:grpSpPr>
          <p:sp>
            <p:nvSpPr>
              <p:cNvPr id="85" name="Line 1624"/>
              <p:cNvSpPr/>
              <p:nvPr/>
            </p:nvSpPr>
            <p:spPr>
              <a:xfrm>
                <a:off x="2376360" y="6124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376360" y="6124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385720" y="6131160"/>
              <a:ext cx="1440" cy="1440"/>
              <a:chOff x="2385720" y="6131160"/>
              <a:chExt cx="1440" cy="1440"/>
            </a:xfrm>
          </p:grpSpPr>
          <p:sp>
            <p:nvSpPr>
              <p:cNvPr id="88" name="Line 1629"/>
              <p:cNvSpPr/>
              <p:nvPr/>
            </p:nvSpPr>
            <p:spPr>
              <a:xfrm>
                <a:off x="2385720" y="61311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2385720" y="6131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385720" y="6131160"/>
              <a:ext cx="1440" cy="1440"/>
              <a:chOff x="2385720" y="6131160"/>
              <a:chExt cx="1440" cy="1440"/>
            </a:xfrm>
          </p:grpSpPr>
          <p:sp>
            <p:nvSpPr>
              <p:cNvPr id="91" name="Line 1630"/>
              <p:cNvSpPr/>
              <p:nvPr/>
            </p:nvSpPr>
            <p:spPr>
              <a:xfrm>
                <a:off x="2385720" y="61311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2385720" y="6131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2246"/>
            <p:cNvSpPr/>
            <p:nvPr/>
          </p:nvSpPr>
          <p:spPr>
            <a:xfrm>
              <a:off x="281232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248"/>
            <p:cNvSpPr/>
            <p:nvPr/>
          </p:nvSpPr>
          <p:spPr>
            <a:xfrm>
              <a:off x="409824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49"/>
            <p:cNvSpPr/>
            <p:nvPr/>
          </p:nvSpPr>
          <p:spPr>
            <a:xfrm>
              <a:off x="538596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361"/>
            <p:cNvGrpSpPr/>
            <p:nvPr/>
          </p:nvGrpSpPr>
          <p:grpSpPr>
            <a:xfrm>
              <a:off x="1743840" y="4632480"/>
              <a:ext cx="4662720" cy="1963800"/>
              <a:chOff x="1743840" y="4632480"/>
              <a:chExt cx="4662720" cy="1963800"/>
            </a:xfrm>
          </p:grpSpPr>
          <p:sp>
            <p:nvSpPr>
              <p:cNvPr id="97" name="Text Box 2362"/>
              <p:cNvSpPr/>
              <p:nvPr/>
            </p:nvSpPr>
            <p:spPr>
              <a:xfrm>
                <a:off x="2890440" y="5826240"/>
                <a:ext cx="146844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Strateg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Marketing Strate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Contents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Information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363"/>
              <p:cNvSpPr/>
              <p:nvPr/>
            </p:nvSpPr>
            <p:spPr>
              <a:xfrm>
                <a:off x="1900080" y="4983480"/>
                <a:ext cx="3987720" cy="291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72960" y="4992840"/>
                <a:ext cx="1800" cy="272880"/>
                <a:chOff x="4872960" y="4992840"/>
                <a:chExt cx="1800" cy="272880"/>
              </a:xfrm>
            </p:grpSpPr>
            <p:sp>
              <p:nvSpPr>
                <p:cNvPr id="100" name="Line 2364"/>
                <p:cNvSpPr/>
                <p:nvPr/>
              </p:nvSpPr>
              <p:spPr>
                <a:xfrm flipH="1" flipV="1">
                  <a:off x="4872960" y="4992840"/>
                  <a:ext cx="180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 rot="10800000">
                  <a:off x="4872960" y="4992840"/>
                  <a:ext cx="180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2365"/>
              <p:cNvSpPr/>
              <p:nvPr/>
            </p:nvSpPr>
            <p:spPr>
              <a:xfrm>
                <a:off x="2052000" y="5018400"/>
                <a:ext cx="76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ompan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898800" y="4992840"/>
                <a:ext cx="1440" cy="272880"/>
                <a:chOff x="3898800" y="4992840"/>
                <a:chExt cx="1440" cy="272880"/>
              </a:xfrm>
            </p:grpSpPr>
            <p:sp>
              <p:nvSpPr>
                <p:cNvPr id="104" name="Line 2366"/>
                <p:cNvSpPr/>
                <p:nvPr/>
              </p:nvSpPr>
              <p:spPr>
                <a:xfrm flipH="1" flipV="1">
                  <a:off x="3898800" y="4992840"/>
                  <a:ext cx="144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 rot="10800000">
                  <a:off x="3898800" y="4992840"/>
                  <a:ext cx="14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923920" y="4992840"/>
                <a:ext cx="1440" cy="272880"/>
                <a:chOff x="2923920" y="4992840"/>
                <a:chExt cx="1440" cy="272880"/>
              </a:xfrm>
            </p:grpSpPr>
            <p:sp>
              <p:nvSpPr>
                <p:cNvPr id="107" name="Line 2367"/>
                <p:cNvSpPr/>
                <p:nvPr/>
              </p:nvSpPr>
              <p:spPr>
                <a:xfrm flipH="1" flipV="1">
                  <a:off x="2923920" y="4992840"/>
                  <a:ext cx="144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 rot="10800000">
                  <a:off x="2923920" y="4992840"/>
                  <a:ext cx="14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AutoShape 2368"/>
              <p:cNvSpPr/>
              <p:nvPr/>
            </p:nvSpPr>
            <p:spPr>
              <a:xfrm rot="10800000">
                <a:off x="582120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895040" y="5334120"/>
                <a:ext cx="4073760" cy="1800"/>
                <a:chOff x="1895040" y="5334120"/>
                <a:chExt cx="4073760" cy="1800"/>
              </a:xfrm>
            </p:grpSpPr>
            <p:sp>
              <p:nvSpPr>
                <p:cNvPr id="111" name="Line 2369"/>
                <p:cNvSpPr/>
                <p:nvPr/>
              </p:nvSpPr>
              <p:spPr>
                <a:xfrm>
                  <a:off x="1895040" y="5334120"/>
                  <a:ext cx="4073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 txBox="1"/>
                <p:nvPr/>
              </p:nvSpPr>
              <p:spPr>
                <a:xfrm>
                  <a:off x="1895040" y="5334120"/>
                  <a:ext cx="407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Rectangle 2370"/>
              <p:cNvSpPr/>
              <p:nvPr/>
            </p:nvSpPr>
            <p:spPr>
              <a:xfrm>
                <a:off x="1846080" y="533088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371"/>
              <p:cNvSpPr/>
              <p:nvPr/>
            </p:nvSpPr>
            <p:spPr>
              <a:xfrm>
                <a:off x="3075120" y="5018400"/>
                <a:ext cx="692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serv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372"/>
              <p:cNvSpPr/>
              <p:nvPr/>
            </p:nvSpPr>
            <p:spPr>
              <a:xfrm>
                <a:off x="4087080" y="5018400"/>
                <a:ext cx="602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li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373"/>
              <p:cNvSpPr/>
              <p:nvPr/>
            </p:nvSpPr>
            <p:spPr>
              <a:xfrm>
                <a:off x="5038200" y="5018400"/>
                <a:ext cx="733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partn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374"/>
              <p:cNvSpPr/>
              <p:nvPr/>
            </p:nvSpPr>
            <p:spPr>
              <a:xfrm>
                <a:off x="1811160" y="5826240"/>
                <a:ext cx="13636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Building Brand Identit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and Corporate Ident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Style Guid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375"/>
              <p:cNvSpPr/>
              <p:nvPr/>
            </p:nvSpPr>
            <p:spPr>
              <a:xfrm>
                <a:off x="2890440" y="5348520"/>
                <a:ext cx="14144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SERVIC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Plan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376"/>
              <p:cNvSpPr/>
              <p:nvPr/>
            </p:nvSpPr>
            <p:spPr>
              <a:xfrm>
                <a:off x="3874680" y="5348520"/>
                <a:ext cx="8971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CLIENT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77"/>
              <p:cNvSpPr/>
              <p:nvPr/>
            </p:nvSpPr>
            <p:spPr>
              <a:xfrm>
                <a:off x="3879720" y="5826240"/>
                <a:ext cx="93024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User Interfa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Interaction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Multimedia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923920" y="5349960"/>
                <a:ext cx="1440" cy="959040"/>
                <a:chOff x="2923920" y="5349960"/>
                <a:chExt cx="1440" cy="959040"/>
              </a:xfrm>
            </p:grpSpPr>
            <p:sp>
              <p:nvSpPr>
                <p:cNvPr id="122" name="Line 2378"/>
                <p:cNvSpPr/>
                <p:nvPr/>
              </p:nvSpPr>
              <p:spPr>
                <a:xfrm>
                  <a:off x="2923920" y="5349960"/>
                  <a:ext cx="144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>
                  <a:off x="2923920" y="5349960"/>
                  <a:ext cx="14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898800" y="5349960"/>
                <a:ext cx="1440" cy="959040"/>
                <a:chOff x="3898800" y="5349960"/>
                <a:chExt cx="1440" cy="959040"/>
              </a:xfrm>
            </p:grpSpPr>
            <p:sp>
              <p:nvSpPr>
                <p:cNvPr id="125" name="Line 2379"/>
                <p:cNvSpPr/>
                <p:nvPr/>
              </p:nvSpPr>
              <p:spPr>
                <a:xfrm>
                  <a:off x="3898800" y="5349960"/>
                  <a:ext cx="144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 txBox="1"/>
                <p:nvPr/>
              </p:nvSpPr>
              <p:spPr>
                <a:xfrm>
                  <a:off x="3898800" y="5349960"/>
                  <a:ext cx="14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878000" y="5349960"/>
                <a:ext cx="1800" cy="959040"/>
                <a:chOff x="4878000" y="5349960"/>
                <a:chExt cx="1800" cy="959040"/>
              </a:xfrm>
            </p:grpSpPr>
            <p:sp>
              <p:nvSpPr>
                <p:cNvPr id="128" name="Line 2380"/>
                <p:cNvSpPr/>
                <p:nvPr/>
              </p:nvSpPr>
              <p:spPr>
                <a:xfrm>
                  <a:off x="4878000" y="5349960"/>
                  <a:ext cx="180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 txBox="1"/>
                <p:nvPr/>
              </p:nvSpPr>
              <p:spPr>
                <a:xfrm>
                  <a:off x="4878000" y="5349960"/>
                  <a:ext cx="18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2381"/>
              <p:cNvSpPr/>
              <p:nvPr/>
            </p:nvSpPr>
            <p:spPr>
              <a:xfrm>
                <a:off x="4852800" y="5343840"/>
                <a:ext cx="1251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PARTNER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2382"/>
              <p:cNvSpPr/>
              <p:nvPr/>
            </p:nvSpPr>
            <p:spPr>
              <a:xfrm>
                <a:off x="4858920" y="5826240"/>
                <a:ext cx="139860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HTML, DHTM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Java Script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As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2383"/>
              <p:cNvSpPr/>
              <p:nvPr/>
            </p:nvSpPr>
            <p:spPr>
              <a:xfrm>
                <a:off x="1815840" y="5348520"/>
                <a:ext cx="1413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COMPAN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Ident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384"/>
              <p:cNvSpPr/>
              <p:nvPr/>
            </p:nvSpPr>
            <p:spPr>
              <a:xfrm>
                <a:off x="1743840" y="464832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Used Thing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385"/>
              <p:cNvSpPr/>
              <p:nvPr/>
            </p:nvSpPr>
            <p:spPr>
              <a:xfrm>
                <a:off x="2769120" y="4648320"/>
                <a:ext cx="76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Trade-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86"/>
              <p:cNvSpPr/>
              <p:nvPr/>
            </p:nvSpPr>
            <p:spPr>
              <a:xfrm>
                <a:off x="3728520" y="4648320"/>
                <a:ext cx="85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Insuranc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387"/>
              <p:cNvSpPr/>
              <p:nvPr/>
            </p:nvSpPr>
            <p:spPr>
              <a:xfrm>
                <a:off x="4715640" y="4657320"/>
                <a:ext cx="672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Fi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388"/>
              <p:cNvSpPr/>
              <p:nvPr/>
            </p:nvSpPr>
            <p:spPr>
              <a:xfrm>
                <a:off x="5722920" y="4657320"/>
                <a:ext cx="68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Reser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1763280" y="4632480"/>
                <a:ext cx="4537080" cy="1440"/>
                <a:chOff x="1763280" y="4632480"/>
                <a:chExt cx="4537080" cy="1440"/>
              </a:xfrm>
            </p:grpSpPr>
            <p:sp>
              <p:nvSpPr>
                <p:cNvPr id="139" name="Line 2389"/>
                <p:cNvSpPr/>
                <p:nvPr/>
              </p:nvSpPr>
              <p:spPr>
                <a:xfrm>
                  <a:off x="1763280" y="4632480"/>
                  <a:ext cx="4537080" cy="1440"/>
                </a:xfrm>
                <a:prstGeom prst="line">
                  <a:avLst/>
                </a:prstGeom>
                <a:ln cap="rnd" w="15840">
                  <a:solidFill>
                    <a:srgbClr val="80808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1763280" y="4632480"/>
                  <a:ext cx="4537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AutoShape 2390"/>
              <p:cNvSpPr/>
              <p:nvPr/>
            </p:nvSpPr>
            <p:spPr>
              <a:xfrm rot="10800000">
                <a:off x="4834800" y="4848480"/>
                <a:ext cx="8748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2391"/>
              <p:cNvSpPr/>
              <p:nvPr/>
            </p:nvSpPr>
            <p:spPr>
              <a:xfrm rot="10800000">
                <a:off x="385272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2392"/>
              <p:cNvSpPr/>
              <p:nvPr/>
            </p:nvSpPr>
            <p:spPr>
              <a:xfrm rot="10800000">
                <a:off x="2882160" y="4848480"/>
                <a:ext cx="8748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2393"/>
              <p:cNvSpPr/>
              <p:nvPr/>
            </p:nvSpPr>
            <p:spPr>
              <a:xfrm rot="10800000">
                <a:off x="184608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Freeform 2398"/>
            <p:cNvSpPr/>
            <p:nvPr/>
          </p:nvSpPr>
          <p:spPr>
            <a:xfrm>
              <a:off x="2752560" y="3065400"/>
              <a:ext cx="234720" cy="2332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400"/>
            <p:cNvSpPr/>
            <p:nvPr/>
          </p:nvSpPr>
          <p:spPr>
            <a:xfrm>
              <a:off x="3886200" y="2843280"/>
              <a:ext cx="287280" cy="2887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01"/>
            <p:cNvSpPr/>
            <p:nvPr/>
          </p:nvSpPr>
          <p:spPr>
            <a:xfrm>
              <a:off x="1658880" y="3286080"/>
              <a:ext cx="214200" cy="21564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403"/>
            <p:cNvSpPr/>
            <p:nvPr/>
          </p:nvSpPr>
          <p:spPr>
            <a:xfrm>
              <a:off x="1798560" y="3357720"/>
              <a:ext cx="81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Search catalogs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Fi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404"/>
            <p:cNvSpPr/>
            <p:nvPr/>
          </p:nvSpPr>
          <p:spPr>
            <a:xfrm>
              <a:off x="2679120" y="3309840"/>
              <a:ext cx="58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You ca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find th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rele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405"/>
            <p:cNvSpPr/>
            <p:nvPr/>
          </p:nvSpPr>
          <p:spPr>
            <a:xfrm>
              <a:off x="3784320" y="3089160"/>
              <a:ext cx="93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I invite you 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ake yo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ime exploring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images 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he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p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56400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3760" y="117360"/>
            <a:ext cx="46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版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064-2FC9-4D0D-89F0-C7C4CC11E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0:16Z</dcterms:modified>
  <cp:revision>10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