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DA8-6645-47DD-9FD4-9888C330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65F-25D3-442D-B710-4EDC9E9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EDB-4160-414F-AA1D-2CFAD1E6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7A6-0AA9-4FA7-BFD1-A56F0153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938-9D64-46E2-BA33-B9AD9C8C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414-453B-45AF-9446-77887F6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B4C-05E4-4228-86DB-EDE30985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4AE-6632-4CCB-98E8-1BAB9191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843-E14D-4D0C-A4F4-9B8DCA47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03A-AE88-427B-976D-ABB64E4C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4C0-CBF9-426D-AF11-0CB0C25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FF9-B581-4580-8537-771E46D9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BABE-E8CD-49C7-B50F-46EBC52793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0F8F-1A85-47A8-8361-145A2953AA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表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2062080" y="1136520"/>
            <a:ext cx="5224680" cy="522144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29"/>
          <p:cNvSpPr/>
          <p:nvPr/>
        </p:nvSpPr>
        <p:spPr>
          <a:xfrm>
            <a:off x="6143760" y="74916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36"/>
          <p:cNvSpPr/>
          <p:nvPr/>
        </p:nvSpPr>
        <p:spPr>
          <a:xfrm flipH="1">
            <a:off x="5929200" y="1071720"/>
            <a:ext cx="214560" cy="10713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29"/>
          <p:cNvSpPr/>
          <p:nvPr/>
        </p:nvSpPr>
        <p:spPr>
          <a:xfrm>
            <a:off x="428760" y="12142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39"/>
          <p:cNvSpPr/>
          <p:nvPr/>
        </p:nvSpPr>
        <p:spPr>
          <a:xfrm>
            <a:off x="2928960" y="1500120"/>
            <a:ext cx="1643040" cy="171468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29"/>
          <p:cNvSpPr/>
          <p:nvPr/>
        </p:nvSpPr>
        <p:spPr>
          <a:xfrm>
            <a:off x="357120" y="564372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42"/>
          <p:cNvSpPr/>
          <p:nvPr/>
        </p:nvSpPr>
        <p:spPr>
          <a:xfrm flipV="1">
            <a:off x="2928960" y="4857480"/>
            <a:ext cx="1857240" cy="11430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630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8480" y="476280"/>
            <a:ext cx="22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3"/>
          <p:cNvGrpSpPr/>
          <p:nvPr/>
        </p:nvGrpSpPr>
        <p:grpSpPr>
          <a:xfrm>
            <a:off x="1142640" y="1285920"/>
            <a:ext cx="6643800" cy="4470480"/>
            <a:chOff x="1142640" y="1285920"/>
            <a:chExt cx="6643800" cy="4470480"/>
          </a:xfrm>
        </p:grpSpPr>
        <p:sp>
          <p:nvSpPr>
            <p:cNvPr id="122" name="Freeform 6"/>
            <p:cNvSpPr/>
            <p:nvPr/>
          </p:nvSpPr>
          <p:spPr>
            <a:xfrm rot="5400000">
              <a:off x="2338200" y="308160"/>
              <a:ext cx="4470480" cy="6425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 rot="5400000">
              <a:off x="1902600" y="525600"/>
              <a:ext cx="4251960" cy="57722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95280" y="630864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4921200" y="2495520"/>
            <a:ext cx="3936960" cy="39337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29"/>
          <p:cNvSpPr/>
          <p:nvPr/>
        </p:nvSpPr>
        <p:spPr>
          <a:xfrm>
            <a:off x="500040" y="10000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1748880" y="1646280"/>
            <a:ext cx="393480" cy="16398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29"/>
          <p:cNvSpPr/>
          <p:nvPr/>
        </p:nvSpPr>
        <p:spPr>
          <a:xfrm>
            <a:off x="625140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 flipH="1">
            <a:off x="6071760" y="2075040"/>
            <a:ext cx="1428840" cy="1996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55320" y="2928960"/>
            <a:ext cx="4073400" cy="2739960"/>
            <a:chOff x="355320" y="2928960"/>
            <a:chExt cx="4073400" cy="2739960"/>
          </a:xfrm>
        </p:grpSpPr>
        <p:sp>
          <p:nvSpPr>
            <p:cNvPr id="134" name="Freeform 6"/>
            <p:cNvSpPr/>
            <p:nvPr/>
          </p:nvSpPr>
          <p:spPr>
            <a:xfrm rot="5400000">
              <a:off x="1089000" y="2328840"/>
              <a:ext cx="2739960" cy="39394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 rot="5400000">
              <a:off x="821880" y="2462040"/>
              <a:ext cx="2606040" cy="353916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021200" y="32464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3429000" y="785880"/>
            <a:ext cx="5224320" cy="522108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29"/>
          <p:cNvSpPr/>
          <p:nvPr/>
        </p:nvSpPr>
        <p:spPr>
          <a:xfrm>
            <a:off x="428760" y="12142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2"/>
          <p:cNvSpPr/>
          <p:nvPr/>
        </p:nvSpPr>
        <p:spPr>
          <a:xfrm>
            <a:off x="2928960" y="1500120"/>
            <a:ext cx="1928880" cy="18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29"/>
          <p:cNvSpPr/>
          <p:nvPr/>
        </p:nvSpPr>
        <p:spPr>
          <a:xfrm>
            <a:off x="428760" y="292896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928960" y="3214800"/>
            <a:ext cx="1928880" cy="144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29"/>
          <p:cNvSpPr/>
          <p:nvPr/>
        </p:nvSpPr>
        <p:spPr>
          <a:xfrm>
            <a:off x="428760" y="44290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2928960" y="4714920"/>
            <a:ext cx="1928880" cy="144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29"/>
          <p:cNvSpPr/>
          <p:nvPr/>
        </p:nvSpPr>
        <p:spPr>
          <a:xfrm>
            <a:off x="428760" y="55720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0"/>
          <p:cNvSpPr/>
          <p:nvPr/>
        </p:nvSpPr>
        <p:spPr>
          <a:xfrm>
            <a:off x="2928960" y="5857920"/>
            <a:ext cx="3857760" cy="144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3"/>
          <p:cNvGrpSpPr/>
          <p:nvPr/>
        </p:nvGrpSpPr>
        <p:grpSpPr>
          <a:xfrm>
            <a:off x="1642680" y="1785960"/>
            <a:ext cx="5638680" cy="3794040"/>
            <a:chOff x="1642680" y="1785960"/>
            <a:chExt cx="5638680" cy="3794040"/>
          </a:xfrm>
        </p:grpSpPr>
        <p:sp>
          <p:nvSpPr>
            <p:cNvPr id="69" name="Freeform 6"/>
            <p:cNvSpPr/>
            <p:nvPr/>
          </p:nvSpPr>
          <p:spPr>
            <a:xfrm rot="5400000">
              <a:off x="2657520" y="956160"/>
              <a:ext cx="3794040" cy="5453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"/>
            <p:cNvSpPr/>
            <p:nvPr/>
          </p:nvSpPr>
          <p:spPr>
            <a:xfrm rot="5400000">
              <a:off x="2287800" y="1140480"/>
              <a:ext cx="3608640" cy="48988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90840" y="1428840"/>
            <a:ext cx="3938400" cy="39351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9"/>
          <p:cNvSpPr/>
          <p:nvPr/>
        </p:nvSpPr>
        <p:spPr>
          <a:xfrm>
            <a:off x="6300720" y="76500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21"/>
          <p:cNvSpPr/>
          <p:nvPr/>
        </p:nvSpPr>
        <p:spPr>
          <a:xfrm flipH="1">
            <a:off x="5500440" y="1071720"/>
            <a:ext cx="857160" cy="6429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29"/>
          <p:cNvSpPr/>
          <p:nvPr/>
        </p:nvSpPr>
        <p:spPr>
          <a:xfrm>
            <a:off x="285840" y="12142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3"/>
          <p:cNvSpPr/>
          <p:nvPr/>
        </p:nvSpPr>
        <p:spPr>
          <a:xfrm>
            <a:off x="2928960" y="1500120"/>
            <a:ext cx="1214280" cy="6429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9"/>
          <p:cNvSpPr/>
          <p:nvPr/>
        </p:nvSpPr>
        <p:spPr>
          <a:xfrm>
            <a:off x="357120" y="564372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25"/>
          <p:cNvSpPr/>
          <p:nvPr/>
        </p:nvSpPr>
        <p:spPr>
          <a:xfrm flipV="1">
            <a:off x="2928960" y="4857480"/>
            <a:ext cx="1857240" cy="11430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29"/>
          <p:cNvSpPr/>
          <p:nvPr/>
        </p:nvSpPr>
        <p:spPr>
          <a:xfrm>
            <a:off x="5715000" y="564372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9"/>
          <p:cNvSpPr/>
          <p:nvPr/>
        </p:nvSpPr>
        <p:spPr>
          <a:xfrm flipH="1" flipV="1">
            <a:off x="6000840" y="4357800"/>
            <a:ext cx="1071360" cy="1285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3"/>
          <p:cNvGrpSpPr/>
          <p:nvPr/>
        </p:nvGrpSpPr>
        <p:grpSpPr>
          <a:xfrm>
            <a:off x="1142640" y="1285920"/>
            <a:ext cx="6643800" cy="4470480"/>
            <a:chOff x="1142640" y="1285920"/>
            <a:chExt cx="6643800" cy="4470480"/>
          </a:xfrm>
        </p:grpSpPr>
        <p:sp>
          <p:nvSpPr>
            <p:cNvPr id="87" name="Freeform 6"/>
            <p:cNvSpPr/>
            <p:nvPr/>
          </p:nvSpPr>
          <p:spPr>
            <a:xfrm rot="5400000">
              <a:off x="2338200" y="308160"/>
              <a:ext cx="4470480" cy="6425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 rot="5400000">
              <a:off x="1902600" y="525600"/>
              <a:ext cx="4251960" cy="57722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大宝库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【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.glzy8.com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1347840" y="1000080"/>
            <a:ext cx="6510240" cy="65055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29"/>
          <p:cNvSpPr/>
          <p:nvPr/>
        </p:nvSpPr>
        <p:spPr>
          <a:xfrm>
            <a:off x="35712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6"/>
          <p:cNvSpPr/>
          <p:nvPr/>
        </p:nvSpPr>
        <p:spPr>
          <a:xfrm>
            <a:off x="1605960" y="2075040"/>
            <a:ext cx="393480" cy="16398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9"/>
          <p:cNvSpPr/>
          <p:nvPr/>
        </p:nvSpPr>
        <p:spPr>
          <a:xfrm>
            <a:off x="3357720" y="7858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606200" y="1432080"/>
            <a:ext cx="12600" cy="29397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9"/>
          <p:cNvSpPr/>
          <p:nvPr/>
        </p:nvSpPr>
        <p:spPr>
          <a:xfrm>
            <a:off x="625140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6"/>
          <p:cNvSpPr/>
          <p:nvPr/>
        </p:nvSpPr>
        <p:spPr>
          <a:xfrm flipH="1">
            <a:off x="6071760" y="2075040"/>
            <a:ext cx="1428840" cy="1996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1142640" y="1071720"/>
            <a:ext cx="6643800" cy="4470120"/>
            <a:chOff x="1142640" y="1071720"/>
            <a:chExt cx="6643800" cy="4470120"/>
          </a:xfrm>
        </p:grpSpPr>
        <p:sp>
          <p:nvSpPr>
            <p:cNvPr id="103" name="Freeform 6"/>
            <p:cNvSpPr/>
            <p:nvPr/>
          </p:nvSpPr>
          <p:spPr>
            <a:xfrm rot="5400000">
              <a:off x="2338560" y="93960"/>
              <a:ext cx="4470120" cy="6425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 rot="5400000">
              <a:off x="1902960" y="311040"/>
              <a:ext cx="4251600" cy="57722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2214720" y="1643040"/>
            <a:ext cx="4500360" cy="449748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9"/>
          <p:cNvSpPr/>
          <p:nvPr/>
        </p:nvSpPr>
        <p:spPr>
          <a:xfrm>
            <a:off x="35712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"/>
          <p:cNvSpPr/>
          <p:nvPr/>
        </p:nvSpPr>
        <p:spPr>
          <a:xfrm>
            <a:off x="1605960" y="2075040"/>
            <a:ext cx="679320" cy="149688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29"/>
          <p:cNvSpPr/>
          <p:nvPr/>
        </p:nvSpPr>
        <p:spPr>
          <a:xfrm>
            <a:off x="3357720" y="50004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1"/>
          <p:cNvSpPr/>
          <p:nvPr/>
        </p:nvSpPr>
        <p:spPr>
          <a:xfrm>
            <a:off x="4606200" y="1146240"/>
            <a:ext cx="12600" cy="167328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29"/>
          <p:cNvSpPr/>
          <p:nvPr/>
        </p:nvSpPr>
        <p:spPr>
          <a:xfrm>
            <a:off x="6251400" y="121428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6"/>
          <p:cNvSpPr/>
          <p:nvPr/>
        </p:nvSpPr>
        <p:spPr>
          <a:xfrm flipH="1">
            <a:off x="6000480" y="2075040"/>
            <a:ext cx="1428840" cy="1996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0F0-B168-4183-9714-2738951B89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0:4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10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