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11F-E278-486D-96A2-07E6DAB9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FA6-1455-4890-935A-095388D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6BB-7EDA-4818-9B60-51752B34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CEA-3F27-4847-8CF9-8ACBA8E7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E7F-132B-42F4-AE60-18E56978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66280" y="23796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61E-A22E-442E-A01B-6D9C0291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5CC-229E-426B-80AE-7DB7EF0D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61F-4273-4914-B535-CDD7708E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F89-F8C5-4EC1-8CB8-64BBAB8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EFE-7D82-4715-A8D7-7FD01025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A93-527A-4476-BE15-585FD3B3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5C9-9587-4899-AC80-6BB997E8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BE55-A121-4892-AD98-7E6F46C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9F46-E791-49D4-8C6C-B548486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6B7-DBCD-4607-9FCF-C17E8CE6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CE9-579B-4974-A3AE-5514DDF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AF7D-87F2-4CCB-9489-677629D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6280" y="23796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973F-6467-49BF-93A4-340579ED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266-1BC1-4ADB-B075-ACEE0CD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572-9FD7-405A-A56C-A4835A21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4D9C-6B90-4B75-866C-E6A9365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C28-25E7-4D64-B232-72CAF6E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A24A-4259-4CA0-B827-C4A37E4F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05BA-6BB1-414B-865C-699F0E77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6280" y="237960"/>
            <a:ext cx="8008920" cy="27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280" y="92160"/>
            <a:ext cx="8008920" cy="747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480384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72360" bIns="7236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10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10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5679720"/>
            <a:ext cx="8642160" cy="847800"/>
          </a:xfrm>
          <a:prstGeom prst="rect">
            <a:avLst/>
          </a:prstGeom>
          <a:noFill/>
          <a:ln w="0">
            <a:noFill/>
          </a:ln>
        </p:spPr>
        <p:txBody>
          <a:bodyPr lIns="72360" rIns="72360" tIns="72360" bIns="72360" anchor="t">
            <a:normAutofit fontScale="12000"/>
          </a:bodyPr>
          <a:p>
            <a:pPr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SzPct val="25000"/>
              <a:buFont typeface="Gill Sans Light"/>
              <a:buChar char="•"/>
            </a:pPr>
            <a:r>
              <a:rPr b="0" lang="en-US" sz="54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5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" name="矩形 3"/>
          <p:cNvSpPr/>
          <p:nvPr/>
        </p:nvSpPr>
        <p:spPr>
          <a:xfrm>
            <a:off x="-15840" y="6858000"/>
            <a:ext cx="9159840" cy="324000"/>
          </a:xfrm>
          <a:prstGeom prst="rect">
            <a:avLst/>
          </a:prstGeom>
          <a:solidFill>
            <a:srgbClr val="e94e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爱</a:t>
            </a: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网</a:t>
            </a: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理</a:t>
            </a: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iloveppt.org</a:t>
            </a:r>
            <a:endParaRPr b="0" lang="en-US" sz="2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9" descr=""/>
          <p:cNvPicPr/>
          <p:nvPr/>
        </p:nvPicPr>
        <p:blipFill>
          <a:blip r:embed="rId2"/>
          <a:srcRect l="11523" t="-544" r="7941" b="550"/>
          <a:stretch/>
        </p:blipFill>
        <p:spPr>
          <a:xfrm>
            <a:off x="0" y="-2232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0" name="圆角矩形 14"/>
          <p:cNvSpPr/>
          <p:nvPr/>
        </p:nvSpPr>
        <p:spPr>
          <a:xfrm>
            <a:off x="0" y="990720"/>
            <a:ext cx="9144000" cy="5365800"/>
          </a:xfrm>
          <a:prstGeom prst="roundRect">
            <a:avLst>
              <a:gd name="adj" fmla="val 0"/>
            </a:avLst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marL="914400" indent="-914400" algn="ctr"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79440" indent="-379440">
              <a:lnSpc>
                <a:spcPct val="90000"/>
              </a:lnSpc>
              <a:spcBef>
                <a:spcPts val="1349"/>
              </a:spcBef>
              <a:buClr>
                <a:srgbClr val="ff91ea"/>
              </a:buClr>
              <a:buSzPct val="70000"/>
              <a:buFont typeface="Wingdings" charset="2"/>
              <a:buChar char="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1" marL="379440" indent="-3794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2" marL="1219320" indent="-244440">
              <a:lnSpc>
                <a:spcPct val="90000"/>
              </a:lnSpc>
              <a:spcBef>
                <a:spcPts val="1349"/>
              </a:spcBef>
              <a:buClr>
                <a:srgbClr val="404245"/>
              </a:buClr>
              <a:buFont typeface="Calibri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3" marL="1706400" indent="-242640">
              <a:lnSpc>
                <a:spcPct val="90000"/>
              </a:lnSpc>
              <a:spcBef>
                <a:spcPts val="1349"/>
              </a:spcBef>
              <a:buClr>
                <a:srgbClr val="404245"/>
              </a:buClr>
              <a:buFont typeface="Calibri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4" marL="2193840" indent="-242640">
              <a:lnSpc>
                <a:spcPct val="90000"/>
              </a:lnSpc>
              <a:spcBef>
                <a:spcPts val="1349"/>
              </a:spcBef>
              <a:buClr>
                <a:srgbClr val="404245"/>
              </a:buClr>
              <a:buFont typeface="Calibri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5" marL="2193840" indent="-24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lvl="6" marL="2193840" indent="-24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45659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56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45659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4C2-1B57-4571-B8FF-75A401374A58}" type="slidenum">
              <a:rPr b="0" lang="zh-CN" sz="1200" spc="-1" strike="noStrike">
                <a:solidFill>
                  <a:srgbClr val="5456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566280" y="237960"/>
            <a:ext cx="8008920" cy="6019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9" descr=""/>
          <p:cNvPicPr/>
          <p:nvPr/>
        </p:nvPicPr>
        <p:blipFill>
          <a:blip r:embed="rId2"/>
          <a:srcRect l="11523" t="-544" r="7941" b="550"/>
          <a:stretch/>
        </p:blipFill>
        <p:spPr>
          <a:xfrm>
            <a:off x="0" y="-2232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3" name="圆角矩形 14"/>
          <p:cNvSpPr/>
          <p:nvPr/>
        </p:nvSpPr>
        <p:spPr>
          <a:xfrm>
            <a:off x="0" y="2195640"/>
            <a:ext cx="9144000" cy="1476360"/>
          </a:xfrm>
          <a:prstGeom prst="roundRect">
            <a:avLst>
              <a:gd name="adj" fmla="val 0"/>
            </a:avLst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marL="914400" indent="-914400" algn="ctr"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45659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56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45659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656A-B0F3-41B1-A496-C5ED7D964923}" type="slidenum">
              <a:rPr b="0" lang="zh-CN" sz="1200" spc="-1" strike="noStrike">
                <a:solidFill>
                  <a:srgbClr val="5456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46200" y="26078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/tubiao/" TargetMode="External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5"/>
          <p:cNvGrpSpPr/>
          <p:nvPr/>
        </p:nvGrpSpPr>
        <p:grpSpPr>
          <a:xfrm>
            <a:off x="1944720" y="1322280"/>
            <a:ext cx="5564160" cy="608040"/>
            <a:chOff x="1944720" y="1322280"/>
            <a:chExt cx="5564160" cy="60804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1944720" y="1322280"/>
              <a:ext cx="556416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4"/>
            <p:cNvSpPr/>
            <p:nvPr/>
          </p:nvSpPr>
          <p:spPr>
            <a:xfrm>
              <a:off x="2286000" y="1455120"/>
              <a:ext cx="48891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1080" tIns="38160" bIns="381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添加内容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127" name="Group 5"/>
          <p:cNvGrpSpPr/>
          <p:nvPr/>
        </p:nvGrpSpPr>
        <p:grpSpPr>
          <a:xfrm>
            <a:off x="1935000" y="2446200"/>
            <a:ext cx="5562720" cy="608040"/>
            <a:chOff x="1935000" y="2446200"/>
            <a:chExt cx="5562720" cy="608040"/>
          </a:xfrm>
        </p:grpSpPr>
        <p:pic>
          <p:nvPicPr>
            <p:cNvPr id="128" name="Picture 3" descr=""/>
            <p:cNvPicPr/>
            <p:nvPr/>
          </p:nvPicPr>
          <p:blipFill>
            <a:blip r:embed="rId2"/>
            <a:stretch/>
          </p:blipFill>
          <p:spPr>
            <a:xfrm>
              <a:off x="1935000" y="2446200"/>
              <a:ext cx="556272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4"/>
            <p:cNvSpPr/>
            <p:nvPr/>
          </p:nvSpPr>
          <p:spPr>
            <a:xfrm>
              <a:off x="2275920" y="2579040"/>
              <a:ext cx="48877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1080" tIns="38160" bIns="381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添加内容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130" name="Group 5"/>
          <p:cNvGrpSpPr/>
          <p:nvPr/>
        </p:nvGrpSpPr>
        <p:grpSpPr>
          <a:xfrm>
            <a:off x="1935000" y="3571920"/>
            <a:ext cx="5562720" cy="606240"/>
            <a:chOff x="1935000" y="3571920"/>
            <a:chExt cx="5562720" cy="606240"/>
          </a:xfrm>
        </p:grpSpPr>
        <p:pic>
          <p:nvPicPr>
            <p:cNvPr id="131" name="Picture 3" descr=""/>
            <p:cNvPicPr/>
            <p:nvPr/>
          </p:nvPicPr>
          <p:blipFill>
            <a:blip r:embed="rId3"/>
            <a:stretch/>
          </p:blipFill>
          <p:spPr>
            <a:xfrm>
              <a:off x="1935000" y="3571920"/>
              <a:ext cx="556272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4"/>
            <p:cNvSpPr/>
            <p:nvPr/>
          </p:nvSpPr>
          <p:spPr>
            <a:xfrm>
              <a:off x="2275920" y="3704400"/>
              <a:ext cx="4887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1080" tIns="38160" bIns="381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添加内容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133" name="Group 5"/>
          <p:cNvGrpSpPr/>
          <p:nvPr/>
        </p:nvGrpSpPr>
        <p:grpSpPr>
          <a:xfrm>
            <a:off x="1935000" y="4695840"/>
            <a:ext cx="5562720" cy="606240"/>
            <a:chOff x="1935000" y="4695840"/>
            <a:chExt cx="5562720" cy="606240"/>
          </a:xfrm>
        </p:grpSpPr>
        <p:pic>
          <p:nvPicPr>
            <p:cNvPr id="134" name="Picture 3" descr=""/>
            <p:cNvPicPr/>
            <p:nvPr/>
          </p:nvPicPr>
          <p:blipFill>
            <a:blip r:embed="rId4"/>
            <a:stretch/>
          </p:blipFill>
          <p:spPr>
            <a:xfrm>
              <a:off x="1935000" y="4695840"/>
              <a:ext cx="5562720" cy="6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4"/>
            <p:cNvSpPr/>
            <p:nvPr/>
          </p:nvSpPr>
          <p:spPr>
            <a:xfrm>
              <a:off x="2275920" y="4828320"/>
              <a:ext cx="48877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1080" tIns="38160" bIns="38160" anchor="ctr">
              <a:noAutofit/>
            </a:bodyPr>
            <a:p>
              <a:pPr marL="14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添加内容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4000" y="6453360"/>
            <a:ext cx="7611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Gill Sans Light"/>
                <a:hlinkClick r:id="rId5"/>
              </a:rPr>
              <a:t>ppt图表</a:t>
            </a:r>
            <a:r>
              <a:rPr b="0" lang="en-US" sz="2000" spc="-1" strike="noStrike">
                <a:solidFill>
                  <a:srgbClr val="414141"/>
                </a:solidFill>
                <a:latin typeface="Gill Sans Light"/>
              </a:rPr>
              <a:t>http://www.eeppt.com/tubiao/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7" name=""/>
          <p:cNvSpPr/>
          <p:nvPr/>
        </p:nvSpPr>
        <p:spPr>
          <a:xfrm>
            <a:off x="-506160" y="549360"/>
            <a:ext cx="40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ill Sans Light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Gill Sans Light"/>
                <a:ea typeface="宋体"/>
              </a:rPr>
              <a:t>图表数据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Broadway"/>
              </a:rPr>
              <a:t>使用规范说明</a:t>
            </a:r>
            <a:endParaRPr b="1" lang="en-US" sz="45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1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Gill Sans Light"/>
              </a:rPr>
              <a:t>www.eeppt.com</a:t>
            </a:r>
            <a:endParaRPr b="0" lang="en-US" sz="1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AE7-C7A1-49B8-B8C6-61F50DB9E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5:51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10:1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