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11-2975-4C62-8B02-96771327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637-F7C4-42AB-8A0E-91B89AA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EF3-6BBE-4ED2-A876-7F16882D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076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52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66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076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52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09E-F234-45CC-9A54-6EB74386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A67-C5B2-4692-A4D3-0A29E265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52D-1868-4212-9390-858901F5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1B6B-C090-4EF1-8565-C763700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9F15-47B8-4A29-8323-ABBF8318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4C53-E756-4403-BE28-158AC5A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26640" y="202680"/>
            <a:ext cx="778356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BB8-A0D6-49A3-9B2B-CB78106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2E3C-2E82-43ED-B2A7-08FA7E2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D86-40D9-4CFF-9181-DD23206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149-B154-4401-A30D-D66D6C3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7768-4730-4874-B859-80FB3B5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3B90-6896-4517-8F93-B5828A3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797-1A5E-42CE-B863-129FE98C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076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52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266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076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52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F029-1CF3-4547-8645-9ADC32D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73A5-9A76-4A28-B575-E8511B7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B5D7-517C-45AA-B689-041F34E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5396-5753-423D-B286-F75F993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8A4A-AB0F-4677-BD88-3921B3B9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99FA-C652-42B8-81A3-DD07E259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6CA-1779-4974-8A4F-10B8BAA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26640" y="202680"/>
            <a:ext cx="778356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C952-014B-4D4C-9029-5D3FE2A3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7208-45B6-4BD9-8874-4DF2E81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71B2-D550-43DE-8921-5A9CE1B9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08D9-36E4-4B26-AA8B-BBB545A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F999-A80D-4C9B-BEDA-0DCB655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E409-47FC-45EA-AB85-E37167CC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076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5240" y="119016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266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076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5240" y="3705840"/>
            <a:ext cx="2508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F681-E910-4ED6-8921-1140E3AA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C15-E7C5-422B-ACF6-B2EE43F1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9D3-FC37-4575-8A19-D152035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6640" y="202680"/>
            <a:ext cx="778356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4DB-9C2F-490A-83CF-7F8BA35A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FE1-1668-4E09-BA0C-D8690C7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9040" y="370584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D4B-2A6B-49F2-B3EF-57AA1E4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66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9040" y="1190160"/>
            <a:ext cx="38019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6640" y="370584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C4D-1E7F-4EC2-9941-58B35273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1C8-72AD-4708-A3C4-2D63B6193F1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799-7651-4880-89E6-6F0104CF3B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" descr=""/>
          <p:cNvPicPr/>
          <p:nvPr/>
        </p:nvPicPr>
        <p:blipFill>
          <a:blip r:embed="rId2"/>
          <a:srcRect l="408" t="1510" r="0" b="0"/>
          <a:stretch/>
        </p:blipFill>
        <p:spPr>
          <a:xfrm>
            <a:off x="0" y="0"/>
            <a:ext cx="914544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42D-508A-4D74-A8C0-9466DFA9DEEE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926640" y="202680"/>
            <a:ext cx="7783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26640" y="1190160"/>
            <a:ext cx="77914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3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9b26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ea9b26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0" t="1425" r="24" b="0"/>
          <a:stretch/>
        </p:blipFill>
        <p:spPr>
          <a:xfrm>
            <a:off x="-42840" y="0"/>
            <a:ext cx="9186840" cy="6875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AEB-CE1D-4AB6-9719-9F439275071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2304720" y="3920760"/>
            <a:ext cx="6419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1085760" y="2133720"/>
            <a:ext cx="7056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tagon 12"/>
          <p:cNvSpPr/>
          <p:nvPr/>
        </p:nvSpPr>
        <p:spPr>
          <a:xfrm>
            <a:off x="1085760" y="1870200"/>
            <a:ext cx="3600720" cy="2854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081080" y="2949480"/>
            <a:ext cx="6985080" cy="1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90440" y="3654360"/>
            <a:ext cx="6932880" cy="1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85760" y="4429080"/>
            <a:ext cx="69138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entagon 12"/>
          <p:cNvSpPr/>
          <p:nvPr/>
        </p:nvSpPr>
        <p:spPr>
          <a:xfrm>
            <a:off x="4676760" y="1870200"/>
            <a:ext cx="3600360" cy="2854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4" y="0"/>
                </a:lnTo>
                <a:lnTo>
                  <a:pt x="21600" y="10800"/>
                </a:lnTo>
                <a:lnTo>
                  <a:pt x="2074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entagon 12"/>
          <p:cNvSpPr/>
          <p:nvPr/>
        </p:nvSpPr>
        <p:spPr>
          <a:xfrm>
            <a:off x="194796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entagon 12"/>
          <p:cNvSpPr/>
          <p:nvPr/>
        </p:nvSpPr>
        <p:spPr>
          <a:xfrm>
            <a:off x="282420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entagon 12"/>
          <p:cNvSpPr/>
          <p:nvPr/>
        </p:nvSpPr>
        <p:spPr>
          <a:xfrm>
            <a:off x="3701880" y="3381480"/>
            <a:ext cx="927360" cy="2854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entagon 12"/>
          <p:cNvSpPr/>
          <p:nvPr/>
        </p:nvSpPr>
        <p:spPr>
          <a:xfrm>
            <a:off x="462924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entagon 12"/>
          <p:cNvSpPr/>
          <p:nvPr/>
        </p:nvSpPr>
        <p:spPr>
          <a:xfrm>
            <a:off x="552132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entagon 12"/>
          <p:cNvSpPr/>
          <p:nvPr/>
        </p:nvSpPr>
        <p:spPr>
          <a:xfrm>
            <a:off x="641520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entagon 12"/>
          <p:cNvSpPr/>
          <p:nvPr/>
        </p:nvSpPr>
        <p:spPr>
          <a:xfrm>
            <a:off x="7311960" y="3381480"/>
            <a:ext cx="900000" cy="2854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entagon 12"/>
          <p:cNvSpPr/>
          <p:nvPr/>
        </p:nvSpPr>
        <p:spPr>
          <a:xfrm>
            <a:off x="1085760" y="3381480"/>
            <a:ext cx="863640" cy="2854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49400" y="3390840"/>
            <a:ext cx="360" cy="216000"/>
            <a:chOff x="1949400" y="3390840"/>
            <a:chExt cx="360" cy="216000"/>
          </a:xfrm>
        </p:grpSpPr>
        <p:sp>
          <p:nvSpPr>
            <p:cNvPr id="140" name="Line 18"/>
            <p:cNvSpPr/>
            <p:nvPr/>
          </p:nvSpPr>
          <p:spPr>
            <a:xfrm>
              <a:off x="1949400" y="33908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949400" y="33908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43280" y="3390840"/>
            <a:ext cx="1440" cy="216000"/>
            <a:chOff x="2843280" y="3390840"/>
            <a:chExt cx="1440" cy="216000"/>
          </a:xfrm>
        </p:grpSpPr>
        <p:sp>
          <p:nvSpPr>
            <p:cNvPr id="143" name="Line 19"/>
            <p:cNvSpPr/>
            <p:nvPr/>
          </p:nvSpPr>
          <p:spPr>
            <a:xfrm>
              <a:off x="2843280" y="339084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843280" y="339084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736800" y="3390840"/>
            <a:ext cx="360" cy="216000"/>
            <a:chOff x="3736800" y="3390840"/>
            <a:chExt cx="360" cy="216000"/>
          </a:xfrm>
        </p:grpSpPr>
        <p:sp>
          <p:nvSpPr>
            <p:cNvPr id="146" name="Line 20"/>
            <p:cNvSpPr/>
            <p:nvPr/>
          </p:nvSpPr>
          <p:spPr>
            <a:xfrm>
              <a:off x="3736800" y="33908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736800" y="33908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30680" y="3390840"/>
            <a:ext cx="1800" cy="216000"/>
            <a:chOff x="4630680" y="3390840"/>
            <a:chExt cx="1800" cy="216000"/>
          </a:xfrm>
        </p:grpSpPr>
        <p:sp>
          <p:nvSpPr>
            <p:cNvPr id="149" name="Line 21"/>
            <p:cNvSpPr/>
            <p:nvPr/>
          </p:nvSpPr>
          <p:spPr>
            <a:xfrm>
              <a:off x="4630680" y="339084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630680" y="339084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19880" y="3390840"/>
            <a:ext cx="360" cy="216000"/>
            <a:chOff x="6419880" y="3390840"/>
            <a:chExt cx="360" cy="216000"/>
          </a:xfrm>
        </p:grpSpPr>
        <p:sp>
          <p:nvSpPr>
            <p:cNvPr id="152" name="Line 22"/>
            <p:cNvSpPr/>
            <p:nvPr/>
          </p:nvSpPr>
          <p:spPr>
            <a:xfrm>
              <a:off x="6419880" y="33908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419880" y="33908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24560" y="3390840"/>
            <a:ext cx="360" cy="216000"/>
            <a:chOff x="5524560" y="3390840"/>
            <a:chExt cx="360" cy="216000"/>
          </a:xfrm>
        </p:grpSpPr>
        <p:sp>
          <p:nvSpPr>
            <p:cNvPr id="155" name="Line 23"/>
            <p:cNvSpPr/>
            <p:nvPr/>
          </p:nvSpPr>
          <p:spPr>
            <a:xfrm>
              <a:off x="5524560" y="33908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524560" y="33908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entagon 12"/>
          <p:cNvSpPr/>
          <p:nvPr/>
        </p:nvSpPr>
        <p:spPr>
          <a:xfrm>
            <a:off x="1085760" y="3382920"/>
            <a:ext cx="6193080" cy="28728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108576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entagon 12"/>
          <p:cNvSpPr/>
          <p:nvPr/>
        </p:nvSpPr>
        <p:spPr>
          <a:xfrm>
            <a:off x="166212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2"/>
          <p:cNvSpPr/>
          <p:nvPr/>
        </p:nvSpPr>
        <p:spPr>
          <a:xfrm>
            <a:off x="2238480" y="417348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entagon 12"/>
          <p:cNvSpPr/>
          <p:nvPr/>
        </p:nvSpPr>
        <p:spPr>
          <a:xfrm>
            <a:off x="281448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2"/>
          <p:cNvSpPr/>
          <p:nvPr/>
        </p:nvSpPr>
        <p:spPr>
          <a:xfrm>
            <a:off x="339084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entagon 12"/>
          <p:cNvSpPr/>
          <p:nvPr/>
        </p:nvSpPr>
        <p:spPr>
          <a:xfrm>
            <a:off x="396540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entagon 12"/>
          <p:cNvSpPr/>
          <p:nvPr/>
        </p:nvSpPr>
        <p:spPr>
          <a:xfrm>
            <a:off x="454176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2"/>
          <p:cNvSpPr/>
          <p:nvPr/>
        </p:nvSpPr>
        <p:spPr>
          <a:xfrm>
            <a:off x="511812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entagon 12"/>
          <p:cNvSpPr/>
          <p:nvPr/>
        </p:nvSpPr>
        <p:spPr>
          <a:xfrm>
            <a:off x="5694480" y="417348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2"/>
          <p:cNvSpPr/>
          <p:nvPr/>
        </p:nvSpPr>
        <p:spPr>
          <a:xfrm>
            <a:off x="6270480" y="417348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entagon 12"/>
          <p:cNvSpPr/>
          <p:nvPr/>
        </p:nvSpPr>
        <p:spPr>
          <a:xfrm>
            <a:off x="6846840" y="4173480"/>
            <a:ext cx="647640" cy="28728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62120" y="4187880"/>
            <a:ext cx="1440" cy="216000"/>
            <a:chOff x="1662120" y="4187880"/>
            <a:chExt cx="1440" cy="216000"/>
          </a:xfrm>
        </p:grpSpPr>
        <p:sp>
          <p:nvSpPr>
            <p:cNvPr id="170" name="Line 37"/>
            <p:cNvSpPr/>
            <p:nvPr/>
          </p:nvSpPr>
          <p:spPr>
            <a:xfrm>
              <a:off x="1662120" y="41878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662120" y="418788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36680" y="4187880"/>
            <a:ext cx="1800" cy="216000"/>
            <a:chOff x="2236680" y="4187880"/>
            <a:chExt cx="1800" cy="216000"/>
          </a:xfrm>
        </p:grpSpPr>
        <p:sp>
          <p:nvSpPr>
            <p:cNvPr id="173" name="Line 38"/>
            <p:cNvSpPr/>
            <p:nvPr/>
          </p:nvSpPr>
          <p:spPr>
            <a:xfrm>
              <a:off x="2236680" y="418788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236680" y="418788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813040" y="4187880"/>
            <a:ext cx="360" cy="216000"/>
            <a:chOff x="2813040" y="4187880"/>
            <a:chExt cx="360" cy="216000"/>
          </a:xfrm>
        </p:grpSpPr>
        <p:sp>
          <p:nvSpPr>
            <p:cNvPr id="176" name="Line 39"/>
            <p:cNvSpPr/>
            <p:nvPr/>
          </p:nvSpPr>
          <p:spPr>
            <a:xfrm>
              <a:off x="2813040" y="41878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813040" y="418788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89400" y="4187880"/>
            <a:ext cx="1440" cy="216000"/>
            <a:chOff x="3389400" y="4187880"/>
            <a:chExt cx="1440" cy="216000"/>
          </a:xfrm>
        </p:grpSpPr>
        <p:sp>
          <p:nvSpPr>
            <p:cNvPr id="179" name="Line 40"/>
            <p:cNvSpPr/>
            <p:nvPr/>
          </p:nvSpPr>
          <p:spPr>
            <a:xfrm>
              <a:off x="3389400" y="41878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389400" y="418788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965400" y="4187880"/>
            <a:ext cx="360" cy="216000"/>
            <a:chOff x="3965400" y="4187880"/>
            <a:chExt cx="360" cy="216000"/>
          </a:xfrm>
        </p:grpSpPr>
        <p:sp>
          <p:nvSpPr>
            <p:cNvPr id="182" name="Line 41"/>
            <p:cNvSpPr/>
            <p:nvPr/>
          </p:nvSpPr>
          <p:spPr>
            <a:xfrm>
              <a:off x="3965400" y="41878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965400" y="418788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541760" y="4187880"/>
            <a:ext cx="1800" cy="216000"/>
            <a:chOff x="4541760" y="4187880"/>
            <a:chExt cx="1800" cy="216000"/>
          </a:xfrm>
        </p:grpSpPr>
        <p:sp>
          <p:nvSpPr>
            <p:cNvPr id="185" name="Line 42"/>
            <p:cNvSpPr/>
            <p:nvPr/>
          </p:nvSpPr>
          <p:spPr>
            <a:xfrm>
              <a:off x="4541760" y="418788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541760" y="418788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18120" y="4187880"/>
            <a:ext cx="360" cy="216000"/>
            <a:chOff x="5118120" y="4187880"/>
            <a:chExt cx="360" cy="216000"/>
          </a:xfrm>
        </p:grpSpPr>
        <p:sp>
          <p:nvSpPr>
            <p:cNvPr id="188" name="Line 43"/>
            <p:cNvSpPr/>
            <p:nvPr/>
          </p:nvSpPr>
          <p:spPr>
            <a:xfrm>
              <a:off x="5118120" y="41878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118120" y="418788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694480" y="4187880"/>
            <a:ext cx="1440" cy="216000"/>
            <a:chOff x="5694480" y="4187880"/>
            <a:chExt cx="1440" cy="216000"/>
          </a:xfrm>
        </p:grpSpPr>
        <p:sp>
          <p:nvSpPr>
            <p:cNvPr id="191" name="Line 44"/>
            <p:cNvSpPr/>
            <p:nvPr/>
          </p:nvSpPr>
          <p:spPr>
            <a:xfrm>
              <a:off x="5694480" y="41878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694480" y="418788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0480" y="4187880"/>
            <a:ext cx="360" cy="216000"/>
            <a:chOff x="6270480" y="4187880"/>
            <a:chExt cx="360" cy="216000"/>
          </a:xfrm>
        </p:grpSpPr>
        <p:sp>
          <p:nvSpPr>
            <p:cNvPr id="194" name="Line 45"/>
            <p:cNvSpPr/>
            <p:nvPr/>
          </p:nvSpPr>
          <p:spPr>
            <a:xfrm>
              <a:off x="6270480" y="41878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6270480" y="418788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46840" y="4187880"/>
            <a:ext cx="1800" cy="216000"/>
            <a:chOff x="6846840" y="4187880"/>
            <a:chExt cx="1800" cy="216000"/>
          </a:xfrm>
        </p:grpSpPr>
        <p:sp>
          <p:nvSpPr>
            <p:cNvPr id="197" name="Line 46"/>
            <p:cNvSpPr/>
            <p:nvPr/>
          </p:nvSpPr>
          <p:spPr>
            <a:xfrm>
              <a:off x="6846840" y="418788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846840" y="418788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entagon 12"/>
          <p:cNvSpPr/>
          <p:nvPr/>
        </p:nvSpPr>
        <p:spPr>
          <a:xfrm>
            <a:off x="1085760" y="4175280"/>
            <a:ext cx="6264360" cy="2854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entagon 12"/>
          <p:cNvSpPr/>
          <p:nvPr/>
        </p:nvSpPr>
        <p:spPr>
          <a:xfrm>
            <a:off x="7494480" y="4173480"/>
            <a:ext cx="647640" cy="28728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0" y="0"/>
                </a:lnTo>
                <a:lnTo>
                  <a:pt x="21600" y="10800"/>
                </a:lnTo>
                <a:lnTo>
                  <a:pt x="175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entagon 12"/>
          <p:cNvSpPr/>
          <p:nvPr/>
        </p:nvSpPr>
        <p:spPr>
          <a:xfrm>
            <a:off x="5838840" y="266220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8" y="0"/>
                </a:lnTo>
                <a:lnTo>
                  <a:pt x="21600" y="10800"/>
                </a:lnTo>
                <a:lnTo>
                  <a:pt x="202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entagon 12"/>
          <p:cNvSpPr/>
          <p:nvPr/>
        </p:nvSpPr>
        <p:spPr>
          <a:xfrm>
            <a:off x="3462480" y="2662200"/>
            <a:ext cx="2447640" cy="28728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2"/>
          <p:cNvSpPr/>
          <p:nvPr/>
        </p:nvSpPr>
        <p:spPr>
          <a:xfrm>
            <a:off x="1085760" y="266220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06840" y="2662200"/>
            <a:ext cx="360" cy="216000"/>
            <a:chOff x="3606840" y="2662200"/>
            <a:chExt cx="360" cy="216000"/>
          </a:xfrm>
        </p:grpSpPr>
        <p:sp>
          <p:nvSpPr>
            <p:cNvPr id="205" name="Line 53"/>
            <p:cNvSpPr/>
            <p:nvPr/>
          </p:nvSpPr>
          <p:spPr>
            <a:xfrm>
              <a:off x="3606840" y="2662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606840" y="266220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entagon 12"/>
          <p:cNvSpPr/>
          <p:nvPr/>
        </p:nvSpPr>
        <p:spPr>
          <a:xfrm>
            <a:off x="1085760" y="2652840"/>
            <a:ext cx="4824360" cy="2872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5"/>
          <p:cNvSpPr/>
          <p:nvPr/>
        </p:nvSpPr>
        <p:spPr>
          <a:xfrm>
            <a:off x="122868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6"/>
          <p:cNvSpPr/>
          <p:nvPr/>
        </p:nvSpPr>
        <p:spPr>
          <a:xfrm>
            <a:off x="181116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7"/>
          <p:cNvSpPr/>
          <p:nvPr/>
        </p:nvSpPr>
        <p:spPr>
          <a:xfrm>
            <a:off x="239400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8"/>
          <p:cNvSpPr/>
          <p:nvPr/>
        </p:nvSpPr>
        <p:spPr>
          <a:xfrm>
            <a:off x="297648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9"/>
          <p:cNvSpPr/>
          <p:nvPr/>
        </p:nvSpPr>
        <p:spPr>
          <a:xfrm>
            <a:off x="355896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0"/>
          <p:cNvSpPr/>
          <p:nvPr/>
        </p:nvSpPr>
        <p:spPr>
          <a:xfrm>
            <a:off x="414180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1"/>
          <p:cNvSpPr/>
          <p:nvPr/>
        </p:nvSpPr>
        <p:spPr>
          <a:xfrm>
            <a:off x="472428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2"/>
          <p:cNvSpPr/>
          <p:nvPr/>
        </p:nvSpPr>
        <p:spPr>
          <a:xfrm>
            <a:off x="530676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3"/>
          <p:cNvSpPr/>
          <p:nvPr/>
        </p:nvSpPr>
        <p:spPr>
          <a:xfrm>
            <a:off x="5889600" y="417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468840" y="4175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7051320" y="4175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7540200" y="4152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121752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298584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9"/>
          <p:cNvSpPr/>
          <p:nvPr/>
        </p:nvSpPr>
        <p:spPr>
          <a:xfrm>
            <a:off x="386928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0"/>
          <p:cNvSpPr/>
          <p:nvPr/>
        </p:nvSpPr>
        <p:spPr>
          <a:xfrm>
            <a:off x="475524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1"/>
          <p:cNvSpPr/>
          <p:nvPr/>
        </p:nvSpPr>
        <p:spPr>
          <a:xfrm>
            <a:off x="564012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2"/>
          <p:cNvSpPr/>
          <p:nvPr/>
        </p:nvSpPr>
        <p:spPr>
          <a:xfrm>
            <a:off x="652356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3"/>
          <p:cNvSpPr/>
          <p:nvPr/>
        </p:nvSpPr>
        <p:spPr>
          <a:xfrm>
            <a:off x="740952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4"/>
          <p:cNvSpPr/>
          <p:nvPr/>
        </p:nvSpPr>
        <p:spPr>
          <a:xfrm>
            <a:off x="2100960" y="3381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5"/>
          <p:cNvSpPr/>
          <p:nvPr/>
        </p:nvSpPr>
        <p:spPr>
          <a:xfrm>
            <a:off x="1072080" y="2662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6"/>
          <p:cNvSpPr/>
          <p:nvPr/>
        </p:nvSpPr>
        <p:spPr>
          <a:xfrm>
            <a:off x="3593160" y="2662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7"/>
          <p:cNvSpPr/>
          <p:nvPr/>
        </p:nvSpPr>
        <p:spPr>
          <a:xfrm>
            <a:off x="5897160" y="2662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8"/>
          <p:cNvSpPr/>
          <p:nvPr/>
        </p:nvSpPr>
        <p:spPr>
          <a:xfrm>
            <a:off x="1072080" y="1870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9"/>
          <p:cNvSpPr/>
          <p:nvPr/>
        </p:nvSpPr>
        <p:spPr>
          <a:xfrm>
            <a:off x="4672440" y="1870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22936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5040" y="44280"/>
            <a:ext cx="6000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5f5f5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5f5f5f"/>
                </a:solidFill>
                <a:latin typeface="Arial"/>
                <a:ea typeface="宋体"/>
              </a:rPr>
              <a:t>图表数据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1" lang="en-US" sz="15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1" lang="en-US" sz="15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1" lang="en-US" sz="15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9b26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8B5-34B0-43D9-A185-0CA3A099E5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1:39Z</dcterms:modified>
  <cp:revision>10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