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E162-4215-42D9-95CC-1A084EC9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258F-B6B7-416E-9E60-D09FE9A2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9B2-1546-4F11-9017-5CC4A9CE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304-2F03-46AD-AE72-A6778DEA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19D-B92D-438C-9165-01266454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987-AA68-446E-B83F-A1D06394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6D31-2423-4CA9-B274-04BCDB8E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34DF-1E0A-49C5-8738-0EB9C146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D29-FEB7-4A73-8F58-652E0150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A375-E1C3-4983-9A81-91118ACF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4A2-B897-4EE8-9C9D-17C77FC8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982-3803-4E24-A2E7-D0DB9FFD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337F-E3EF-42A7-97AF-52B09FC6DA63}" type="slidenum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tubiao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0805000">
            <a:off x="4656240" y="2590560"/>
            <a:ext cx="1374840" cy="396216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2165"/>
              </a:gs>
              <a:gs pos="100000">
                <a:srgbClr val="003399"/>
              </a:gs>
            </a:gsLst>
            <a:lin ang="11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5461200">
            <a:off x="2512800" y="2055600"/>
            <a:ext cx="1374480" cy="396216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2165"/>
              </a:gs>
              <a:gs pos="100000">
                <a:srgbClr val="003399"/>
              </a:gs>
            </a:gsLst>
            <a:lin ang="53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4128200">
            <a:off x="4722840" y="229320"/>
            <a:ext cx="1374840" cy="39625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2165"/>
              </a:gs>
              <a:gs pos="100000">
                <a:srgbClr val="003399"/>
              </a:gs>
            </a:gsLst>
            <a:lin ang="182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110600" y="1079640"/>
            <a:ext cx="6547680" cy="5549760"/>
            <a:chOff x="1110600" y="1079640"/>
            <a:chExt cx="6547680" cy="5549760"/>
          </a:xfrm>
        </p:grpSpPr>
        <p:sp>
          <p:nvSpPr>
            <p:cNvPr id="45" name=""/>
            <p:cNvSpPr/>
            <p:nvPr/>
          </p:nvSpPr>
          <p:spPr>
            <a:xfrm>
              <a:off x="4419720" y="2666880"/>
              <a:ext cx="1374840" cy="39625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49450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6256200">
              <a:off x="2512800" y="1829880"/>
              <a:ext cx="1374840" cy="39625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b8957"/>
                </a:gs>
                <a:gs pos="100000">
                  <a:srgbClr val="003399"/>
                </a:gs>
              </a:gsLst>
              <a:lin ang="4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4922600">
              <a:off x="4875120" y="458280"/>
              <a:ext cx="1374840" cy="39621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28e8c"/>
                </a:gs>
                <a:gs pos="100000">
                  <a:srgbClr val="003399"/>
                </a:gs>
              </a:gsLst>
              <a:lin ang="174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809880" y="2666880"/>
            <a:ext cx="1600200" cy="1600200"/>
            <a:chOff x="3809880" y="2666880"/>
            <a:chExt cx="1600200" cy="1600200"/>
          </a:xfrm>
        </p:grpSpPr>
        <p:sp>
          <p:nvSpPr>
            <p:cNvPr id="49" name=""/>
            <p:cNvSpPr/>
            <p:nvPr/>
          </p:nvSpPr>
          <p:spPr>
            <a:xfrm>
              <a:off x="3809880" y="2666880"/>
              <a:ext cx="1600200" cy="16002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d0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92760" y="2693160"/>
              <a:ext cx="1234440" cy="603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156200" y="327672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68400" y="28954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800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05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800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97200" y="4952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800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6324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19040" y="533520"/>
            <a:ext cx="3486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图表完整模板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rot="20805000">
            <a:off x="4656240" y="2590560"/>
            <a:ext cx="1374840" cy="396216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2165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61200">
            <a:off x="2512800" y="2055600"/>
            <a:ext cx="1374480" cy="396216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21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4128200">
            <a:off x="4722840" y="229320"/>
            <a:ext cx="1374840" cy="39625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216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110600" y="1079640"/>
            <a:ext cx="6547680" cy="5549760"/>
            <a:chOff x="1110600" y="1079640"/>
            <a:chExt cx="6547680" cy="5549760"/>
          </a:xfrm>
        </p:grpSpPr>
        <p:sp>
          <p:nvSpPr>
            <p:cNvPr id="62" name=""/>
            <p:cNvSpPr/>
            <p:nvPr/>
          </p:nvSpPr>
          <p:spPr>
            <a:xfrm>
              <a:off x="4419720" y="2666880"/>
              <a:ext cx="1374840" cy="39625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a49450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6256200">
              <a:off x="2512800" y="1829880"/>
              <a:ext cx="1374840" cy="39625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5b89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4922600">
              <a:off x="4875120" y="458280"/>
              <a:ext cx="1374840" cy="39621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28e8c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809880" y="2666880"/>
            <a:ext cx="1600200" cy="1600200"/>
            <a:chOff x="3809880" y="2666880"/>
            <a:chExt cx="1600200" cy="1600200"/>
          </a:xfrm>
        </p:grpSpPr>
        <p:sp>
          <p:nvSpPr>
            <p:cNvPr id="66" name=""/>
            <p:cNvSpPr/>
            <p:nvPr/>
          </p:nvSpPr>
          <p:spPr>
            <a:xfrm>
              <a:off x="3809880" y="2666880"/>
              <a:ext cx="1600200" cy="16002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d0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92760" y="2693160"/>
              <a:ext cx="1234440" cy="603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156200" y="327672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68400" y="28954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800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1905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800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97200" y="4952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800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br>
              <a:rPr sz="44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PowerPoint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601992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5f4"/>
                </a:solidFill>
                <a:uFillTx/>
                <a:latin typeface="Arial"/>
                <a:hlinkClick r:id="rId1"/>
              </a:rPr>
              <a:t>ppt图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FE64-8251-415E-AEE9-D0D8CB9BAA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rot="14128200">
            <a:off x="4722840" y="229320"/>
            <a:ext cx="1374840" cy="39625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43010"/>
              </a:gs>
              <a:gs pos="100000">
                <a:srgbClr val="fefefe"/>
              </a:gs>
            </a:gsLst>
            <a:lin ang="182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4922600">
            <a:off x="4875120" y="458280"/>
            <a:ext cx="1374840" cy="39625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e6cd"/>
              </a:gs>
              <a:gs pos="100000">
                <a:srgbClr val="fefefe"/>
              </a:gs>
            </a:gsLst>
            <a:lin ang="174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br>
              <a:rPr sz="3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 2002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0805000">
            <a:off x="4540320" y="2666520"/>
            <a:ext cx="1374840" cy="39625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4516ae"/>
              </a:gs>
              <a:gs pos="100000">
                <a:srgbClr val="fefefe"/>
              </a:gs>
            </a:gsLst>
            <a:lin ang="11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61200">
            <a:off x="2436480" y="2055600"/>
            <a:ext cx="1374480" cy="39625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992"/>
              </a:gs>
              <a:gs pos="100000">
                <a:srgbClr val="fefefe"/>
              </a:gs>
            </a:gsLst>
            <a:lin ang="53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03800" y="2743200"/>
            <a:ext cx="1374840" cy="39625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d5ddf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6256200">
            <a:off x="2436480" y="1829880"/>
            <a:ext cx="1374840" cy="39625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eae8"/>
              </a:gs>
              <a:gs pos="100000">
                <a:srgbClr val="fefefe"/>
              </a:gs>
            </a:gsLst>
            <a:lin ang="4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595680" y="2709720"/>
            <a:ext cx="1600200" cy="1600200"/>
            <a:chOff x="3595680" y="2709720"/>
            <a:chExt cx="1600200" cy="1600200"/>
          </a:xfrm>
        </p:grpSpPr>
        <p:sp>
          <p:nvSpPr>
            <p:cNvPr id="85" name=""/>
            <p:cNvSpPr/>
            <p:nvPr/>
          </p:nvSpPr>
          <p:spPr>
            <a:xfrm>
              <a:off x="3595680" y="2709720"/>
              <a:ext cx="1600200" cy="160020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6d1e1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78560" y="2736000"/>
              <a:ext cx="1234440" cy="603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1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894480" y="332892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68400" y="28954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1905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5029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rot="14128200">
            <a:off x="4722840" y="229320"/>
            <a:ext cx="1374840" cy="39625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a4301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4922600">
            <a:off x="4875120" y="458280"/>
            <a:ext cx="1374840" cy="39625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e6c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br>
              <a:rPr sz="3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0805000">
            <a:off x="4540320" y="2666520"/>
            <a:ext cx="1374840" cy="39625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4516ae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61200">
            <a:off x="2436480" y="2055600"/>
            <a:ext cx="1374480" cy="39625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49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03800" y="2743200"/>
            <a:ext cx="1374840" cy="39625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d5ddf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6256200">
            <a:off x="2436480" y="1829880"/>
            <a:ext cx="1374840" cy="39625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a2ea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595680" y="2709720"/>
            <a:ext cx="1600200" cy="1600200"/>
            <a:chOff x="3595680" y="2709720"/>
            <a:chExt cx="1600200" cy="1600200"/>
          </a:xfrm>
        </p:grpSpPr>
        <p:sp>
          <p:nvSpPr>
            <p:cNvPr id="99" name=""/>
            <p:cNvSpPr/>
            <p:nvPr/>
          </p:nvSpPr>
          <p:spPr>
            <a:xfrm>
              <a:off x="3595680" y="2709720"/>
              <a:ext cx="1600200" cy="160020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6d1e1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78560" y="2736000"/>
              <a:ext cx="1234440" cy="603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1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894480" y="332892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68400" y="28954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1905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5029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19:09Z</dcterms:modified>
  <cp:revision>10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