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4085-099D-4CBF-9957-7F9A5458D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FDE8-91A7-41AD-822A-794AC8ED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0B61-4E32-49CE-9246-9B218BE0A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DCD8-4B8F-4A8F-A69D-DF41B2F42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4A1C-F7EC-4704-A8AB-4622D267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9C2B-2D1E-4DB4-AED3-E2A2EE72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AEE9-D4B0-4D51-97CE-8497D8F4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9546-AE08-450B-9FE3-0E60BB4D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EC6C-3C26-4F90-83BE-84495C05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7353-12AE-408F-BF04-833C9D1C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64DF-6B78-43E9-BC8A-501C8631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EE4A-A6BD-4A3B-B702-E57553480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B49CE-65EC-4820-9512-0C176FE99F6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54E7-6A07-4559-B5CA-E7E6E28A640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Users\Administrator\Desktop\46aa448b051e1ff6525de1b8093de8e4.jpg"/>
          <p:cNvPicPr/>
          <p:nvPr/>
        </p:nvPicPr>
        <p:blipFill>
          <a:blip r:embed="rId1"/>
          <a:stretch/>
        </p:blipFill>
        <p:spPr>
          <a:xfrm>
            <a:off x="0" y="-243000"/>
            <a:ext cx="9540720" cy="7272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90240" y="1054080"/>
            <a:ext cx="31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图片素材免费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C:\Users\Administrator\Desktop\91131a1d14fa1d75612b89f67ab382d3.jpg"/>
          <p:cNvPicPr/>
          <p:nvPr/>
        </p:nvPicPr>
        <p:blipFill>
          <a:blip r:embed="rId1"/>
          <a:stretch/>
        </p:blipFill>
        <p:spPr>
          <a:xfrm>
            <a:off x="-324000" y="-301680"/>
            <a:ext cx="9722160" cy="74088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4360" y="87624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B119-E75B-4F98-8DD9-862C26F20D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C:\Users\Administrator\Desktop\46aa448b051e1ff6525de1b8093de8e4.jpg"/>
          <p:cNvPicPr/>
          <p:nvPr/>
        </p:nvPicPr>
        <p:blipFill>
          <a:blip r:embed="rId1"/>
          <a:stretch/>
        </p:blipFill>
        <p:spPr>
          <a:xfrm>
            <a:off x="0" y="-55440"/>
            <a:ext cx="9144000" cy="69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2T09:31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5:46:22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