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C54-3FE4-464B-BAE5-CBFF208F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F66-E8B1-4A1A-8447-07715170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399-74B1-4476-A65C-282B49AD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4AA-4123-4D49-9776-D7BC2D1A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8C1-9DC9-402B-B8C2-EC66415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66A-59A8-455D-B309-1CFA478D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194-05D6-433C-9FC6-E988052C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9DA-C731-4E91-A943-2D2F10F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423-54FA-4939-BBC0-C05A6D6E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166-2DE4-40D9-A591-956B67D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E7F-27F3-437A-A2BB-90A43F82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2A3-F415-429C-9143-635F1D3A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1E03-2042-4B59-906D-722F3B3A7B8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34C2-8817-4438-8913-2A1CBED93F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http://www.eeppt.com/sucai/" TargetMode="External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8"/>
          <p:cNvGrpSpPr/>
          <p:nvPr/>
        </p:nvGrpSpPr>
        <p:grpSpPr>
          <a:xfrm>
            <a:off x="1038600" y="627840"/>
            <a:ext cx="7364160" cy="5658480"/>
            <a:chOff x="1038600" y="627840"/>
            <a:chExt cx="7364160" cy="5658480"/>
          </a:xfrm>
        </p:grpSpPr>
        <p:sp>
          <p:nvSpPr>
            <p:cNvPr id="42" name="同心圆 63"/>
            <p:cNvSpPr/>
            <p:nvPr/>
          </p:nvSpPr>
          <p:spPr>
            <a:xfrm rot="1800000">
              <a:off x="1172880" y="2238480"/>
              <a:ext cx="7095960" cy="2436840"/>
            </a:xfrm>
            <a:prstGeom prst="donut">
              <a:avLst>
                <a:gd name="adj" fmla="val 97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000000"/>
            </a:gradFill>
            <a:ln w="1908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同心圆 64"/>
            <p:cNvSpPr/>
            <p:nvPr/>
          </p:nvSpPr>
          <p:spPr>
            <a:xfrm flipH="1" rot="19800000">
              <a:off x="1172160" y="2238840"/>
              <a:ext cx="7095960" cy="2436840"/>
            </a:xfrm>
            <a:prstGeom prst="donut">
              <a:avLst>
                <a:gd name="adj" fmla="val 97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000000"/>
            </a:gradFill>
            <a:ln w="1908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24"/>
          <p:cNvGrpSpPr/>
          <p:nvPr/>
        </p:nvGrpSpPr>
        <p:grpSpPr>
          <a:xfrm>
            <a:off x="428760" y="1019160"/>
            <a:ext cx="2144520" cy="1481040"/>
            <a:chOff x="428760" y="1019160"/>
            <a:chExt cx="2144520" cy="1481040"/>
          </a:xfrm>
        </p:grpSpPr>
        <p:pic>
          <p:nvPicPr>
            <p:cNvPr id="45" name="Picture 4" descr="F:\work\第二\新图表\未标题-14副本.png"/>
            <p:cNvPicPr/>
            <p:nvPr/>
          </p:nvPicPr>
          <p:blipFill>
            <a:blip r:embed="rId1"/>
            <a:srcRect l="0" t="0" r="51" b="138"/>
            <a:stretch/>
          </p:blipFill>
          <p:spPr>
            <a:xfrm>
              <a:off x="590760" y="1019160"/>
              <a:ext cx="187668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67"/>
            <p:cNvSpPr/>
            <p:nvPr/>
          </p:nvSpPr>
          <p:spPr>
            <a:xfrm>
              <a:off x="428760" y="1370160"/>
              <a:ext cx="21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25"/>
          <p:cNvGrpSpPr/>
          <p:nvPr/>
        </p:nvGrpSpPr>
        <p:grpSpPr>
          <a:xfrm>
            <a:off x="6603840" y="981000"/>
            <a:ext cx="2144880" cy="1481040"/>
            <a:chOff x="6603840" y="981000"/>
            <a:chExt cx="2144880" cy="1481040"/>
          </a:xfrm>
        </p:grpSpPr>
        <p:pic>
          <p:nvPicPr>
            <p:cNvPr id="48" name="Picture 3" descr="F:\work\第二\新图表\未标题-13副本.png"/>
            <p:cNvPicPr/>
            <p:nvPr/>
          </p:nvPicPr>
          <p:blipFill>
            <a:blip r:embed="rId2"/>
            <a:srcRect l="0" t="0" r="51" b="138"/>
            <a:stretch/>
          </p:blipFill>
          <p:spPr>
            <a:xfrm>
              <a:off x="6755760" y="981000"/>
              <a:ext cx="18770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70"/>
            <p:cNvSpPr/>
            <p:nvPr/>
          </p:nvSpPr>
          <p:spPr>
            <a:xfrm>
              <a:off x="6603840" y="1366560"/>
              <a:ext cx="214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6"/>
          <p:cNvGrpSpPr/>
          <p:nvPr/>
        </p:nvGrpSpPr>
        <p:grpSpPr>
          <a:xfrm>
            <a:off x="428760" y="4564080"/>
            <a:ext cx="2144520" cy="1482840"/>
            <a:chOff x="428760" y="4564080"/>
            <a:chExt cx="2144520" cy="1482840"/>
          </a:xfrm>
        </p:grpSpPr>
        <p:pic>
          <p:nvPicPr>
            <p:cNvPr id="51" name="Picture 4" descr="F:\work\第二\新图表\未标题-14副本.png"/>
            <p:cNvPicPr/>
            <p:nvPr/>
          </p:nvPicPr>
          <p:blipFill>
            <a:blip r:embed="rId3"/>
            <a:srcRect l="0" t="0" r="51" b="138"/>
            <a:stretch/>
          </p:blipFill>
          <p:spPr>
            <a:xfrm>
              <a:off x="609480" y="4564080"/>
              <a:ext cx="187668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3"/>
            <p:cNvSpPr/>
            <p:nvPr/>
          </p:nvSpPr>
          <p:spPr>
            <a:xfrm>
              <a:off x="428760" y="4952880"/>
              <a:ext cx="21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7"/>
          <p:cNvGrpSpPr/>
          <p:nvPr/>
        </p:nvGrpSpPr>
        <p:grpSpPr>
          <a:xfrm>
            <a:off x="6603840" y="4564080"/>
            <a:ext cx="2144880" cy="1482840"/>
            <a:chOff x="6603840" y="4564080"/>
            <a:chExt cx="2144880" cy="1482840"/>
          </a:xfrm>
        </p:grpSpPr>
        <p:pic>
          <p:nvPicPr>
            <p:cNvPr id="54" name="Picture 3" descr="F:\work\第二\新图表\未标题-13副本.png"/>
            <p:cNvPicPr/>
            <p:nvPr/>
          </p:nvPicPr>
          <p:blipFill>
            <a:blip r:embed="rId4"/>
            <a:srcRect l="0" t="0" r="51" b="138"/>
            <a:stretch/>
          </p:blipFill>
          <p:spPr>
            <a:xfrm>
              <a:off x="6751080" y="4564080"/>
              <a:ext cx="187704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85"/>
            <p:cNvSpPr/>
            <p:nvPr/>
          </p:nvSpPr>
          <p:spPr>
            <a:xfrm>
              <a:off x="6603840" y="4952880"/>
              <a:ext cx="214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9"/>
          <p:cNvGrpSpPr/>
          <p:nvPr/>
        </p:nvGrpSpPr>
        <p:grpSpPr>
          <a:xfrm>
            <a:off x="3848040" y="1525680"/>
            <a:ext cx="1746360" cy="1387440"/>
            <a:chOff x="3848040" y="1525680"/>
            <a:chExt cx="1746360" cy="1387440"/>
          </a:xfrm>
        </p:grpSpPr>
        <p:pic>
          <p:nvPicPr>
            <p:cNvPr id="57" name="Picture 2" descr="F:\work\第二\新图表\未标题-12副本.png"/>
            <p:cNvPicPr/>
            <p:nvPr/>
          </p:nvPicPr>
          <p:blipFill>
            <a:blip r:embed="rId5"/>
            <a:stretch/>
          </p:blipFill>
          <p:spPr>
            <a:xfrm>
              <a:off x="3848040" y="1525680"/>
              <a:ext cx="174636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88"/>
            <p:cNvSpPr/>
            <p:nvPr/>
          </p:nvSpPr>
          <p:spPr>
            <a:xfrm>
              <a:off x="4146480" y="171612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"/>
          <p:cNvGrpSpPr/>
          <p:nvPr/>
        </p:nvGrpSpPr>
        <p:grpSpPr>
          <a:xfrm>
            <a:off x="3848040" y="4016520"/>
            <a:ext cx="1746360" cy="1388880"/>
            <a:chOff x="3848040" y="4016520"/>
            <a:chExt cx="1746360" cy="1388880"/>
          </a:xfrm>
        </p:grpSpPr>
        <p:pic>
          <p:nvPicPr>
            <p:cNvPr id="60" name="Picture 2" descr="F:\work\第二\新图表\未标题-12副本.png"/>
            <p:cNvPicPr/>
            <p:nvPr/>
          </p:nvPicPr>
          <p:blipFill>
            <a:blip r:embed="rId6"/>
            <a:stretch/>
          </p:blipFill>
          <p:spPr>
            <a:xfrm>
              <a:off x="3848040" y="4016520"/>
              <a:ext cx="174636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91"/>
            <p:cNvSpPr/>
            <p:nvPr/>
          </p:nvSpPr>
          <p:spPr>
            <a:xfrm>
              <a:off x="4146480" y="421920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0"/>
          <p:cNvGrpSpPr/>
          <p:nvPr/>
        </p:nvGrpSpPr>
        <p:grpSpPr>
          <a:xfrm>
            <a:off x="1927080" y="2768760"/>
            <a:ext cx="1747800" cy="1388880"/>
            <a:chOff x="1927080" y="2768760"/>
            <a:chExt cx="1747800" cy="1388880"/>
          </a:xfrm>
        </p:grpSpPr>
        <p:pic>
          <p:nvPicPr>
            <p:cNvPr id="63" name="Picture 5" descr="F:\work\第二\新图表\未标题-15副本.png"/>
            <p:cNvPicPr/>
            <p:nvPr/>
          </p:nvPicPr>
          <p:blipFill>
            <a:blip r:embed="rId7"/>
            <a:srcRect l="0" t="0" r="99" b="45"/>
            <a:stretch/>
          </p:blipFill>
          <p:spPr>
            <a:xfrm>
              <a:off x="1927080" y="2768760"/>
              <a:ext cx="17478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94"/>
            <p:cNvSpPr/>
            <p:nvPr/>
          </p:nvSpPr>
          <p:spPr>
            <a:xfrm>
              <a:off x="2162160" y="300168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1"/>
          <p:cNvGrpSpPr/>
          <p:nvPr/>
        </p:nvGrpSpPr>
        <p:grpSpPr>
          <a:xfrm>
            <a:off x="5757840" y="2768760"/>
            <a:ext cx="1747800" cy="1388880"/>
            <a:chOff x="5757840" y="2768760"/>
            <a:chExt cx="1747800" cy="1388880"/>
          </a:xfrm>
        </p:grpSpPr>
        <p:pic>
          <p:nvPicPr>
            <p:cNvPr id="66" name="Picture 5" descr="F:\work\第二\新图表\未标题-15副本.png"/>
            <p:cNvPicPr/>
            <p:nvPr/>
          </p:nvPicPr>
          <p:blipFill>
            <a:blip r:embed="rId8"/>
            <a:srcRect l="0" t="0" r="99" b="45"/>
            <a:stretch/>
          </p:blipFill>
          <p:spPr>
            <a:xfrm>
              <a:off x="5757840" y="2768760"/>
              <a:ext cx="17478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97"/>
            <p:cNvSpPr/>
            <p:nvPr/>
          </p:nvSpPr>
          <p:spPr>
            <a:xfrm>
              <a:off x="6019920" y="300168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4360" y="623736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90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9520" y="117360"/>
            <a:ext cx="36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制作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12" repeatCount="200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3507 0.04305 C -0.01701 -0.13278 -0.125 -0.31445 -0.26944 -0.45223 C -0.41371 -0.59 -0.56493 -0.65556 -0.68611 -0.64528 C -0.63402 -0.47 -0.52621 -0.28806 -0.38177 -0.15 C -0.2375 -0.01278 -0.08593 0.05305 0.03507 0.04305 Z">
                                      <p:cBhvr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12" repeatCount="2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1789 -0.01666 C -0.10451 -0.04222 -0.25555 0.01 -0.39652 0.14 C -0.53819 0.27 -0.64097 0.45167 -0.68836 0.63389 C -0.56597 0.66056 -0.41614 0.61 -0.2743 0.47889 C -0.13298 0.34834 -0.02934 0.16667 0.01789 -0.01666 Z">
                                      <p:cBhvr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12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3.33333E-006 C 0.12396 -0.02584 0.27518 0.02805 0.4184 0.16139 C 0.56059 0.29416 0.66511 0.47916 0.71285 0.66389 C 0.58854 0.68972 0.43646 0.63611 0.29358 0.50389 C 0.15156 0.37027 0.04722 0.18583 -1.66667E-006 3.33333E-006 Z">
                                      <p:cBhvr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12" repeatCount="2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5.55556E-007 -1.11111E-006 C 0.0467 -0.18333 0.14844 -0.365 0.2901 -0.49444 C 0.4309 -0.62222 0.58108 -0.67083 0.70365 -0.64222 C 0.65712 -0.45917 0.55434 -0.27611 0.41337 -0.14639 C 0.27222 -0.01805 0.12222 0.02889 5.55556E-007 -1.11111E-006 Z">
                                      <p:cBhvr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3" presetSubtype="52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3" presetSubtype="52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DE9-A0A0-47F0-AFBC-C6BBA792B8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09:06Z</dcterms:modified>
  <cp:revision>7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