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ECF-7EC1-45CD-A3F8-B0B3F29E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B3B-59B0-4854-99D6-70E6DE73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1BB-09E4-4D3F-B1F4-CCF9CEDC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024-1CB3-4432-8588-9BAD57F1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0D3-B69A-4D25-A5AF-FA2FE51A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67B-6764-4B19-B98C-1270DD4F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139-2CAA-4490-A20E-F8B3CD05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B79-38EE-4931-B7EB-23C84E32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4CD-6A97-44B3-BA22-36CB0F8E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7C6-8A39-49C9-8CB9-AA441670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590-7D9F-41FA-BD9D-A5F00E6E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B0B-AF07-499C-8029-609B320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665D-8CED-42AA-9EA6-5B461017D6B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DCAB-8CEC-4E20-95C6-A907ABA38A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749160" y="1576440"/>
            <a:ext cx="7566120" cy="4352760"/>
          </a:xfrm>
          <a:prstGeom prst="roundRect">
            <a:avLst>
              <a:gd name="adj" fmla="val 3227"/>
            </a:avLst>
          </a:prstGeom>
          <a:noFill/>
          <a:ln w="25560">
            <a:solidFill>
              <a:srgbClr val="5959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828720" y="1628640"/>
            <a:ext cx="7318440" cy="4089600"/>
          </a:xfrm>
          <a:prstGeom prst="roundRect">
            <a:avLst>
              <a:gd name="adj" fmla="val 3481"/>
            </a:avLst>
          </a:prstGeom>
          <a:solidFill>
            <a:srgbClr val="d8d8d8">
              <a:alpha val="60000"/>
            </a:srgbClr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27440" y="2789280"/>
            <a:ext cx="1440" cy="2367000"/>
            <a:chOff x="2827440" y="2789280"/>
            <a:chExt cx="1440" cy="2367000"/>
          </a:xfrm>
        </p:grpSpPr>
        <p:sp>
          <p:nvSpPr>
            <p:cNvPr id="44" name="Line 11"/>
            <p:cNvSpPr/>
            <p:nvPr/>
          </p:nvSpPr>
          <p:spPr>
            <a:xfrm>
              <a:off x="2827440" y="2789280"/>
              <a:ext cx="1440" cy="2367000"/>
            </a:xfrm>
            <a:prstGeom prst="line">
              <a:avLst/>
            </a:prstGeom>
            <a:ln w="15840">
              <a:solidFill>
                <a:srgbClr val="59595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2827440" y="2789280"/>
              <a:ext cx="1440" cy="23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524480" y="2789280"/>
            <a:ext cx="360" cy="2367000"/>
            <a:chOff x="4524480" y="2789280"/>
            <a:chExt cx="360" cy="2367000"/>
          </a:xfrm>
        </p:grpSpPr>
        <p:sp>
          <p:nvSpPr>
            <p:cNvPr id="47" name="Line 12"/>
            <p:cNvSpPr/>
            <p:nvPr/>
          </p:nvSpPr>
          <p:spPr>
            <a:xfrm>
              <a:off x="4524480" y="2789280"/>
              <a:ext cx="0" cy="2367000"/>
            </a:xfrm>
            <a:prstGeom prst="line">
              <a:avLst/>
            </a:prstGeom>
            <a:ln w="15840">
              <a:solidFill>
                <a:srgbClr val="59595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524480" y="2789280"/>
              <a:ext cx="360" cy="23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210360" y="2789280"/>
            <a:ext cx="3240" cy="2367000"/>
            <a:chOff x="6210360" y="2789280"/>
            <a:chExt cx="3240" cy="2367000"/>
          </a:xfrm>
        </p:grpSpPr>
        <p:sp>
          <p:nvSpPr>
            <p:cNvPr id="50" name="Line 13"/>
            <p:cNvSpPr/>
            <p:nvPr/>
          </p:nvSpPr>
          <p:spPr>
            <a:xfrm>
              <a:off x="6210360" y="2789280"/>
              <a:ext cx="3240" cy="2367000"/>
            </a:xfrm>
            <a:prstGeom prst="line">
              <a:avLst/>
            </a:prstGeom>
            <a:ln w="15840">
              <a:solidFill>
                <a:srgbClr val="59595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6210360" y="2789280"/>
              <a:ext cx="3240" cy="23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56"/>
          <p:cNvSpPr/>
          <p:nvPr/>
        </p:nvSpPr>
        <p:spPr>
          <a:xfrm>
            <a:off x="755280" y="52117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7"/>
          <p:cNvSpPr/>
          <p:nvPr/>
        </p:nvSpPr>
        <p:spPr>
          <a:xfrm>
            <a:off x="2449080" y="52117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8"/>
          <p:cNvSpPr/>
          <p:nvPr/>
        </p:nvSpPr>
        <p:spPr>
          <a:xfrm>
            <a:off x="4147920" y="52117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9"/>
          <p:cNvSpPr/>
          <p:nvPr/>
        </p:nvSpPr>
        <p:spPr>
          <a:xfrm>
            <a:off x="5852880" y="52117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5"/>
          <p:cNvSpPr/>
          <p:nvPr/>
        </p:nvSpPr>
        <p:spPr>
          <a:xfrm>
            <a:off x="1494000" y="5014800"/>
            <a:ext cx="488880" cy="147600"/>
          </a:xfrm>
          <a:prstGeom prst="rect">
            <a:avLst/>
          </a:prstGeom>
          <a:solidFill>
            <a:srgbClr val="00b0f0">
              <a:alpha val="89000"/>
            </a:srgbClr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6"/>
          <p:cNvSpPr/>
          <p:nvPr/>
        </p:nvSpPr>
        <p:spPr>
          <a:xfrm>
            <a:off x="3182760" y="4670280"/>
            <a:ext cx="486000" cy="492120"/>
          </a:xfrm>
          <a:prstGeom prst="rect">
            <a:avLst/>
          </a:prstGeom>
          <a:solidFill>
            <a:srgbClr val="00b0f0">
              <a:alpha val="89000"/>
            </a:srgbClr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7"/>
          <p:cNvSpPr/>
          <p:nvPr/>
        </p:nvSpPr>
        <p:spPr>
          <a:xfrm>
            <a:off x="4878360" y="4189320"/>
            <a:ext cx="490680" cy="973080"/>
          </a:xfrm>
          <a:prstGeom prst="rect">
            <a:avLst/>
          </a:prstGeom>
          <a:solidFill>
            <a:srgbClr val="00b0f0">
              <a:alpha val="89000"/>
            </a:srgbClr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8"/>
          <p:cNvSpPr/>
          <p:nvPr/>
        </p:nvSpPr>
        <p:spPr>
          <a:xfrm>
            <a:off x="6566040" y="4043520"/>
            <a:ext cx="488880" cy="1118880"/>
          </a:xfrm>
          <a:prstGeom prst="rect">
            <a:avLst/>
          </a:prstGeom>
          <a:solidFill>
            <a:srgbClr val="00b0f0">
              <a:alpha val="89000"/>
            </a:srgbClr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1982880" y="3948120"/>
            <a:ext cx="476280" cy="1214280"/>
          </a:xfrm>
          <a:prstGeom prst="rect">
            <a:avLst/>
          </a:prstGeom>
          <a:solidFill>
            <a:srgbClr val="ffc000">
              <a:alpha val="78000"/>
            </a:srgbClr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3668760" y="4138560"/>
            <a:ext cx="490320" cy="1023840"/>
          </a:xfrm>
          <a:prstGeom prst="rect">
            <a:avLst/>
          </a:prstGeom>
          <a:solidFill>
            <a:srgbClr val="ffc000">
              <a:alpha val="78000"/>
            </a:srgbClr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5369040" y="3551400"/>
            <a:ext cx="476280" cy="1611000"/>
          </a:xfrm>
          <a:prstGeom prst="rect">
            <a:avLst/>
          </a:prstGeom>
          <a:solidFill>
            <a:srgbClr val="ffc000">
              <a:alpha val="78000"/>
            </a:srgbClr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7054920" y="3844800"/>
            <a:ext cx="476280" cy="1317600"/>
          </a:xfrm>
          <a:prstGeom prst="rect">
            <a:avLst/>
          </a:prstGeom>
          <a:solidFill>
            <a:srgbClr val="ffc000">
              <a:alpha val="78000"/>
            </a:srgbClr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53"/>
          <p:cNvGrpSpPr/>
          <p:nvPr/>
        </p:nvGrpSpPr>
        <p:grpSpPr>
          <a:xfrm>
            <a:off x="1441440" y="1258920"/>
            <a:ext cx="6232680" cy="627120"/>
            <a:chOff x="1441440" y="1258920"/>
            <a:chExt cx="6232680" cy="627120"/>
          </a:xfrm>
        </p:grpSpPr>
        <p:sp>
          <p:nvSpPr>
            <p:cNvPr id="65" name="AutoShape 3"/>
            <p:cNvSpPr/>
            <p:nvPr/>
          </p:nvSpPr>
          <p:spPr>
            <a:xfrm>
              <a:off x="1441440" y="1258920"/>
              <a:ext cx="6232680" cy="627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"/>
            <p:cNvSpPr/>
            <p:nvPr/>
          </p:nvSpPr>
          <p:spPr>
            <a:xfrm>
              <a:off x="1441440" y="1353960"/>
              <a:ext cx="6231240" cy="43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3"/>
          <p:cNvSpPr/>
          <p:nvPr/>
        </p:nvSpPr>
        <p:spPr>
          <a:xfrm>
            <a:off x="3095640" y="13780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6"/>
          <p:cNvSpPr/>
          <p:nvPr/>
        </p:nvSpPr>
        <p:spPr>
          <a:xfrm>
            <a:off x="1102320" y="36241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6"/>
          <p:cNvSpPr/>
          <p:nvPr/>
        </p:nvSpPr>
        <p:spPr>
          <a:xfrm>
            <a:off x="623880" y="46944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562200" y="3813120"/>
            <a:ext cx="65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6"/>
          <p:cNvSpPr/>
          <p:nvPr/>
        </p:nvSpPr>
        <p:spPr>
          <a:xfrm>
            <a:off x="2306520" y="43401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6"/>
          <p:cNvSpPr/>
          <p:nvPr/>
        </p:nvSpPr>
        <p:spPr>
          <a:xfrm>
            <a:off x="5245200" y="3222720"/>
            <a:ext cx="65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6"/>
          <p:cNvSpPr/>
          <p:nvPr/>
        </p:nvSpPr>
        <p:spPr>
          <a:xfrm>
            <a:off x="3988440" y="38606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6"/>
          <p:cNvSpPr/>
          <p:nvPr/>
        </p:nvSpPr>
        <p:spPr>
          <a:xfrm>
            <a:off x="6951600" y="3519360"/>
            <a:ext cx="65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6"/>
          <p:cNvSpPr/>
          <p:nvPr/>
        </p:nvSpPr>
        <p:spPr>
          <a:xfrm>
            <a:off x="5684040" y="37148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93760" y="2301840"/>
            <a:ext cx="360" cy="2854440"/>
            <a:chOff x="1193760" y="2301840"/>
            <a:chExt cx="360" cy="2854440"/>
          </a:xfrm>
        </p:grpSpPr>
        <p:sp>
          <p:nvSpPr>
            <p:cNvPr id="77" name="Line 8"/>
            <p:cNvSpPr/>
            <p:nvPr/>
          </p:nvSpPr>
          <p:spPr>
            <a:xfrm>
              <a:off x="1193760" y="2301840"/>
              <a:ext cx="0" cy="2854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1193760" y="2301840"/>
              <a:ext cx="360" cy="285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184400" y="5154120"/>
            <a:ext cx="6613560" cy="1800"/>
            <a:chOff x="1184400" y="5154120"/>
            <a:chExt cx="6613560" cy="1800"/>
          </a:xfrm>
        </p:grpSpPr>
        <p:sp>
          <p:nvSpPr>
            <p:cNvPr id="80" name="Line 8"/>
            <p:cNvSpPr/>
            <p:nvPr/>
          </p:nvSpPr>
          <p:spPr>
            <a:xfrm flipV="1">
              <a:off x="1184400" y="5154120"/>
              <a:ext cx="6613560" cy="180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 rot="16200000">
              <a:off x="4490280" y="1848240"/>
              <a:ext cx="1800" cy="6613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68360" y="623736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8880" y="476280"/>
            <a:ext cx="41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柱状图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393372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6960" y="443232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373720"/>
            <a:ext cx="64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eeppt.com-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为您免费提供大量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下载包括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背景图片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素材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图表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动态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owerPoin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等各类幻灯片模板。让您轻松制作出精美好看的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57160" y="333360"/>
            <a:ext cx="1524240" cy="628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927520" y="333360"/>
            <a:ext cx="1428480" cy="590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775040" y="404640"/>
            <a:ext cx="1238400" cy="514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813720" y="485640"/>
            <a:ext cx="1143000" cy="476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16720" y="623736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3440" y="2382840"/>
            <a:ext cx="25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-3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  加最后一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4-6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  加两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7-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加三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以上  加四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91D-431A-4838-8951-6B49564CFE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10:19Z</dcterms:modified>
  <cp:revision>8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