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5EC-1B28-46E1-94D9-98219B84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8EB-FDC9-489D-9D8C-C8C34B47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4CE-EA6C-45C2-A24F-1CAD107F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A3C-DC6E-4083-BDE2-D784EEF7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B3C-D5EF-4168-B55A-FA131150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CFF-D616-404F-80C6-272AB929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0E9-D086-47BB-BBAA-F42CF844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1F0-0BF1-4120-ADAD-20F4F110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F1E-567E-4E7F-B564-ADC66987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3D7-30DD-42A5-B897-AC858CC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547-077D-4659-A961-35822F0F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ACB-EFAB-46F3-985B-D361B337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A381-C547-4258-B4C3-F82A17B241DA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my.com.cn/image1.asp?img=images/1hk005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my.com.cn/image1.asp?img=images/1hk003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my.com.cn/image1.asp?img=images/1hk002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my.com.cn/image1.asp?img=images/1hk00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984240" y="1844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92360" y="2276640"/>
            <a:ext cx="540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秦兵马俑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Picture 8" descr="F:\ppt\705a\小学四年级上册语文第十九课秦兵马俑PPT课件2\Nipic_4155754_20130530192042083314.jpg"/>
          <p:cNvPicPr/>
          <p:nvPr/>
        </p:nvPicPr>
        <p:blipFill>
          <a:blip r:embed="rId2"/>
          <a:srcRect l="1632" t="12335" r="1840" b="2149"/>
          <a:stretch/>
        </p:blipFill>
        <p:spPr>
          <a:xfrm>
            <a:off x="1116000" y="1989000"/>
            <a:ext cx="6985080" cy="4222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33960" y="47628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Times New Roman"/>
              </a:rPr>
              <a:t>秦兵马俑</a:t>
            </a:r>
            <a:r>
              <a:rPr b="0" lang="en-US" sz="4000" spc="-1" strike="noStrike">
                <a:solidFill>
                  <a:srgbClr val="3333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333300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6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武士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402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武士俑高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1.8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米左右，体格健壮，体态匀称。身上穿着战袍，套着铠甲，脚上蹬着前端向上翘起的战靴，头发一律挽成了偏向左侧的发髻。它们有的握着铜戈，有的擎着利剑，有的拿着盾牌。个个目光炯炯，双唇紧闭，神态严峻，好像一场大战就在眼前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" name="Picture 4" descr="ety24"/>
          <p:cNvPicPr/>
          <p:nvPr/>
        </p:nvPicPr>
        <p:blipFill>
          <a:blip r:embed="rId2"/>
          <a:stretch/>
        </p:blipFill>
        <p:spPr>
          <a:xfrm>
            <a:off x="6588000" y="1676520"/>
            <a:ext cx="2556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6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骑兵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骑兵俑上身着短甲，下身着紧口裤，足蹬长统马靴，右手执缰绳，左手持弓箭，随时准备上马冲杀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" name="Picture 4" descr="ety25"/>
          <p:cNvPicPr/>
          <p:nvPr/>
        </p:nvPicPr>
        <p:blipFill>
          <a:blip r:embed="rId2"/>
          <a:stretch/>
        </p:blipFill>
        <p:spPr>
          <a:xfrm>
            <a:off x="4038480" y="1676520"/>
            <a:ext cx="5105520" cy="4873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ty27"/>
          <p:cNvPicPr/>
          <p:nvPr/>
        </p:nvPicPr>
        <p:blipFill>
          <a:blip r:embed="rId2"/>
          <a:stretch/>
        </p:blipFill>
        <p:spPr>
          <a:xfrm>
            <a:off x="6227640" y="2781360"/>
            <a:ext cx="95904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6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车兵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225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车兵俑则分为驭手和军士，驭手居中而立，驾驭着战车，军士分列在战车两侧，保护着驭手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2" name="Picture 5" descr="tcm2"/>
          <p:cNvPicPr/>
          <p:nvPr/>
        </p:nvPicPr>
        <p:blipFill>
          <a:blip r:embed="rId3"/>
          <a:stretch/>
        </p:blipFill>
        <p:spPr>
          <a:xfrm>
            <a:off x="3995640" y="2060640"/>
            <a:ext cx="5486400" cy="3549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ety27"/>
          <p:cNvPicPr/>
          <p:nvPr/>
        </p:nvPicPr>
        <p:blipFill>
          <a:blip r:embed="rId4"/>
          <a:stretch/>
        </p:blipFill>
        <p:spPr>
          <a:xfrm>
            <a:off x="7596360" y="3068640"/>
            <a:ext cx="958680" cy="2514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6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弓弩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941480"/>
            <a:ext cx="31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弓弩手个个张弓搭箭，两眼盯着前方，或立，或跪，随时准备将利箭射出去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7" name="Picture 4" descr="ety2"/>
          <p:cNvPicPr/>
          <p:nvPr/>
        </p:nvPicPr>
        <p:blipFill>
          <a:blip r:embed="rId2"/>
          <a:stretch/>
        </p:blipFill>
        <p:spPr>
          <a:xfrm>
            <a:off x="6431040" y="457200"/>
            <a:ext cx="2712960" cy="609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ety1"/>
          <p:cNvPicPr/>
          <p:nvPr/>
        </p:nvPicPr>
        <p:blipFill>
          <a:blip r:embed="rId3"/>
          <a:stretch/>
        </p:blipFill>
        <p:spPr>
          <a:xfrm>
            <a:off x="3780000" y="1916280"/>
            <a:ext cx="2544480" cy="46479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>
            <a:hlinkClick r:id="" action="ppaction://hlinkshowjump?jump=lastslide"/>
          </p:cNvPr>
          <p:cNvSpPr/>
          <p:nvPr/>
        </p:nvSpPr>
        <p:spPr>
          <a:xfrm>
            <a:off x="8686800" y="6172200"/>
            <a:ext cx="228600" cy="38088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0880"/>
              <a:gd name="textAreaBottom" fmla="*/ 36684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50" y="34616"/>
                </a:lnTo>
                <a:lnTo>
                  <a:pt x="20250" y="135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350" y="34616"/>
                </a:lnTo>
                <a:lnTo>
                  <a:pt x="20250" y="3461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16"/>
                </a:lnTo>
                <a:close/>
              </a:path>
              <a:path fill="darken" w="21600" h="35966">
                <a:moveTo>
                  <a:pt x="14318" y="17983"/>
                </a:moveTo>
                <a:lnTo>
                  <a:pt x="3756" y="25027"/>
                </a:lnTo>
                <a:lnTo>
                  <a:pt x="3756" y="10939"/>
                </a:lnTo>
                <a:close/>
              </a:path>
              <a:path fill="darken" w="21600" h="35966">
                <a:moveTo>
                  <a:pt x="16173" y="10939"/>
                </a:moveTo>
                <a:lnTo>
                  <a:pt x="16173" y="25027"/>
                </a:lnTo>
                <a:lnTo>
                  <a:pt x="17844" y="25027"/>
                </a:lnTo>
                <a:lnTo>
                  <a:pt x="17844" y="1093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AutoShape 8">
            <a:hlinkClick r:id="" action="ppaction://hlinkshowjump?jump=firstslide"/>
          </p:cNvPr>
          <p:cNvSpPr/>
          <p:nvPr/>
        </p:nvSpPr>
        <p:spPr>
          <a:xfrm>
            <a:off x="7924680" y="6172200"/>
            <a:ext cx="304920" cy="38088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50" y="25625"/>
                </a:lnTo>
                <a:lnTo>
                  <a:pt x="20250" y="135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350" y="25625"/>
                </a:lnTo>
                <a:lnTo>
                  <a:pt x="20250" y="2562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25"/>
                </a:lnTo>
                <a:close/>
              </a:path>
              <a:path fill="darken" w="21600" h="26975">
                <a:moveTo>
                  <a:pt x="10800" y="6487"/>
                </a:moveTo>
                <a:lnTo>
                  <a:pt x="13390" y="9112"/>
                </a:lnTo>
                <a:lnTo>
                  <a:pt x="13390" y="7362"/>
                </a:lnTo>
                <a:lnTo>
                  <a:pt x="15175" y="7362"/>
                </a:lnTo>
                <a:lnTo>
                  <a:pt x="15175" y="10897"/>
                </a:lnTo>
                <a:lnTo>
                  <a:pt x="17800" y="13487"/>
                </a:lnTo>
                <a:lnTo>
                  <a:pt x="16138" y="13487"/>
                </a:lnTo>
                <a:lnTo>
                  <a:pt x="16138" y="20715"/>
                </a:lnTo>
                <a:lnTo>
                  <a:pt x="5463" y="20715"/>
                </a:lnTo>
                <a:lnTo>
                  <a:pt x="5463" y="13487"/>
                </a:lnTo>
                <a:lnTo>
                  <a:pt x="3800" y="13487"/>
                </a:lnTo>
                <a:close/>
              </a:path>
              <a:path fill="darkenLess" w="21600" h="26975">
                <a:moveTo>
                  <a:pt x="13390" y="9112"/>
                </a:moveTo>
                <a:lnTo>
                  <a:pt x="13390" y="7362"/>
                </a:lnTo>
                <a:lnTo>
                  <a:pt x="15175" y="7362"/>
                </a:lnTo>
                <a:lnTo>
                  <a:pt x="15175" y="10897"/>
                </a:lnTo>
                <a:close/>
              </a:path>
              <a:path fill="darkenLess" w="21600" h="26975">
                <a:moveTo>
                  <a:pt x="9873" y="17005"/>
                </a:moveTo>
                <a:lnTo>
                  <a:pt x="11728" y="17005"/>
                </a:lnTo>
                <a:lnTo>
                  <a:pt x="11728" y="20715"/>
                </a:lnTo>
                <a:lnTo>
                  <a:pt x="16138" y="20715"/>
                </a:lnTo>
                <a:lnTo>
                  <a:pt x="16138" y="13487"/>
                </a:lnTo>
                <a:lnTo>
                  <a:pt x="5463" y="13487"/>
                </a:lnTo>
                <a:lnTo>
                  <a:pt x="5463" y="20715"/>
                </a:lnTo>
                <a:lnTo>
                  <a:pt x="9873" y="20715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6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马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225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马俑与真马一般大小，一匹匹形体健壮，肌肉丰满。那跃跃欲试的样子，好像一声令下，就会撒开四蹄，腾空而起，踏上征程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3" name="Picture 4" descr="马"/>
          <p:cNvPicPr/>
          <p:nvPr/>
        </p:nvPicPr>
        <p:blipFill>
          <a:blip r:embed="rId2"/>
          <a:stretch/>
        </p:blipFill>
        <p:spPr>
          <a:xfrm>
            <a:off x="3200400" y="1933560"/>
            <a:ext cx="59436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1042920" y="4113360"/>
            <a:ext cx="4753080" cy="2185920"/>
            <a:chOff x="1042920" y="4113360"/>
            <a:chExt cx="4753080" cy="2185920"/>
          </a:xfrm>
        </p:grpSpPr>
        <p:pic>
          <p:nvPicPr>
            <p:cNvPr id="85" name="Picture 3" descr="斜头"/>
            <p:cNvPicPr/>
            <p:nvPr/>
          </p:nvPicPr>
          <p:blipFill>
            <a:blip r:embed="rId2"/>
            <a:stretch/>
          </p:blipFill>
          <p:spPr>
            <a:xfrm>
              <a:off x="1042920" y="4138920"/>
              <a:ext cx="156852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4"/>
            <p:cNvSpPr/>
            <p:nvPr/>
          </p:nvSpPr>
          <p:spPr>
            <a:xfrm>
              <a:off x="2592360" y="4113360"/>
              <a:ext cx="3203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有的紧握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拳，勇武干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练，好像随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时准备出征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7" name="Group 5"/>
          <p:cNvGrpSpPr/>
          <p:nvPr/>
        </p:nvGrpSpPr>
        <p:grpSpPr>
          <a:xfrm>
            <a:off x="179280" y="195120"/>
            <a:ext cx="4230720" cy="2457360"/>
            <a:chOff x="179280" y="195120"/>
            <a:chExt cx="4230720" cy="2457360"/>
          </a:xfrm>
        </p:grpSpPr>
        <p:pic>
          <p:nvPicPr>
            <p:cNvPr id="88" name="Picture 6" descr="深思"/>
            <p:cNvPicPr/>
            <p:nvPr/>
          </p:nvPicPr>
          <p:blipFill>
            <a:blip r:embed="rId3"/>
            <a:stretch/>
          </p:blipFill>
          <p:spPr>
            <a:xfrm>
              <a:off x="305280" y="195120"/>
              <a:ext cx="1420200" cy="14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179280" y="1583640"/>
              <a:ext cx="423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有的颔首低垂，若有所思，好像在考虑如何相互配合，战胜敌手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0" name="Group 9"/>
          <p:cNvGrpSpPr/>
          <p:nvPr/>
        </p:nvGrpSpPr>
        <p:grpSpPr>
          <a:xfrm>
            <a:off x="5074920" y="333360"/>
            <a:ext cx="3600720" cy="3431160"/>
            <a:chOff x="5074920" y="333360"/>
            <a:chExt cx="3600720" cy="3431160"/>
          </a:xfrm>
        </p:grpSpPr>
        <p:pic>
          <p:nvPicPr>
            <p:cNvPr id="91" name="Picture 10" descr="发火"/>
            <p:cNvPicPr/>
            <p:nvPr/>
          </p:nvPicPr>
          <p:blipFill>
            <a:blip r:embed="rId4"/>
            <a:stretch/>
          </p:blipFill>
          <p:spPr>
            <a:xfrm>
              <a:off x="5087880" y="407880"/>
              <a:ext cx="15714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1"/>
            <p:cNvSpPr/>
            <p:nvPr/>
          </p:nvSpPr>
          <p:spPr>
            <a:xfrm>
              <a:off x="5074920" y="333360"/>
              <a:ext cx="36007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有的眼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如铜铃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神态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重，好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5317200" y="2208240"/>
              <a:ext cx="2131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像在暗下决心，誓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为秦国统一天下做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殊死拼搏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4" name="Group 13"/>
          <p:cNvGrpSpPr/>
          <p:nvPr/>
        </p:nvGrpSpPr>
        <p:grpSpPr>
          <a:xfrm>
            <a:off x="5003640" y="4076640"/>
            <a:ext cx="3406680" cy="2197080"/>
            <a:chOff x="5003640" y="4076640"/>
            <a:chExt cx="3406680" cy="2197080"/>
          </a:xfrm>
        </p:grpSpPr>
        <p:pic>
          <p:nvPicPr>
            <p:cNvPr id="95" name="Picture 14" descr="远方"/>
            <p:cNvPicPr/>
            <p:nvPr/>
          </p:nvPicPr>
          <p:blipFill>
            <a:blip r:embed="rId5"/>
            <a:stretch/>
          </p:blipFill>
          <p:spPr>
            <a:xfrm>
              <a:off x="5003640" y="4186080"/>
              <a:ext cx="158580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5"/>
            <p:cNvSpPr/>
            <p:nvPr/>
          </p:nvSpPr>
          <p:spPr>
            <a:xfrm>
              <a:off x="7010280" y="4076640"/>
              <a:ext cx="1400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有的凝视远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方，好像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思念家乡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  <a:ea typeface="黑体"/>
                </a:rPr>
                <a:t>亲人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7" name="AutoShape 16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7440" y="618120"/>
            <a:ext cx="9534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神态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9" name="Picture 4" descr="低头"/>
          <p:cNvPicPr/>
          <p:nvPr/>
        </p:nvPicPr>
        <p:blipFill>
          <a:blip r:embed="rId2"/>
          <a:stretch/>
        </p:blipFill>
        <p:spPr>
          <a:xfrm>
            <a:off x="7230960" y="1916280"/>
            <a:ext cx="1401840" cy="201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愁眉苦脸"/>
          <p:cNvPicPr/>
          <p:nvPr/>
        </p:nvPicPr>
        <p:blipFill>
          <a:blip r:embed="rId3"/>
          <a:stretch/>
        </p:blipFill>
        <p:spPr>
          <a:xfrm>
            <a:off x="5008680" y="1916280"/>
            <a:ext cx="1352520" cy="201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出征"/>
          <p:cNvPicPr/>
          <p:nvPr/>
        </p:nvPicPr>
        <p:blipFill>
          <a:blip r:embed="rId4"/>
          <a:stretch/>
        </p:blipFill>
        <p:spPr>
          <a:xfrm>
            <a:off x="2817720" y="1916280"/>
            <a:ext cx="1271520" cy="201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打仗"/>
          <p:cNvPicPr/>
          <p:nvPr/>
        </p:nvPicPr>
        <p:blipFill>
          <a:blip r:embed="rId5"/>
          <a:stretch/>
        </p:blipFill>
        <p:spPr>
          <a:xfrm>
            <a:off x="622440" y="1916280"/>
            <a:ext cx="1292040" cy="201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光头"/>
          <p:cNvPicPr/>
          <p:nvPr/>
        </p:nvPicPr>
        <p:blipFill>
          <a:blip r:embed="rId6"/>
          <a:stretch/>
        </p:blipFill>
        <p:spPr>
          <a:xfrm>
            <a:off x="577800" y="4410000"/>
            <a:ext cx="1293840" cy="20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老头"/>
          <p:cNvPicPr/>
          <p:nvPr/>
        </p:nvPicPr>
        <p:blipFill>
          <a:blip r:embed="rId7"/>
          <a:stretch/>
        </p:blipFill>
        <p:spPr>
          <a:xfrm>
            <a:off x="5138640" y="4410000"/>
            <a:ext cx="1386000" cy="2016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">
            <a:hlinkClick r:id="" action="ppaction://hlinkshowjump?jump=nextslide"/>
          </p:cNvPr>
          <p:cNvSpPr/>
          <p:nvPr/>
        </p:nvSpPr>
        <p:spPr>
          <a:xfrm>
            <a:off x="8231040" y="6222960"/>
            <a:ext cx="51120" cy="203400"/>
          </a:xfrm>
          <a:custGeom>
            <a:avLst/>
            <a:gdLst>
              <a:gd name="textAreaLeft" fmla="*/ 2880 w 51120"/>
              <a:gd name="textAreaRight" fmla="*/ 48240 w 51120"/>
              <a:gd name="textAreaTop" fmla="*/ 2880 h 203400"/>
              <a:gd name="textAreaBottom" fmla="*/ 200520 h 203400"/>
            </a:gdLst>
            <a:ahLst/>
            <a:rect l="textAreaLeft" t="textAreaTop" r="textAreaRight" b="textAreaBottom"/>
            <a:pathLst>
              <a:path w="21600" h="85494">
                <a:moveTo>
                  <a:pt x="0" y="0"/>
                </a:moveTo>
                <a:lnTo>
                  <a:pt x="21600" y="0"/>
                </a:lnTo>
                <a:lnTo>
                  <a:pt x="21600" y="85494"/>
                </a:lnTo>
                <a:lnTo>
                  <a:pt x="0" y="85494"/>
                </a:lnTo>
                <a:close/>
              </a:path>
              <a:path fill="lightenLess" w="21600" h="8549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85494">
                <a:moveTo>
                  <a:pt x="21600" y="0"/>
                </a:moveTo>
                <a:lnTo>
                  <a:pt x="21600" y="85494"/>
                </a:lnTo>
                <a:lnTo>
                  <a:pt x="20250" y="84144"/>
                </a:lnTo>
                <a:lnTo>
                  <a:pt x="20250" y="1350"/>
                </a:lnTo>
                <a:close/>
              </a:path>
              <a:path fill="darkenLess" w="21600" h="85494">
                <a:moveTo>
                  <a:pt x="21600" y="85494"/>
                </a:moveTo>
                <a:lnTo>
                  <a:pt x="0" y="85494"/>
                </a:lnTo>
                <a:lnTo>
                  <a:pt x="1350" y="84144"/>
                </a:lnTo>
                <a:lnTo>
                  <a:pt x="20250" y="84144"/>
                </a:lnTo>
                <a:close/>
              </a:path>
              <a:path fill="lighten" w="21600" h="85494">
                <a:moveTo>
                  <a:pt x="0" y="85494"/>
                </a:moveTo>
                <a:lnTo>
                  <a:pt x="0" y="0"/>
                </a:lnTo>
                <a:lnTo>
                  <a:pt x="1350" y="1350"/>
                </a:lnTo>
                <a:lnTo>
                  <a:pt x="1350" y="84144"/>
                </a:lnTo>
                <a:close/>
              </a:path>
              <a:path fill="darken" w="21600" h="85494">
                <a:moveTo>
                  <a:pt x="3756" y="35703"/>
                </a:moveTo>
                <a:lnTo>
                  <a:pt x="17844" y="42747"/>
                </a:lnTo>
                <a:lnTo>
                  <a:pt x="3756" y="49791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AutoShape 11">
            <a:hlinkClick r:id="" action="ppaction://hlinkshowjump?jump=lastslide"/>
          </p:cNvPr>
          <p:cNvSpPr/>
          <p:nvPr/>
        </p:nvSpPr>
        <p:spPr>
          <a:xfrm>
            <a:off x="8540640" y="6222960"/>
            <a:ext cx="46080" cy="203400"/>
          </a:xfrm>
          <a:custGeom>
            <a:avLst/>
            <a:gdLst>
              <a:gd name="textAreaLeft" fmla="*/ 2880 w 46080"/>
              <a:gd name="textAreaRight" fmla="*/ 43200 w 46080"/>
              <a:gd name="textAreaTop" fmla="*/ 2880 h 203400"/>
              <a:gd name="textAreaBottom" fmla="*/ 200520 h 203400"/>
            </a:gdLst>
            <a:ahLst/>
            <a:rect l="textAreaLeft" t="textAreaTop" r="textAreaRight" b="textAreaBottom"/>
            <a:pathLst>
              <a:path w="21600" h="94772">
                <a:moveTo>
                  <a:pt x="0" y="0"/>
                </a:moveTo>
                <a:lnTo>
                  <a:pt x="21600" y="0"/>
                </a:lnTo>
                <a:lnTo>
                  <a:pt x="21600" y="94772"/>
                </a:lnTo>
                <a:lnTo>
                  <a:pt x="0" y="94772"/>
                </a:lnTo>
                <a:close/>
              </a:path>
              <a:path fill="lightenLess" w="21600" h="9477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94772">
                <a:moveTo>
                  <a:pt x="21600" y="0"/>
                </a:moveTo>
                <a:lnTo>
                  <a:pt x="21600" y="94772"/>
                </a:lnTo>
                <a:lnTo>
                  <a:pt x="20250" y="93422"/>
                </a:lnTo>
                <a:lnTo>
                  <a:pt x="20250" y="1350"/>
                </a:lnTo>
                <a:close/>
              </a:path>
              <a:path fill="darkenLess" w="21600" h="94772">
                <a:moveTo>
                  <a:pt x="21600" y="94772"/>
                </a:moveTo>
                <a:lnTo>
                  <a:pt x="0" y="94772"/>
                </a:lnTo>
                <a:lnTo>
                  <a:pt x="1350" y="93422"/>
                </a:lnTo>
                <a:lnTo>
                  <a:pt x="20250" y="93422"/>
                </a:lnTo>
                <a:close/>
              </a:path>
              <a:path fill="lighten" w="21600" h="94772">
                <a:moveTo>
                  <a:pt x="0" y="94772"/>
                </a:moveTo>
                <a:lnTo>
                  <a:pt x="0" y="0"/>
                </a:lnTo>
                <a:lnTo>
                  <a:pt x="1350" y="1350"/>
                </a:lnTo>
                <a:lnTo>
                  <a:pt x="1350" y="93422"/>
                </a:lnTo>
                <a:close/>
              </a:path>
              <a:path fill="darken" w="21600" h="94772">
                <a:moveTo>
                  <a:pt x="14318" y="47386"/>
                </a:moveTo>
                <a:lnTo>
                  <a:pt x="3756" y="54430"/>
                </a:lnTo>
                <a:lnTo>
                  <a:pt x="3756" y="40342"/>
                </a:lnTo>
                <a:close/>
              </a:path>
              <a:path fill="darken" w="21600" h="94772">
                <a:moveTo>
                  <a:pt x="16173" y="40342"/>
                </a:moveTo>
                <a:lnTo>
                  <a:pt x="16173" y="54430"/>
                </a:lnTo>
                <a:lnTo>
                  <a:pt x="17844" y="54430"/>
                </a:lnTo>
                <a:lnTo>
                  <a:pt x="17844" y="40342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AutoShape 12">
            <a:hlinkClick r:id="" action="ppaction://hlinkshowjump?jump=firstslide"/>
          </p:cNvPr>
          <p:cNvSpPr/>
          <p:nvPr/>
        </p:nvSpPr>
        <p:spPr>
          <a:xfrm>
            <a:off x="7773840" y="6222960"/>
            <a:ext cx="51120" cy="203400"/>
          </a:xfrm>
          <a:custGeom>
            <a:avLst/>
            <a:gdLst>
              <a:gd name="textAreaLeft" fmla="*/ 2880 w 51120"/>
              <a:gd name="textAreaRight" fmla="*/ 48240 w 51120"/>
              <a:gd name="textAreaTop" fmla="*/ 2880 h 203400"/>
              <a:gd name="textAreaBottom" fmla="*/ 200520 h 203400"/>
            </a:gdLst>
            <a:ahLst/>
            <a:rect l="textAreaLeft" t="textAreaTop" r="textAreaRight" b="textAreaBottom"/>
            <a:pathLst>
              <a:path w="21600" h="85494">
                <a:moveTo>
                  <a:pt x="0" y="0"/>
                </a:moveTo>
                <a:lnTo>
                  <a:pt x="21600" y="0"/>
                </a:lnTo>
                <a:lnTo>
                  <a:pt x="21600" y="85494"/>
                </a:lnTo>
                <a:lnTo>
                  <a:pt x="0" y="85494"/>
                </a:lnTo>
                <a:close/>
              </a:path>
              <a:path fill="lightenLess" w="21600" h="8549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85494">
                <a:moveTo>
                  <a:pt x="21600" y="0"/>
                </a:moveTo>
                <a:lnTo>
                  <a:pt x="21600" y="85494"/>
                </a:lnTo>
                <a:lnTo>
                  <a:pt x="20250" y="84144"/>
                </a:lnTo>
                <a:lnTo>
                  <a:pt x="20250" y="1350"/>
                </a:lnTo>
                <a:close/>
              </a:path>
              <a:path fill="darkenLess" w="21600" h="85494">
                <a:moveTo>
                  <a:pt x="21600" y="85494"/>
                </a:moveTo>
                <a:lnTo>
                  <a:pt x="0" y="85494"/>
                </a:lnTo>
                <a:lnTo>
                  <a:pt x="1350" y="84144"/>
                </a:lnTo>
                <a:lnTo>
                  <a:pt x="20250" y="84144"/>
                </a:lnTo>
                <a:close/>
              </a:path>
              <a:path fill="lighten" w="21600" h="85494">
                <a:moveTo>
                  <a:pt x="0" y="85494"/>
                </a:moveTo>
                <a:lnTo>
                  <a:pt x="0" y="0"/>
                </a:lnTo>
                <a:lnTo>
                  <a:pt x="1350" y="1350"/>
                </a:lnTo>
                <a:lnTo>
                  <a:pt x="1350" y="84144"/>
                </a:lnTo>
                <a:close/>
              </a:path>
              <a:path fill="darken" w="21600" h="85494">
                <a:moveTo>
                  <a:pt x="10800" y="35747"/>
                </a:moveTo>
                <a:lnTo>
                  <a:pt x="13390" y="38372"/>
                </a:lnTo>
                <a:lnTo>
                  <a:pt x="13390" y="36622"/>
                </a:lnTo>
                <a:lnTo>
                  <a:pt x="15175" y="36622"/>
                </a:lnTo>
                <a:lnTo>
                  <a:pt x="15175" y="40157"/>
                </a:lnTo>
                <a:lnTo>
                  <a:pt x="17800" y="42747"/>
                </a:lnTo>
                <a:lnTo>
                  <a:pt x="16138" y="42747"/>
                </a:lnTo>
                <a:lnTo>
                  <a:pt x="16138" y="49974"/>
                </a:lnTo>
                <a:lnTo>
                  <a:pt x="5463" y="49974"/>
                </a:lnTo>
                <a:lnTo>
                  <a:pt x="5463" y="42747"/>
                </a:lnTo>
                <a:lnTo>
                  <a:pt x="3800" y="42747"/>
                </a:lnTo>
                <a:close/>
              </a:path>
              <a:path fill="darkenLess" w="21600" h="85494">
                <a:moveTo>
                  <a:pt x="13390" y="38372"/>
                </a:moveTo>
                <a:lnTo>
                  <a:pt x="13390" y="36622"/>
                </a:lnTo>
                <a:lnTo>
                  <a:pt x="15175" y="36622"/>
                </a:lnTo>
                <a:lnTo>
                  <a:pt x="15175" y="40157"/>
                </a:lnTo>
                <a:close/>
              </a:path>
              <a:path fill="darkenLess" w="21600" h="85494">
                <a:moveTo>
                  <a:pt x="9873" y="46264"/>
                </a:moveTo>
                <a:lnTo>
                  <a:pt x="11728" y="46264"/>
                </a:lnTo>
                <a:lnTo>
                  <a:pt x="11728" y="49974"/>
                </a:lnTo>
                <a:lnTo>
                  <a:pt x="16138" y="49974"/>
                </a:lnTo>
                <a:lnTo>
                  <a:pt x="16138" y="42747"/>
                </a:lnTo>
                <a:lnTo>
                  <a:pt x="5463" y="42747"/>
                </a:lnTo>
                <a:lnTo>
                  <a:pt x="5463" y="49974"/>
                </a:lnTo>
                <a:lnTo>
                  <a:pt x="9873" y="49974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13" descr="思考"/>
          <p:cNvPicPr/>
          <p:nvPr/>
        </p:nvPicPr>
        <p:blipFill>
          <a:blip r:embed="rId8"/>
          <a:stretch/>
        </p:blipFill>
        <p:spPr>
          <a:xfrm>
            <a:off x="2828880" y="4410000"/>
            <a:ext cx="1351080" cy="201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铜铃"/>
          <p:cNvPicPr/>
          <p:nvPr/>
        </p:nvPicPr>
        <p:blipFill>
          <a:blip r:embed="rId9"/>
          <a:stretch/>
        </p:blipFill>
        <p:spPr>
          <a:xfrm>
            <a:off x="7316640" y="4410000"/>
            <a:ext cx="1270080" cy="20163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5">
            <a:hlinkClick r:id="" action="ppaction://hlinkshowjump?jump=nextslide"/>
          </p:cNvPr>
          <p:cNvSpPr/>
          <p:nvPr/>
        </p:nvSpPr>
        <p:spPr>
          <a:xfrm>
            <a:off x="8307360" y="6264360"/>
            <a:ext cx="50760" cy="162000"/>
          </a:xfrm>
          <a:custGeom>
            <a:avLst/>
            <a:gdLst>
              <a:gd name="textAreaLeft" fmla="*/ 2880 w 50760"/>
              <a:gd name="textAreaRight" fmla="*/ 47880 w 50760"/>
              <a:gd name="textAreaTop" fmla="*/ 2880 h 162000"/>
              <a:gd name="textAreaBottom" fmla="*/ 159120 h 162000"/>
            </a:gdLst>
            <a:ahLst/>
            <a:rect l="textAreaLeft" t="textAreaTop" r="textAreaRight" b="textAreaBottom"/>
            <a:pathLst>
              <a:path w="21600" h="68603">
                <a:moveTo>
                  <a:pt x="0" y="0"/>
                </a:moveTo>
                <a:lnTo>
                  <a:pt x="21600" y="0"/>
                </a:lnTo>
                <a:lnTo>
                  <a:pt x="21600" y="68603"/>
                </a:lnTo>
                <a:lnTo>
                  <a:pt x="0" y="68603"/>
                </a:lnTo>
                <a:close/>
              </a:path>
              <a:path fill="lightenLess" w="21600" h="686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68603">
                <a:moveTo>
                  <a:pt x="21600" y="0"/>
                </a:moveTo>
                <a:lnTo>
                  <a:pt x="21600" y="68603"/>
                </a:lnTo>
                <a:lnTo>
                  <a:pt x="20250" y="67253"/>
                </a:lnTo>
                <a:lnTo>
                  <a:pt x="20250" y="1350"/>
                </a:lnTo>
                <a:close/>
              </a:path>
              <a:path fill="darkenLess" w="21600" h="68603">
                <a:moveTo>
                  <a:pt x="21600" y="68603"/>
                </a:moveTo>
                <a:lnTo>
                  <a:pt x="0" y="68603"/>
                </a:lnTo>
                <a:lnTo>
                  <a:pt x="1350" y="67253"/>
                </a:lnTo>
                <a:lnTo>
                  <a:pt x="20250" y="67253"/>
                </a:lnTo>
                <a:close/>
              </a:path>
              <a:path fill="lighten" w="21600" h="68603">
                <a:moveTo>
                  <a:pt x="0" y="68603"/>
                </a:moveTo>
                <a:lnTo>
                  <a:pt x="0" y="0"/>
                </a:lnTo>
                <a:lnTo>
                  <a:pt x="1350" y="1350"/>
                </a:lnTo>
                <a:lnTo>
                  <a:pt x="1350" y="67253"/>
                </a:lnTo>
                <a:close/>
              </a:path>
              <a:path fill="darken" w="21600" h="68603">
                <a:moveTo>
                  <a:pt x="3756" y="27258"/>
                </a:moveTo>
                <a:lnTo>
                  <a:pt x="17844" y="34301"/>
                </a:lnTo>
                <a:lnTo>
                  <a:pt x="3756" y="41345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6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世界八大奇迹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埃及金字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巴比伦的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空中花园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以弗所（小亚细亚）的阿泰密斯神殿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奥林匹亚的宙斯神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哈利卡纳苏（小亚细亚）的摩索拉斯陵墓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地中海罗得岛上的太阳神巨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亚历山大城的灯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中国兵马俑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5E8-8C2E-44B0-BEA1-0BCD988038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6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自选题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请你谈谈学了本课后的感受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请你观察书上的插图（或上网寻找有关图片资料），展开想象，描述你感兴趣的一个兵马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>
            <a:hlinkClick r:id="rId2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7" name="Picture 6" descr="1"/>
          <p:cNvPicPr/>
          <p:nvPr/>
        </p:nvPicPr>
        <p:blipFill>
          <a:blip r:embed="rId3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>
            <a:hlinkClick r:id="rId2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9" name="Picture 6" descr="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>
            <a:hlinkClick r:id="rId2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1" name="Picture 6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>
            <a:hlinkClick r:id="rId2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3" name="Picture 6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"/>
          <p:cNvPicPr/>
          <p:nvPr/>
        </p:nvPicPr>
        <p:blipFill>
          <a:blip r:embed="rId2"/>
          <a:stretch/>
        </p:blipFill>
        <p:spPr>
          <a:xfrm>
            <a:off x="0" y="-87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6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自学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4-9</a:t>
            </a: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自然段，完成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读一读，划出描写兵马俑外貌、神态、动作的词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议一议，你喜欢哪一类兵马俑，为什么？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演一演，根据书上的描写摆一个造型，其他同学猜猜演的是什么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6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Arial"/>
              </a:rPr>
              <a:t>将军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402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将军俑身材魁梧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头戴金冠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身披铠甲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手握宝剑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昂首挺胸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站在队伍前列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像是在指挥身后的军吏和士兵行进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那神态自若的样子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一看就知道是久经沙场、身负重任的高级将领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yty23"/>
          <p:cNvPicPr/>
          <p:nvPr/>
        </p:nvPicPr>
        <p:blipFill>
          <a:blip r:embed="rId2"/>
          <a:stretch/>
        </p:blipFill>
        <p:spPr>
          <a:xfrm>
            <a:off x="7178760" y="1523880"/>
            <a:ext cx="1965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0:00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58:16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