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198-98EF-41D5-AB82-85D0D931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C7B-82EB-44A5-8FFC-DC48B48F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BD1-8723-40F0-852A-19F338A9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67D-E082-4ED4-A746-6DC6263F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5711-87B4-40F0-84FD-1B1025B7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2E27-AAED-4894-8E74-DC18DB9C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7CF2-E73D-4F63-9961-CD3D1D92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F14F-81C2-4E37-B493-260E1D30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5A80-69FE-47C7-993F-BD23293B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75C6-B2F8-43BE-8BCF-8BAA35A7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EF1-B26D-448B-9C2F-B30DBDA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5EF-4CF1-48FD-A075-23D693A9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90A2-7D1E-4CF5-AF10-6620721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91DB-F4EE-441F-842B-F4FDEE8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8B1B-9BFD-4AAC-84AB-9E9F50A0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6E69-D306-4075-A5C4-55C6A2C4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C1D8-187E-4BB1-98D7-181D9DF9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387C-1B48-4560-95D0-E462C364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24E1-156D-4FA1-A05C-FD98EF6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FF91-EDD9-4B12-B9A4-00AA428D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7AB0-999D-4C7D-8180-3B253795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B815-869D-4258-B03B-6748B2AD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7C2-1E15-4202-B462-41AA9FC0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6AC3-C8EA-44EE-8201-B57E69A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EA90-2A78-4A78-AF7A-34C594A5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AB20-09D6-47BD-8F99-8373E4F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A4A4-CCC1-4E61-B677-4E9C1140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0401-118D-4B70-962C-1BF9F87D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1515-D59F-4D2D-8F39-482E0EE2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36E5-062D-4FE2-A84C-9A957E3F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6F3E-4807-461A-8BCC-A467D9EA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104E-7E8E-4B91-92D9-B610C6A0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DAFD-9BF1-42E9-97FC-4D612E1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343-F0C6-4EFF-8BAD-ABCC01DF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7C4F-59D6-434C-96CE-98F294C1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D538-265A-429A-8FD7-07BB6E60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F4DE2-B2BD-4638-8F21-2E7628ED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EB11-2700-4B4C-9EAB-1A6E69AB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8CDD-4FED-43E8-9C41-010BDFF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DDBC-81CB-4969-9402-596E360B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2658-1278-482E-9B00-DF8A63F0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6DD57-B4E7-47BB-9BF5-95387271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C5448-F2B1-4626-A3E9-405DF176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1A7-9B5E-4CAC-92FB-CA99498F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288-20CD-44A8-9210-610F0D6C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CC2-E71F-477C-88CB-FD04D1E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80A-EFDB-46DC-BF5D-7A05A0D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CBC-3255-4EAA-95AB-F44D5729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1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DC9A-C9E2-41C2-9BD5-CA94CB3453EC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2D4C-D24A-43A3-A190-1643CD80E29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9348-8C2F-48AE-BE69-C1D9C5929F8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E185-8949-44DB-9404-6749DF365B8B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my.com.cn/image1.asp?img=images/1hk00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0"/>
          <p:cNvSpPr/>
          <p:nvPr/>
        </p:nvSpPr>
        <p:spPr>
          <a:xfrm>
            <a:off x="2637000" y="1844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Picture 4" descr="F:\ppt\705a\人教版四年级语文上册《秦兵马俑》PPT课件\48012_20130105222934513396_1 (1).jpg"/>
          <p:cNvPicPr/>
          <p:nvPr/>
        </p:nvPicPr>
        <p:blipFill>
          <a:blip r:embed="rId17"/>
          <a:srcRect l="0" t="3439" r="4832" b="0"/>
          <a:stretch/>
        </p:blipFill>
        <p:spPr>
          <a:xfrm>
            <a:off x="2627280" y="1700280"/>
            <a:ext cx="3313080" cy="480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78600" y="693720"/>
            <a:ext cx="297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imes New Roman"/>
              </a:rPr>
              <a:t>《秦兵马俑》</a:t>
            </a:r>
            <a:r>
              <a:rPr b="0" lang="en-US" sz="4000" spc="-1" strike="noStrike">
                <a:solidFill>
                  <a:srgbClr val="4d4d4d"/>
                </a:solidFill>
                <a:latin typeface="Times New Roman"/>
              </a:rPr>
              <a:t>PPT</a:t>
            </a:r>
            <a:r>
              <a:rPr b="0" lang="en-US" sz="4000" spc="-1" strike="noStrike">
                <a:solidFill>
                  <a:srgbClr val="4d4d4d"/>
                </a:solidFill>
                <a:latin typeface="Times New Roman"/>
              </a:rPr>
              <a:t>课件</a:t>
            </a:r>
            <a:r>
              <a:rPr b="0" lang="zh-CN" sz="4000" spc="-1" strike="noStrike">
                <a:solidFill>
                  <a:srgbClr val="4d4d4d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ety27"/>
          <p:cNvPicPr/>
          <p:nvPr/>
        </p:nvPicPr>
        <p:blipFill>
          <a:blip r:embed="rId2"/>
          <a:stretch/>
        </p:blipFill>
        <p:spPr>
          <a:xfrm>
            <a:off x="6227640" y="2781360"/>
            <a:ext cx="959040" cy="2514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车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车兵俑则分为驭手和军士，驭手居中而立，驾驭着战车，军士分列在战车两侧，保护着驭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5" name="Picture 5" descr="tcm2"/>
          <p:cNvPicPr/>
          <p:nvPr/>
        </p:nvPicPr>
        <p:blipFill>
          <a:blip r:embed="rId3"/>
          <a:stretch/>
        </p:blipFill>
        <p:spPr>
          <a:xfrm>
            <a:off x="3419640" y="2276640"/>
            <a:ext cx="5486400" cy="35496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7">
            <a:hlinkClick r:id="" action="ppaction://hlinkshowjump?jump=lastslide"/>
          </p:cNvPr>
          <p:cNvSpPr/>
          <p:nvPr/>
        </p:nvSpPr>
        <p:spPr>
          <a:xfrm>
            <a:off x="8686800" y="6248520"/>
            <a:ext cx="228600" cy="38088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0880"/>
              <a:gd name="textAreaBottom" fmla="*/ 36684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50" y="34616"/>
                </a:lnTo>
                <a:lnTo>
                  <a:pt x="20250" y="135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350" y="34616"/>
                </a:lnTo>
                <a:lnTo>
                  <a:pt x="20250" y="3461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16"/>
                </a:lnTo>
                <a:close/>
              </a:path>
              <a:path fill="darken" w="21600" h="35966">
                <a:moveTo>
                  <a:pt x="14318" y="17983"/>
                </a:moveTo>
                <a:lnTo>
                  <a:pt x="3756" y="25027"/>
                </a:lnTo>
                <a:lnTo>
                  <a:pt x="3756" y="10939"/>
                </a:lnTo>
                <a:close/>
              </a:path>
              <a:path fill="darken" w="21600" h="35966">
                <a:moveTo>
                  <a:pt x="16173" y="10939"/>
                </a:moveTo>
                <a:lnTo>
                  <a:pt x="16173" y="25027"/>
                </a:lnTo>
                <a:lnTo>
                  <a:pt x="17844" y="25027"/>
                </a:lnTo>
                <a:lnTo>
                  <a:pt x="17844" y="1093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8">
            <a:hlinkClick r:id="" action="ppaction://hlinkshowjump?jump=firstslide"/>
          </p:cNvPr>
          <p:cNvSpPr/>
          <p:nvPr/>
        </p:nvSpPr>
        <p:spPr>
          <a:xfrm>
            <a:off x="7924680" y="6248520"/>
            <a:ext cx="304920" cy="38088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50" y="25625"/>
                </a:lnTo>
                <a:lnTo>
                  <a:pt x="20250" y="135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350" y="25625"/>
                </a:lnTo>
                <a:lnTo>
                  <a:pt x="20250" y="2562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25"/>
                </a:lnTo>
                <a:close/>
              </a:path>
              <a:path fill="darken" w="21600" h="26975">
                <a:moveTo>
                  <a:pt x="10800" y="6487"/>
                </a:moveTo>
                <a:lnTo>
                  <a:pt x="13390" y="9112"/>
                </a:ln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lnTo>
                  <a:pt x="17800" y="13487"/>
                </a:lnTo>
                <a:lnTo>
                  <a:pt x="16138" y="13487"/>
                </a:lnTo>
                <a:lnTo>
                  <a:pt x="16138" y="20715"/>
                </a:lnTo>
                <a:lnTo>
                  <a:pt x="5463" y="20715"/>
                </a:lnTo>
                <a:lnTo>
                  <a:pt x="5463" y="13487"/>
                </a:lnTo>
                <a:lnTo>
                  <a:pt x="3800" y="13487"/>
                </a:lnTo>
                <a:close/>
              </a:path>
              <a:path fill="darkenLess" w="21600" h="26975">
                <a:moveTo>
                  <a:pt x="13390" y="9112"/>
                </a:move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close/>
              </a:path>
              <a:path fill="darkenLess" w="21600" h="26975">
                <a:moveTo>
                  <a:pt x="9873" y="17005"/>
                </a:moveTo>
                <a:lnTo>
                  <a:pt x="11728" y="17005"/>
                </a:lnTo>
                <a:lnTo>
                  <a:pt x="11728" y="20715"/>
                </a:lnTo>
                <a:lnTo>
                  <a:pt x="16138" y="20715"/>
                </a:lnTo>
                <a:lnTo>
                  <a:pt x="16138" y="13487"/>
                </a:lnTo>
                <a:lnTo>
                  <a:pt x="5463" y="13487"/>
                </a:lnTo>
                <a:lnTo>
                  <a:pt x="5463" y="20715"/>
                </a:lnTo>
                <a:lnTo>
                  <a:pt x="9873" y="20715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9" name="Picture 9" descr="ety27"/>
          <p:cNvPicPr/>
          <p:nvPr/>
        </p:nvPicPr>
        <p:blipFill>
          <a:blip r:embed="rId4"/>
          <a:stretch/>
        </p:blipFill>
        <p:spPr>
          <a:xfrm>
            <a:off x="7596360" y="3068640"/>
            <a:ext cx="958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弓弩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31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弓弩手个个张弓搭箭，两眼盯着前方，或立，或跪，随时准备将利箭射出去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Picture 4" descr="E:\王志科\1\兵马俑图片\ety2.jpg"/>
          <p:cNvPicPr/>
          <p:nvPr/>
        </p:nvPicPr>
        <p:blipFill>
          <a:blip r:embed="rId2"/>
          <a:stretch/>
        </p:blipFill>
        <p:spPr>
          <a:xfrm>
            <a:off x="6431040" y="457200"/>
            <a:ext cx="2712960" cy="6095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E:\王志科\1\兵马俑图片\ety1.jpg"/>
          <p:cNvPicPr/>
          <p:nvPr/>
        </p:nvPicPr>
        <p:blipFill>
          <a:blip r:embed="rId3"/>
          <a:stretch/>
        </p:blipFill>
        <p:spPr>
          <a:xfrm>
            <a:off x="3809880" y="1752480"/>
            <a:ext cx="25448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6">
            <a:hlinkClick r:id="" action="ppaction://hlinkshowjump?jump=nextslide"/>
          </p:cNvPr>
          <p:cNvSpPr/>
          <p:nvPr/>
        </p:nvSpPr>
        <p:spPr>
          <a:xfrm>
            <a:off x="8305920" y="6095880"/>
            <a:ext cx="304560" cy="45720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50" y="31063"/>
                </a:lnTo>
                <a:lnTo>
                  <a:pt x="20250" y="135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350" y="31063"/>
                </a:lnTo>
                <a:lnTo>
                  <a:pt x="20250" y="3106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63"/>
                </a:lnTo>
                <a:close/>
              </a:path>
              <a:path fill="darken" w="21600" h="32413">
                <a:moveTo>
                  <a:pt x="3756" y="9163"/>
                </a:moveTo>
                <a:lnTo>
                  <a:pt x="17844" y="16206"/>
                </a:lnTo>
                <a:lnTo>
                  <a:pt x="3756" y="2325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7">
            <a:hlinkClick r:id="" action="ppaction://hlinkshowjump?jump=lastslide"/>
          </p:cNvPr>
          <p:cNvSpPr/>
          <p:nvPr/>
        </p:nvSpPr>
        <p:spPr>
          <a:xfrm>
            <a:off x="8686800" y="6172200"/>
            <a:ext cx="228600" cy="38088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0880"/>
              <a:gd name="textAreaBottom" fmla="*/ 36684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50" y="34616"/>
                </a:lnTo>
                <a:lnTo>
                  <a:pt x="20250" y="135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350" y="34616"/>
                </a:lnTo>
                <a:lnTo>
                  <a:pt x="20250" y="3461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16"/>
                </a:lnTo>
                <a:close/>
              </a:path>
              <a:path fill="darken" w="21600" h="35966">
                <a:moveTo>
                  <a:pt x="14318" y="17983"/>
                </a:moveTo>
                <a:lnTo>
                  <a:pt x="3756" y="25027"/>
                </a:lnTo>
                <a:lnTo>
                  <a:pt x="3756" y="10939"/>
                </a:lnTo>
                <a:close/>
              </a:path>
              <a:path fill="darken" w="21600" h="35966">
                <a:moveTo>
                  <a:pt x="16173" y="10939"/>
                </a:moveTo>
                <a:lnTo>
                  <a:pt x="16173" y="25027"/>
                </a:lnTo>
                <a:lnTo>
                  <a:pt x="17844" y="25027"/>
                </a:lnTo>
                <a:lnTo>
                  <a:pt x="17844" y="1093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8">
            <a:hlinkClick r:id="" action="ppaction://hlinkshowjump?jump=firstslide"/>
          </p:cNvPr>
          <p:cNvSpPr/>
          <p:nvPr/>
        </p:nvSpPr>
        <p:spPr>
          <a:xfrm>
            <a:off x="7924680" y="6172200"/>
            <a:ext cx="304920" cy="38088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50" y="25625"/>
                </a:lnTo>
                <a:lnTo>
                  <a:pt x="20250" y="135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350" y="25625"/>
                </a:lnTo>
                <a:lnTo>
                  <a:pt x="20250" y="2562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25"/>
                </a:lnTo>
                <a:close/>
              </a:path>
              <a:path fill="darken" w="21600" h="26975">
                <a:moveTo>
                  <a:pt x="10800" y="6487"/>
                </a:moveTo>
                <a:lnTo>
                  <a:pt x="13390" y="9112"/>
                </a:ln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lnTo>
                  <a:pt x="17800" y="13487"/>
                </a:lnTo>
                <a:lnTo>
                  <a:pt x="16138" y="13487"/>
                </a:lnTo>
                <a:lnTo>
                  <a:pt x="16138" y="20715"/>
                </a:lnTo>
                <a:lnTo>
                  <a:pt x="5463" y="20715"/>
                </a:lnTo>
                <a:lnTo>
                  <a:pt x="5463" y="13487"/>
                </a:lnTo>
                <a:lnTo>
                  <a:pt x="3800" y="13487"/>
                </a:lnTo>
                <a:close/>
              </a:path>
              <a:path fill="darkenLess" w="21600" h="26975">
                <a:moveTo>
                  <a:pt x="13390" y="9112"/>
                </a:move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close/>
              </a:path>
              <a:path fill="darkenLess" w="21600" h="26975">
                <a:moveTo>
                  <a:pt x="9873" y="17005"/>
                </a:moveTo>
                <a:lnTo>
                  <a:pt x="11728" y="17005"/>
                </a:lnTo>
                <a:lnTo>
                  <a:pt x="11728" y="20715"/>
                </a:lnTo>
                <a:lnTo>
                  <a:pt x="16138" y="20715"/>
                </a:lnTo>
                <a:lnTo>
                  <a:pt x="16138" y="13487"/>
                </a:lnTo>
                <a:lnTo>
                  <a:pt x="5463" y="13487"/>
                </a:lnTo>
                <a:lnTo>
                  <a:pt x="5463" y="20715"/>
                </a:lnTo>
                <a:lnTo>
                  <a:pt x="9873" y="20715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马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马俑与真马一般大小，一匹匹形体健壮，肌肉丰满。那跃跃欲试的样子，好像一声令下，就会撒开四蹄，腾空而起，踏上征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4" descr="E:\王志科\1\兵马俑图片\马.jpg"/>
          <p:cNvPicPr/>
          <p:nvPr/>
        </p:nvPicPr>
        <p:blipFill>
          <a:blip r:embed="rId2"/>
          <a:stretch/>
        </p:blipFill>
        <p:spPr>
          <a:xfrm>
            <a:off x="3200400" y="1933560"/>
            <a:ext cx="5943600" cy="4567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50" y="25682"/>
                </a:lnTo>
                <a:lnTo>
                  <a:pt x="20250" y="135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350" y="25682"/>
                </a:lnTo>
                <a:lnTo>
                  <a:pt x="20250" y="2568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82"/>
                </a:lnTo>
                <a:close/>
              </a:path>
              <a:path fill="darken" w="21600" h="27032">
                <a:moveTo>
                  <a:pt x="3756" y="6472"/>
                </a:moveTo>
                <a:lnTo>
                  <a:pt x="17844" y="13516"/>
                </a:lnTo>
                <a:lnTo>
                  <a:pt x="3756" y="2056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1240"/>
              <a:gd name="textAreaBottom" fmla="*/ 36720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50" y="34650"/>
                </a:lnTo>
                <a:lnTo>
                  <a:pt x="20250" y="135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350" y="34650"/>
                </a:lnTo>
                <a:lnTo>
                  <a:pt x="20250" y="3465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50"/>
                </a:lnTo>
                <a:close/>
              </a:path>
              <a:path fill="darken" w="21600" h="36000">
                <a:moveTo>
                  <a:pt x="14318" y="18000"/>
                </a:moveTo>
                <a:lnTo>
                  <a:pt x="3756" y="25044"/>
                </a:lnTo>
                <a:lnTo>
                  <a:pt x="3756" y="10956"/>
                </a:lnTo>
                <a:close/>
              </a:path>
              <a:path fill="darken" w="21600" h="36000">
                <a:moveTo>
                  <a:pt x="16173" y="10956"/>
                </a:moveTo>
                <a:lnTo>
                  <a:pt x="16173" y="25044"/>
                </a:lnTo>
                <a:lnTo>
                  <a:pt x="17844" y="25044"/>
                </a:lnTo>
                <a:lnTo>
                  <a:pt x="17844" y="10956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50" y="25650"/>
                </a:lnTo>
                <a:lnTo>
                  <a:pt x="20250" y="135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350" y="25650"/>
                </a:lnTo>
                <a:lnTo>
                  <a:pt x="20250" y="2565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0"/>
                </a:lnTo>
                <a:close/>
              </a:path>
              <a:path fill="darken" w="21600" h="27000">
                <a:moveTo>
                  <a:pt x="10800" y="6500"/>
                </a:moveTo>
                <a:lnTo>
                  <a:pt x="13390" y="9125"/>
                </a:ln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lnTo>
                  <a:pt x="17800" y="13500"/>
                </a:lnTo>
                <a:lnTo>
                  <a:pt x="16138" y="13500"/>
                </a:lnTo>
                <a:lnTo>
                  <a:pt x="16138" y="20728"/>
                </a:lnTo>
                <a:lnTo>
                  <a:pt x="5463" y="20728"/>
                </a:lnTo>
                <a:lnTo>
                  <a:pt x="5463" y="13500"/>
                </a:lnTo>
                <a:lnTo>
                  <a:pt x="3800" y="13500"/>
                </a:lnTo>
                <a:close/>
              </a:path>
              <a:path fill="darkenLess" w="21600" h="27000">
                <a:moveTo>
                  <a:pt x="13390" y="9125"/>
                </a:move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close/>
              </a:path>
              <a:path fill="darkenLess" w="21600" h="27000">
                <a:moveTo>
                  <a:pt x="9873" y="17018"/>
                </a:moveTo>
                <a:lnTo>
                  <a:pt x="11728" y="17018"/>
                </a:lnTo>
                <a:lnTo>
                  <a:pt x="11728" y="20728"/>
                </a:lnTo>
                <a:lnTo>
                  <a:pt x="16138" y="20728"/>
                </a:lnTo>
                <a:lnTo>
                  <a:pt x="16138" y="13500"/>
                </a:lnTo>
                <a:lnTo>
                  <a:pt x="5463" y="13500"/>
                </a:lnTo>
                <a:lnTo>
                  <a:pt x="5463" y="20728"/>
                </a:lnTo>
                <a:lnTo>
                  <a:pt x="9873" y="20728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1042920" y="4113360"/>
            <a:ext cx="4753080" cy="2185920"/>
            <a:chOff x="1042920" y="4113360"/>
            <a:chExt cx="4753080" cy="2185920"/>
          </a:xfrm>
        </p:grpSpPr>
        <p:pic>
          <p:nvPicPr>
            <p:cNvPr id="234" name="Picture 3" descr="斜头"/>
            <p:cNvPicPr/>
            <p:nvPr/>
          </p:nvPicPr>
          <p:blipFill>
            <a:blip r:embed="rId2"/>
            <a:stretch/>
          </p:blipFill>
          <p:spPr>
            <a:xfrm>
              <a:off x="1042920" y="4138920"/>
              <a:ext cx="156852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4"/>
            <p:cNvSpPr/>
            <p:nvPr/>
          </p:nvSpPr>
          <p:spPr>
            <a:xfrm>
              <a:off x="2592360" y="4113360"/>
              <a:ext cx="3203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紧握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拳，勇武干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练，好像随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时准备出征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" name="Group 5"/>
          <p:cNvGrpSpPr/>
          <p:nvPr/>
        </p:nvGrpSpPr>
        <p:grpSpPr>
          <a:xfrm>
            <a:off x="900000" y="577800"/>
            <a:ext cx="3962520" cy="2453040"/>
            <a:chOff x="900000" y="577800"/>
            <a:chExt cx="3962520" cy="2453040"/>
          </a:xfrm>
        </p:grpSpPr>
        <p:pic>
          <p:nvPicPr>
            <p:cNvPr id="237" name="Picture 6" descr="深思"/>
            <p:cNvPicPr/>
            <p:nvPr/>
          </p:nvPicPr>
          <p:blipFill>
            <a:blip r:embed="rId3"/>
            <a:stretch/>
          </p:blipFill>
          <p:spPr>
            <a:xfrm>
              <a:off x="1260360" y="793800"/>
              <a:ext cx="15415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7"/>
            <p:cNvSpPr/>
            <p:nvPr/>
          </p:nvSpPr>
          <p:spPr>
            <a:xfrm>
              <a:off x="1404720" y="577800"/>
              <a:ext cx="3457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颔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首低垂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若有所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思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900000" y="244944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像在考虑如何相互配合，战胜敌手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0" name="Group 9"/>
          <p:cNvGrpSpPr/>
          <p:nvPr/>
        </p:nvGrpSpPr>
        <p:grpSpPr>
          <a:xfrm>
            <a:off x="5074920" y="333360"/>
            <a:ext cx="3600720" cy="3431160"/>
            <a:chOff x="5074920" y="333360"/>
            <a:chExt cx="3600720" cy="3431160"/>
          </a:xfrm>
        </p:grpSpPr>
        <p:pic>
          <p:nvPicPr>
            <p:cNvPr id="241" name="Picture 10" descr="发火"/>
            <p:cNvPicPr/>
            <p:nvPr/>
          </p:nvPicPr>
          <p:blipFill>
            <a:blip r:embed="rId4"/>
            <a:stretch/>
          </p:blipFill>
          <p:spPr>
            <a:xfrm>
              <a:off x="5087880" y="407880"/>
              <a:ext cx="15714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1"/>
            <p:cNvSpPr/>
            <p:nvPr/>
          </p:nvSpPr>
          <p:spPr>
            <a:xfrm>
              <a:off x="5074920" y="333360"/>
              <a:ext cx="36007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眼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铜铃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神态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重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Text Box 12"/>
            <p:cNvSpPr/>
            <p:nvPr/>
          </p:nvSpPr>
          <p:spPr>
            <a:xfrm>
              <a:off x="5317200" y="2208240"/>
              <a:ext cx="2131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像在暗下决心，誓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为秦国统一天下做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殊死拼搏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5003640" y="4076640"/>
            <a:ext cx="3406680" cy="2197080"/>
            <a:chOff x="5003640" y="4076640"/>
            <a:chExt cx="3406680" cy="2197080"/>
          </a:xfrm>
        </p:grpSpPr>
        <p:pic>
          <p:nvPicPr>
            <p:cNvPr id="245" name="Picture 14" descr="远方"/>
            <p:cNvPicPr/>
            <p:nvPr/>
          </p:nvPicPr>
          <p:blipFill>
            <a:blip r:embed="rId5"/>
            <a:stretch/>
          </p:blipFill>
          <p:spPr>
            <a:xfrm>
              <a:off x="5003640" y="4186080"/>
              <a:ext cx="158580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5"/>
            <p:cNvSpPr/>
            <p:nvPr/>
          </p:nvSpPr>
          <p:spPr>
            <a:xfrm>
              <a:off x="7010280" y="4076640"/>
              <a:ext cx="1400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凝视远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方，好像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思念家乡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亲人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7" name="AutoShape 1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神态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1" name="Picture 4" descr="E:\王志科\1\兵马俑图片\低头.jpg"/>
          <p:cNvPicPr/>
          <p:nvPr/>
        </p:nvPicPr>
        <p:blipFill>
          <a:blip r:embed="rId2"/>
          <a:stretch/>
        </p:blipFill>
        <p:spPr>
          <a:xfrm>
            <a:off x="6781680" y="0"/>
            <a:ext cx="2382840" cy="3429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E:\王志科\1\兵马俑图片\愁眉苦脸.jpg"/>
          <p:cNvPicPr/>
          <p:nvPr/>
        </p:nvPicPr>
        <p:blipFill>
          <a:blip r:embed="rId3"/>
          <a:stretch/>
        </p:blipFill>
        <p:spPr>
          <a:xfrm>
            <a:off x="4572000" y="0"/>
            <a:ext cx="23004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E:\王志科\1\兵马俑图片\出征.jpg"/>
          <p:cNvPicPr/>
          <p:nvPr/>
        </p:nvPicPr>
        <p:blipFill>
          <a:blip r:embed="rId4"/>
          <a:stretch/>
        </p:blipFill>
        <p:spPr>
          <a:xfrm>
            <a:off x="2438280" y="0"/>
            <a:ext cx="216216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E:\王志科\1\兵马俑图片\打仗.jpg"/>
          <p:cNvPicPr/>
          <p:nvPr/>
        </p:nvPicPr>
        <p:blipFill>
          <a:blip r:embed="rId5"/>
          <a:stretch/>
        </p:blipFill>
        <p:spPr>
          <a:xfrm>
            <a:off x="228600" y="0"/>
            <a:ext cx="2197080" cy="3429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E:\王志科\1\兵马俑图片\光头.jpg"/>
          <p:cNvPicPr/>
          <p:nvPr/>
        </p:nvPicPr>
        <p:blipFill>
          <a:blip r:embed="rId6"/>
          <a:stretch/>
        </p:blipFill>
        <p:spPr>
          <a:xfrm>
            <a:off x="228600" y="3429000"/>
            <a:ext cx="2200320" cy="3429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E:\王志科\1\兵马俑图片\老头.jpg"/>
          <p:cNvPicPr/>
          <p:nvPr/>
        </p:nvPicPr>
        <p:blipFill>
          <a:blip r:embed="rId7"/>
          <a:stretch/>
        </p:blipFill>
        <p:spPr>
          <a:xfrm>
            <a:off x="4724280" y="3429000"/>
            <a:ext cx="2357640" cy="34290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10">
            <a:hlinkClick r:id="" action="ppaction://hlinkshowjump?jump=nextslide"/>
          </p:cNvPr>
          <p:cNvSpPr/>
          <p:nvPr/>
        </p:nvSpPr>
        <p:spPr>
          <a:xfrm>
            <a:off x="8534520" y="6477120"/>
            <a:ext cx="304560" cy="38088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50" y="25656"/>
                </a:lnTo>
                <a:lnTo>
                  <a:pt x="20250" y="135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350" y="25656"/>
                </a:lnTo>
                <a:lnTo>
                  <a:pt x="20250" y="2565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6"/>
                </a:lnTo>
                <a:close/>
              </a:path>
              <a:path fill="darken" w="21600" h="27006">
                <a:moveTo>
                  <a:pt x="3756" y="6459"/>
                </a:moveTo>
                <a:lnTo>
                  <a:pt x="17844" y="13503"/>
                </a:lnTo>
                <a:lnTo>
                  <a:pt x="3756" y="20547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11">
            <a:hlinkClick r:id="" action="ppaction://hlinkshowjump?jump=lastslide"/>
          </p:cNvPr>
          <p:cNvSpPr/>
          <p:nvPr/>
        </p:nvSpPr>
        <p:spPr>
          <a:xfrm>
            <a:off x="8915400" y="6477120"/>
            <a:ext cx="228600" cy="38088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0880"/>
              <a:gd name="textAreaBottom" fmla="*/ 36684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50" y="34616"/>
                </a:lnTo>
                <a:lnTo>
                  <a:pt x="20250" y="135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350" y="34616"/>
                </a:lnTo>
                <a:lnTo>
                  <a:pt x="20250" y="3461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16"/>
                </a:lnTo>
                <a:close/>
              </a:path>
              <a:path fill="darken" w="21600" h="35966">
                <a:moveTo>
                  <a:pt x="14318" y="17983"/>
                </a:moveTo>
                <a:lnTo>
                  <a:pt x="3756" y="25027"/>
                </a:lnTo>
                <a:lnTo>
                  <a:pt x="3756" y="10939"/>
                </a:lnTo>
                <a:close/>
              </a:path>
              <a:path fill="darken" w="21600" h="35966">
                <a:moveTo>
                  <a:pt x="16173" y="10939"/>
                </a:moveTo>
                <a:lnTo>
                  <a:pt x="16173" y="25027"/>
                </a:lnTo>
                <a:lnTo>
                  <a:pt x="17844" y="25027"/>
                </a:lnTo>
                <a:lnTo>
                  <a:pt x="17844" y="1093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AutoShape 12">
            <a:hlinkClick r:id="" action="ppaction://hlinkshowjump?jump=firstslide"/>
          </p:cNvPr>
          <p:cNvSpPr/>
          <p:nvPr/>
        </p:nvSpPr>
        <p:spPr>
          <a:xfrm>
            <a:off x="8077320" y="6477120"/>
            <a:ext cx="304560" cy="38088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50" y="25656"/>
                </a:lnTo>
                <a:lnTo>
                  <a:pt x="20250" y="135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350" y="25656"/>
                </a:lnTo>
                <a:lnTo>
                  <a:pt x="20250" y="2565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6"/>
                </a:lnTo>
                <a:close/>
              </a:path>
              <a:path fill="darken" w="21600" h="27006">
                <a:moveTo>
                  <a:pt x="10800" y="6503"/>
                </a:moveTo>
                <a:lnTo>
                  <a:pt x="13390" y="9128"/>
                </a:lnTo>
                <a:lnTo>
                  <a:pt x="13390" y="7378"/>
                </a:lnTo>
                <a:lnTo>
                  <a:pt x="15175" y="7378"/>
                </a:lnTo>
                <a:lnTo>
                  <a:pt x="15175" y="10913"/>
                </a:lnTo>
                <a:lnTo>
                  <a:pt x="17800" y="13503"/>
                </a:lnTo>
                <a:lnTo>
                  <a:pt x="16138" y="13503"/>
                </a:lnTo>
                <a:lnTo>
                  <a:pt x="16138" y="20731"/>
                </a:lnTo>
                <a:lnTo>
                  <a:pt x="5463" y="20731"/>
                </a:lnTo>
                <a:lnTo>
                  <a:pt x="5463" y="13503"/>
                </a:lnTo>
                <a:lnTo>
                  <a:pt x="3800" y="13503"/>
                </a:lnTo>
                <a:close/>
              </a:path>
              <a:path fill="darkenLess" w="21600" h="27006">
                <a:moveTo>
                  <a:pt x="13390" y="9128"/>
                </a:moveTo>
                <a:lnTo>
                  <a:pt x="13390" y="7378"/>
                </a:lnTo>
                <a:lnTo>
                  <a:pt x="15175" y="7378"/>
                </a:lnTo>
                <a:lnTo>
                  <a:pt x="15175" y="10913"/>
                </a:lnTo>
                <a:close/>
              </a:path>
              <a:path fill="darkenLess" w="21600" h="27006">
                <a:moveTo>
                  <a:pt x="9873" y="17021"/>
                </a:moveTo>
                <a:lnTo>
                  <a:pt x="11728" y="17021"/>
                </a:lnTo>
                <a:lnTo>
                  <a:pt x="11728" y="20731"/>
                </a:lnTo>
                <a:lnTo>
                  <a:pt x="16138" y="20731"/>
                </a:lnTo>
                <a:lnTo>
                  <a:pt x="16138" y="13503"/>
                </a:lnTo>
                <a:lnTo>
                  <a:pt x="5463" y="13503"/>
                </a:lnTo>
                <a:lnTo>
                  <a:pt x="5463" y="20731"/>
                </a:lnTo>
                <a:lnTo>
                  <a:pt x="9873" y="20731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0" name="Picture 13" descr="E:\王志科\1\兵马俑图片\思考.jpg"/>
          <p:cNvPicPr/>
          <p:nvPr/>
        </p:nvPicPr>
        <p:blipFill>
          <a:blip r:embed="rId8"/>
          <a:stretch/>
        </p:blipFill>
        <p:spPr>
          <a:xfrm>
            <a:off x="2438280" y="3429000"/>
            <a:ext cx="2298960" cy="342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E:\王志科\1\兵马俑图片\铜铃.jpg"/>
          <p:cNvPicPr/>
          <p:nvPr/>
        </p:nvPicPr>
        <p:blipFill>
          <a:blip r:embed="rId9"/>
          <a:stretch/>
        </p:blipFill>
        <p:spPr>
          <a:xfrm>
            <a:off x="6983280" y="342900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15">
            <a:hlinkClick r:id="" action="ppaction://hlinkshowjump?jump=nextslide"/>
          </p:cNvPr>
          <p:cNvSpPr/>
          <p:nvPr/>
        </p:nvSpPr>
        <p:spPr>
          <a:xfrm>
            <a:off x="8610480" y="655308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选题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你谈谈学了本课后的感受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你观察书上的插图（或上网寻找有关图片资料），展开想象，描述你感兴趣的一个兵马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世界八大奇迹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埃及金字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巴比伦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空中花园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以弗所（小亚细亚）的阿泰密斯神殿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奥林匹亚的宙斯神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哈利卡纳苏（小亚细亚）的摩索拉斯陵墓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地中海罗得岛上的太阳神巨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亚历山大城的灯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中国兵马俑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4" descr="E:\王志科\1\兵马俑图片\欢迎登陆秦始皇兵马俑博物馆网站.files\1hk01.jpg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58942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638172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EC48-5467-4F7A-BE21-D89690EFC0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Rectangle 5">
            <a:hlinkClick r:id="rId2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6" descr="E:\王志科\1\兵马俑图片\新建文件夹\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8" name="Picture 4" descr="E:\王志科\1\兵马俑图片\新建文件夹\5.jpg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-9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然段，完成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读一读，划出描写兵马俑外貌、神态、动作的词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议一议，你喜欢哪一类兵马俑，为什么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演一演，根据书上的描写摆一个造型，其他同学猜猜演的是什么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将军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将军俑身材魁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头戴金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身披铠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手握宝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昂首挺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站在队伍前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像是在指挥身后的军吏和士兵行进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那神态自若的样子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一看就知道是久经沙场、身负重任的高级将领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5" name="Picture 4" descr="yty23"/>
          <p:cNvPicPr/>
          <p:nvPr/>
        </p:nvPicPr>
        <p:blipFill>
          <a:blip r:embed="rId2"/>
          <a:stretch/>
        </p:blipFill>
        <p:spPr>
          <a:xfrm>
            <a:off x="5029200" y="1523880"/>
            <a:ext cx="1965240" cy="53341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50" y="25682"/>
                </a:lnTo>
                <a:lnTo>
                  <a:pt x="20250" y="135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350" y="25682"/>
                </a:lnTo>
                <a:lnTo>
                  <a:pt x="20250" y="2568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82"/>
                </a:lnTo>
                <a:close/>
              </a:path>
              <a:path fill="darken" w="21600" h="27032">
                <a:moveTo>
                  <a:pt x="3756" y="6472"/>
                </a:moveTo>
                <a:lnTo>
                  <a:pt x="17844" y="13516"/>
                </a:lnTo>
                <a:lnTo>
                  <a:pt x="3756" y="2056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1240"/>
              <a:gd name="textAreaBottom" fmla="*/ 36720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50" y="34650"/>
                </a:lnTo>
                <a:lnTo>
                  <a:pt x="20250" y="135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350" y="34650"/>
                </a:lnTo>
                <a:lnTo>
                  <a:pt x="20250" y="3465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50"/>
                </a:lnTo>
                <a:close/>
              </a:path>
              <a:path fill="darken" w="21600" h="36000">
                <a:moveTo>
                  <a:pt x="14318" y="18000"/>
                </a:moveTo>
                <a:lnTo>
                  <a:pt x="3756" y="25044"/>
                </a:lnTo>
                <a:lnTo>
                  <a:pt x="3756" y="10956"/>
                </a:lnTo>
                <a:close/>
              </a:path>
              <a:path fill="darken" w="21600" h="36000">
                <a:moveTo>
                  <a:pt x="16173" y="10956"/>
                </a:moveTo>
                <a:lnTo>
                  <a:pt x="16173" y="25044"/>
                </a:lnTo>
                <a:lnTo>
                  <a:pt x="17844" y="25044"/>
                </a:lnTo>
                <a:lnTo>
                  <a:pt x="17844" y="10956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50" y="25650"/>
                </a:lnTo>
                <a:lnTo>
                  <a:pt x="20250" y="135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350" y="25650"/>
                </a:lnTo>
                <a:lnTo>
                  <a:pt x="20250" y="2565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0"/>
                </a:lnTo>
                <a:close/>
              </a:path>
              <a:path fill="darken" w="21600" h="27000">
                <a:moveTo>
                  <a:pt x="10800" y="6500"/>
                </a:moveTo>
                <a:lnTo>
                  <a:pt x="13390" y="9125"/>
                </a:ln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lnTo>
                  <a:pt x="17800" y="13500"/>
                </a:lnTo>
                <a:lnTo>
                  <a:pt x="16138" y="13500"/>
                </a:lnTo>
                <a:lnTo>
                  <a:pt x="16138" y="20728"/>
                </a:lnTo>
                <a:lnTo>
                  <a:pt x="5463" y="20728"/>
                </a:lnTo>
                <a:lnTo>
                  <a:pt x="5463" y="13500"/>
                </a:lnTo>
                <a:lnTo>
                  <a:pt x="3800" y="13500"/>
                </a:lnTo>
                <a:close/>
              </a:path>
              <a:path fill="darkenLess" w="21600" h="27000">
                <a:moveTo>
                  <a:pt x="13390" y="9125"/>
                </a:move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close/>
              </a:path>
              <a:path fill="darkenLess" w="21600" h="27000">
                <a:moveTo>
                  <a:pt x="9873" y="17018"/>
                </a:moveTo>
                <a:lnTo>
                  <a:pt x="11728" y="17018"/>
                </a:lnTo>
                <a:lnTo>
                  <a:pt x="11728" y="20728"/>
                </a:lnTo>
                <a:lnTo>
                  <a:pt x="16138" y="20728"/>
                </a:lnTo>
                <a:lnTo>
                  <a:pt x="16138" y="13500"/>
                </a:lnTo>
                <a:lnTo>
                  <a:pt x="5463" y="13500"/>
                </a:lnTo>
                <a:lnTo>
                  <a:pt x="5463" y="20728"/>
                </a:lnTo>
                <a:lnTo>
                  <a:pt x="9873" y="20728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武士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武士俑高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米左右，体格健壮，体态匀称。身上穿着战袍，套着铠甲，脚上蹬着前端向上翘起的战靴，头发一律挽成了偏向左侧的发髻。它们有的握着铜戈，有的擎着利剑，有的拿着盾牌。个个目光炯炯，双唇紧闭，神态严峻，好像一场大战就在眼前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1" name="Picture 4" descr="E:\王志科\1\兵马俑图片\ety24.jpg"/>
          <p:cNvPicPr/>
          <p:nvPr/>
        </p:nvPicPr>
        <p:blipFill>
          <a:blip r:embed="rId2"/>
          <a:stretch/>
        </p:blipFill>
        <p:spPr>
          <a:xfrm>
            <a:off x="4876920" y="1676520"/>
            <a:ext cx="2555640" cy="51814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50" y="25682"/>
                </a:lnTo>
                <a:lnTo>
                  <a:pt x="20250" y="135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350" y="25682"/>
                </a:lnTo>
                <a:lnTo>
                  <a:pt x="20250" y="2568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82"/>
                </a:lnTo>
                <a:close/>
              </a:path>
              <a:path fill="darken" w="21600" h="27032">
                <a:moveTo>
                  <a:pt x="3756" y="6472"/>
                </a:moveTo>
                <a:lnTo>
                  <a:pt x="17844" y="13516"/>
                </a:lnTo>
                <a:lnTo>
                  <a:pt x="3756" y="2056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1240"/>
              <a:gd name="textAreaBottom" fmla="*/ 36720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50" y="34650"/>
                </a:lnTo>
                <a:lnTo>
                  <a:pt x="20250" y="135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350" y="34650"/>
                </a:lnTo>
                <a:lnTo>
                  <a:pt x="20250" y="3465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50"/>
                </a:lnTo>
                <a:close/>
              </a:path>
              <a:path fill="darken" w="21600" h="36000">
                <a:moveTo>
                  <a:pt x="14318" y="18000"/>
                </a:moveTo>
                <a:lnTo>
                  <a:pt x="3756" y="25044"/>
                </a:lnTo>
                <a:lnTo>
                  <a:pt x="3756" y="10956"/>
                </a:lnTo>
                <a:close/>
              </a:path>
              <a:path fill="darken" w="21600" h="36000">
                <a:moveTo>
                  <a:pt x="16173" y="10956"/>
                </a:moveTo>
                <a:lnTo>
                  <a:pt x="16173" y="25044"/>
                </a:lnTo>
                <a:lnTo>
                  <a:pt x="17844" y="25044"/>
                </a:lnTo>
                <a:lnTo>
                  <a:pt x="17844" y="10956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50" y="25650"/>
                </a:lnTo>
                <a:lnTo>
                  <a:pt x="20250" y="135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350" y="25650"/>
                </a:lnTo>
                <a:lnTo>
                  <a:pt x="20250" y="2565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0"/>
                </a:lnTo>
                <a:close/>
              </a:path>
              <a:path fill="darken" w="21600" h="27000">
                <a:moveTo>
                  <a:pt x="10800" y="6500"/>
                </a:moveTo>
                <a:lnTo>
                  <a:pt x="13390" y="9125"/>
                </a:ln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lnTo>
                  <a:pt x="17800" y="13500"/>
                </a:lnTo>
                <a:lnTo>
                  <a:pt x="16138" y="13500"/>
                </a:lnTo>
                <a:lnTo>
                  <a:pt x="16138" y="20728"/>
                </a:lnTo>
                <a:lnTo>
                  <a:pt x="5463" y="20728"/>
                </a:lnTo>
                <a:lnTo>
                  <a:pt x="5463" y="13500"/>
                </a:lnTo>
                <a:lnTo>
                  <a:pt x="3800" y="13500"/>
                </a:lnTo>
                <a:close/>
              </a:path>
              <a:path fill="darkenLess" w="21600" h="27000">
                <a:moveTo>
                  <a:pt x="13390" y="9125"/>
                </a:move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close/>
              </a:path>
              <a:path fill="darkenLess" w="21600" h="27000">
                <a:moveTo>
                  <a:pt x="9873" y="17018"/>
                </a:moveTo>
                <a:lnTo>
                  <a:pt x="11728" y="17018"/>
                </a:lnTo>
                <a:lnTo>
                  <a:pt x="11728" y="20728"/>
                </a:lnTo>
                <a:lnTo>
                  <a:pt x="16138" y="20728"/>
                </a:lnTo>
                <a:lnTo>
                  <a:pt x="16138" y="13500"/>
                </a:lnTo>
                <a:lnTo>
                  <a:pt x="5463" y="13500"/>
                </a:lnTo>
                <a:lnTo>
                  <a:pt x="5463" y="20728"/>
                </a:lnTo>
                <a:lnTo>
                  <a:pt x="9873" y="20728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骑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骑兵俑上身着短甲，下身着紧口裤，足蹬长统马靴，右手执缰绳，左手持弓箭，随时准备上马冲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8" name="Picture 4" descr="E:\王志科\1\兵马俑图片\ety25.jpg"/>
          <p:cNvPicPr/>
          <p:nvPr/>
        </p:nvPicPr>
        <p:blipFill>
          <a:blip r:embed="rId2"/>
          <a:stretch/>
        </p:blipFill>
        <p:spPr>
          <a:xfrm>
            <a:off x="4038480" y="1676520"/>
            <a:ext cx="5105520" cy="48736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50" y="25682"/>
                </a:lnTo>
                <a:lnTo>
                  <a:pt x="20250" y="135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350" y="25682"/>
                </a:lnTo>
                <a:lnTo>
                  <a:pt x="20250" y="2568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82"/>
                </a:lnTo>
                <a:close/>
              </a:path>
              <a:path fill="darken" w="21600" h="27032">
                <a:moveTo>
                  <a:pt x="3756" y="6472"/>
                </a:moveTo>
                <a:lnTo>
                  <a:pt x="17844" y="13516"/>
                </a:lnTo>
                <a:lnTo>
                  <a:pt x="3756" y="2056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1240"/>
              <a:gd name="textAreaBottom" fmla="*/ 36720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50" y="34650"/>
                </a:lnTo>
                <a:lnTo>
                  <a:pt x="20250" y="135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350" y="34650"/>
                </a:lnTo>
                <a:lnTo>
                  <a:pt x="20250" y="3465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50"/>
                </a:lnTo>
                <a:close/>
              </a:path>
              <a:path fill="darken" w="21600" h="36000">
                <a:moveTo>
                  <a:pt x="14318" y="18000"/>
                </a:moveTo>
                <a:lnTo>
                  <a:pt x="3756" y="25044"/>
                </a:lnTo>
                <a:lnTo>
                  <a:pt x="3756" y="10956"/>
                </a:lnTo>
                <a:close/>
              </a:path>
              <a:path fill="darken" w="21600" h="36000">
                <a:moveTo>
                  <a:pt x="16173" y="10956"/>
                </a:moveTo>
                <a:lnTo>
                  <a:pt x="16173" y="25044"/>
                </a:lnTo>
                <a:lnTo>
                  <a:pt x="17844" y="25044"/>
                </a:lnTo>
                <a:lnTo>
                  <a:pt x="17844" y="10956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50" y="25650"/>
                </a:lnTo>
                <a:lnTo>
                  <a:pt x="20250" y="135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350" y="25650"/>
                </a:lnTo>
                <a:lnTo>
                  <a:pt x="20250" y="2565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0"/>
                </a:lnTo>
                <a:close/>
              </a:path>
              <a:path fill="darken" w="21600" h="27000">
                <a:moveTo>
                  <a:pt x="10800" y="6500"/>
                </a:moveTo>
                <a:lnTo>
                  <a:pt x="13390" y="9125"/>
                </a:ln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lnTo>
                  <a:pt x="17800" y="13500"/>
                </a:lnTo>
                <a:lnTo>
                  <a:pt x="16138" y="13500"/>
                </a:lnTo>
                <a:lnTo>
                  <a:pt x="16138" y="20728"/>
                </a:lnTo>
                <a:lnTo>
                  <a:pt x="5463" y="20728"/>
                </a:lnTo>
                <a:lnTo>
                  <a:pt x="5463" y="13500"/>
                </a:lnTo>
                <a:lnTo>
                  <a:pt x="3800" y="13500"/>
                </a:lnTo>
                <a:close/>
              </a:path>
              <a:path fill="darkenLess" w="21600" h="27000">
                <a:moveTo>
                  <a:pt x="13390" y="9125"/>
                </a:move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close/>
              </a:path>
              <a:path fill="darkenLess" w="21600" h="27000">
                <a:moveTo>
                  <a:pt x="9873" y="17018"/>
                </a:moveTo>
                <a:lnTo>
                  <a:pt x="11728" y="17018"/>
                </a:lnTo>
                <a:lnTo>
                  <a:pt x="11728" y="20728"/>
                </a:lnTo>
                <a:lnTo>
                  <a:pt x="16138" y="20728"/>
                </a:lnTo>
                <a:lnTo>
                  <a:pt x="16138" y="13500"/>
                </a:lnTo>
                <a:lnTo>
                  <a:pt x="5463" y="13500"/>
                </a:lnTo>
                <a:lnTo>
                  <a:pt x="5463" y="20728"/>
                </a:lnTo>
                <a:lnTo>
                  <a:pt x="9873" y="20728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0:00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32:4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