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7D-0DC4-4150-AB78-8F58D527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4C5-B754-4259-B5F5-C5E6C942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5F4-3F47-4C51-8848-BB390EA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B69-C00E-4830-8785-3BBE62AF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DD9-E8FC-4174-81BE-847940BF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135-8B5F-4C12-9A9A-D1940D5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E3F-E507-4806-9EB9-844BFD84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6C2-F9E4-438C-99D3-CBFC5658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7A7-AFBF-449B-A714-4E63D71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8B2-AA62-4BDE-8ED8-7A0AC7F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4DD-72F5-4F9D-9596-0AD553E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E1D-1EBB-4791-AE80-101F24A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9D4A-A654-49D4-801C-13FD3F421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934600" y="2349360"/>
            <a:ext cx="19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执教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颜雪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030904172446zt030904_3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58240" y="692280"/>
            <a:ext cx="363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"/>
              </a:rPr>
              <a:t>《泉城》课件</a:t>
            </a:r>
            <a:r>
              <a:rPr b="1" lang="en-US" sz="4500" spc="-1" strike="noStrike">
                <a:solidFill>
                  <a:srgbClr val="ff33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3300"/>
                </a:solidFill>
                <a:latin typeface="Arial"/>
              </a:rPr>
              <a:t>在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505320" y="936720"/>
            <a:ext cx="18572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１、边读边用记号画出：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位置、名称的由来和泉水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２、与同学交流，完成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３、再读，体会泉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3200 w 755640"/>
              <a:gd name="textAreaRight" fmla="*/ 712440 w 75564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226" y="1350"/>
                </a:lnTo>
                <a:lnTo>
                  <a:pt x="1350" y="135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226" y="20250"/>
                </a:lnTo>
                <a:lnTo>
                  <a:pt x="22226" y="135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226" y="2025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576" h="21600">
                <a:moveTo>
                  <a:pt x="4744" y="7475"/>
                </a:moveTo>
                <a:lnTo>
                  <a:pt x="8270" y="7475"/>
                </a:lnTo>
                <a:lnTo>
                  <a:pt x="8270" y="12839"/>
                </a:lnTo>
                <a:cubicBezTo>
                  <a:pt x="8270" y="13766"/>
                  <a:pt x="9075" y="14501"/>
                  <a:pt x="10117" y="14501"/>
                </a:cubicBezTo>
                <a:lnTo>
                  <a:pt x="11788" y="14501"/>
                </a:lnTo>
                <a:cubicBezTo>
                  <a:pt x="12829" y="14501"/>
                  <a:pt x="13634" y="13766"/>
                  <a:pt x="13634" y="12839"/>
                </a:cubicBezTo>
                <a:lnTo>
                  <a:pt x="13634" y="7475"/>
                </a:lnTo>
                <a:lnTo>
                  <a:pt x="11788" y="7475"/>
                </a:lnTo>
                <a:lnTo>
                  <a:pt x="15314" y="3949"/>
                </a:lnTo>
                <a:lnTo>
                  <a:pt x="19007" y="7475"/>
                </a:lnTo>
                <a:lnTo>
                  <a:pt x="17160" y="7475"/>
                </a:lnTo>
                <a:lnTo>
                  <a:pt x="17160" y="12839"/>
                </a:lnTo>
                <a:cubicBezTo>
                  <a:pt x="17160" y="15621"/>
                  <a:pt x="14570" y="18194"/>
                  <a:pt x="11788" y="18194"/>
                </a:cubicBezTo>
                <a:lnTo>
                  <a:pt x="10117" y="18194"/>
                </a:lnTo>
                <a:cubicBezTo>
                  <a:pt x="7334" y="18194"/>
                  <a:pt x="4744" y="15621"/>
                  <a:pt x="4744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突泉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790560" y="189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趵突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突泉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11280" y="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趵突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8520 w 755640"/>
              <a:gd name="textAreaRight" fmla="*/ 717120 w 755640"/>
              <a:gd name="textAreaTop" fmla="*/ 38520 h 620640"/>
              <a:gd name="textAreaBottom" fmla="*/ 58212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946" y="1350"/>
                </a:lnTo>
                <a:lnTo>
                  <a:pt x="1350" y="135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946" y="20250"/>
                </a:lnTo>
                <a:lnTo>
                  <a:pt x="24946" y="135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946" y="2025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296" h="21600">
                <a:moveTo>
                  <a:pt x="6104" y="7475"/>
                </a:moveTo>
                <a:lnTo>
                  <a:pt x="9630" y="7475"/>
                </a:lnTo>
                <a:lnTo>
                  <a:pt x="9630" y="12839"/>
                </a:lnTo>
                <a:cubicBezTo>
                  <a:pt x="9630" y="13766"/>
                  <a:pt x="10435" y="14501"/>
                  <a:pt x="11477" y="14501"/>
                </a:cubicBezTo>
                <a:lnTo>
                  <a:pt x="13148" y="14501"/>
                </a:lnTo>
                <a:cubicBezTo>
                  <a:pt x="14189" y="14501"/>
                  <a:pt x="14994" y="13766"/>
                  <a:pt x="14994" y="12839"/>
                </a:cubicBezTo>
                <a:lnTo>
                  <a:pt x="14994" y="7475"/>
                </a:lnTo>
                <a:lnTo>
                  <a:pt x="13148" y="7475"/>
                </a:lnTo>
                <a:lnTo>
                  <a:pt x="16674" y="3949"/>
                </a:lnTo>
                <a:lnTo>
                  <a:pt x="20367" y="7475"/>
                </a:lnTo>
                <a:lnTo>
                  <a:pt x="18520" y="7475"/>
                </a:lnTo>
                <a:lnTo>
                  <a:pt x="18520" y="12839"/>
                </a:lnTo>
                <a:cubicBezTo>
                  <a:pt x="18520" y="15621"/>
                  <a:pt x="15930" y="18194"/>
                  <a:pt x="13148" y="18194"/>
                </a:cubicBezTo>
                <a:lnTo>
                  <a:pt x="11477" y="18194"/>
                </a:lnTo>
                <a:cubicBezTo>
                  <a:pt x="8694" y="18194"/>
                  <a:pt x="6104" y="15621"/>
                  <a:pt x="6104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4920" y="44280"/>
            <a:ext cx="9064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　　康熙皇帝南巡途径济南，品用了趵突泉水赞不绝口，便赐名“天下第一泉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地下汪洋水，形成趵突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　珍珠随处涌，金线自然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　普天城第一，历世岂三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　濠上知雨乐，欣逢跃进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　　　　　　　　　－－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812356857"/>
          <p:cNvPicPr/>
          <p:nvPr/>
        </p:nvPicPr>
        <p:blipFill>
          <a:blip r:embed="rId2"/>
          <a:stretch/>
        </p:blipFill>
        <p:spPr>
          <a:xfrm>
            <a:off x="-36360" y="-27000"/>
            <a:ext cx="9288360" cy="6966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50920" y="544500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</a:rPr>
              <a:t>黑虎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黑虎泉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435640" y="5076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</a:rPr>
              <a:t>黑虎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斗母泉"/>
          <p:cNvPicPr/>
          <p:nvPr/>
        </p:nvPicPr>
        <p:blipFill>
          <a:blip r:embed="rId2"/>
          <a:stretch/>
        </p:blipFill>
        <p:spPr>
          <a:xfrm>
            <a:off x="0" y="0"/>
            <a:ext cx="6388200" cy="478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760" y="4869000"/>
            <a:ext cx="91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池水清澈，为斗母泉村民饮用水。曾列为清代七十二名泉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935040" y="2060640"/>
            <a:ext cx="174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　　斗母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称“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窦姑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”，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自山半坡崖壁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出，水流量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长年涌流，故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称“大泉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甘露泉"/>
          <p:cNvPicPr/>
          <p:nvPr/>
        </p:nvPicPr>
        <p:blipFill>
          <a:blip r:embed="rId2"/>
          <a:stretch/>
        </p:blipFill>
        <p:spPr>
          <a:xfrm>
            <a:off x="971640" y="1916280"/>
            <a:ext cx="730872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1920" y="157320"/>
            <a:ext cx="9082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甘露泉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悬崖下一半隐形山洞，泉水从岩壁流下，如露珠滑滚，落入凹进岩壁的长、宽、深各</a:t>
            </a:r>
            <a:r>
              <a:rPr b="0" lang="en-US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米的方池中，方池半为天然，半为人工石砌，古朴自然，水清见底，池水长年不涸。此处泉水清凉甘美，有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味甘却似饮天浆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盛誉，最宜泡茶，故此泉又名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试茶泉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此泉曾列入金、明、清三代七十二名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林汲泉"/>
          <p:cNvPicPr/>
          <p:nvPr/>
        </p:nvPicPr>
        <p:blipFill>
          <a:blip r:embed="rId2"/>
          <a:stretch/>
        </p:blipFill>
        <p:spPr>
          <a:xfrm>
            <a:off x="1187280" y="0"/>
            <a:ext cx="6697800" cy="5062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04760" y="5219640"/>
            <a:ext cx="929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林汲泉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水自石穴岩缝中流出，汩汩有声，汇在一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米见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池中，久旱不涸。盛水期，泉水从崖壁泻下，形成瀑布，飞流而下，曾列入金、清两代七十二名泉。</a:t>
            </a:r>
            <a:r>
              <a:rPr b="0" lang="zh-CN" sz="2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EA0-1FAD-44AF-9CCC-85FE9AF257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3800" y="836640"/>
            <a:ext cx="817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济南山水甲齐鲁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泉甲天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----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钦迁（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齐多甘泉，冠于天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----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曾巩（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950120" y="631800"/>
            <a:ext cx="5400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银山公园是我们大港一道亮丽的风景线，尤其公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的音乐喷泉远近闻名，相信同学们一定去欣赏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请你运用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泉城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课学到的好词佳句，以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银山喷泉 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题写一篇小习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１、学习文中介绍四大名泉的方法，突出音乐喷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</a:t>
            </a: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特点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２、字数不少于２００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1268280"/>
            <a:ext cx="83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新魏"/>
              </a:rPr>
              <a:t>      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这些泉有的白浪翻滚，好像银花盛开；有的晶莹剔透，好像明珠散落；有的声音洪大，听起来如虎啸狮吼；有的声音低细，听起来如秋雨潇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87280" y="907920"/>
          <a:ext cx="6769080" cy="4192560"/>
        </p:xfrm>
        <a:graphic>
          <a:graphicData uri="http://schemas.openxmlformats.org/drawingml/2006/table">
            <a:tbl>
              <a:tblPr/>
              <a:tblGrid>
                <a:gridCol w="1523880"/>
                <a:gridCol w="1668600"/>
                <a:gridCol w="1871640"/>
                <a:gridCol w="170496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　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所在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名称由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水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珍珠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五龙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黑虎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趵突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AutoShape 72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7520 w 900000"/>
              <a:gd name="textAreaRight" fmla="*/ 852480 w 900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60" y="1350"/>
                </a:lnTo>
                <a:lnTo>
                  <a:pt x="1350" y="135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60" y="20250"/>
                </a:lnTo>
                <a:lnTo>
                  <a:pt x="24060" y="135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060" y="2025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410" h="21600">
                <a:moveTo>
                  <a:pt x="5661" y="3756"/>
                </a:moveTo>
                <a:lnTo>
                  <a:pt x="19749" y="10800"/>
                </a:lnTo>
                <a:lnTo>
                  <a:pt x="566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87280" y="907920"/>
          <a:ext cx="6769080" cy="4192560"/>
        </p:xfrm>
        <a:graphic>
          <a:graphicData uri="http://schemas.openxmlformats.org/drawingml/2006/table">
            <a:tbl>
              <a:tblPr/>
              <a:tblGrid>
                <a:gridCol w="1523880"/>
                <a:gridCol w="1668600"/>
                <a:gridCol w="1871640"/>
                <a:gridCol w="170496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　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所在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名称由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水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珍珠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神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五龙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黑虎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趵突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AutoShape 36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7520 w 900000"/>
              <a:gd name="textAreaRight" fmla="*/ 852480 w 900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60" y="1350"/>
                </a:lnTo>
                <a:lnTo>
                  <a:pt x="1350" y="135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60" y="20250"/>
                </a:lnTo>
                <a:lnTo>
                  <a:pt x="24060" y="135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060" y="2025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410" h="21600">
                <a:moveTo>
                  <a:pt x="5661" y="3756"/>
                </a:moveTo>
                <a:lnTo>
                  <a:pt x="19749" y="10800"/>
                </a:lnTo>
                <a:lnTo>
                  <a:pt x="566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87280" y="907920"/>
          <a:ext cx="6769080" cy="4192560"/>
        </p:xfrm>
        <a:graphic>
          <a:graphicData uri="http://schemas.openxmlformats.org/drawingml/2006/table">
            <a:tbl>
              <a:tblPr/>
              <a:tblGrid>
                <a:gridCol w="1523880"/>
                <a:gridCol w="1668600"/>
                <a:gridCol w="1871640"/>
                <a:gridCol w="170496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　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所在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名称由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水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珍珠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神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五龙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黑虎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趵突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87280" y="907920"/>
          <a:ext cx="6769080" cy="4327560"/>
        </p:xfrm>
        <a:graphic>
          <a:graphicData uri="http://schemas.openxmlformats.org/drawingml/2006/table">
            <a:tbl>
              <a:tblPr/>
              <a:tblGrid>
                <a:gridCol w="1523880"/>
                <a:gridCol w="1668600"/>
                <a:gridCol w="1871640"/>
                <a:gridCol w="170496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　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所在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名称由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水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珍珠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神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五龙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黑虎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流势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趵突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AutoShape 41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3200 w 826920"/>
              <a:gd name="textAreaRight" fmla="*/ 783720 w 82692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449" y="1350"/>
                </a:lnTo>
                <a:lnTo>
                  <a:pt x="1350" y="135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449" y="20250"/>
                </a:lnTo>
                <a:lnTo>
                  <a:pt x="24449" y="135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449" y="2025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799" h="21600">
                <a:moveTo>
                  <a:pt x="5856" y="3756"/>
                </a:moveTo>
                <a:lnTo>
                  <a:pt x="19943" y="10800"/>
                </a:lnTo>
                <a:lnTo>
                  <a:pt x="58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87280" y="907920"/>
          <a:ext cx="6769080" cy="4459320"/>
        </p:xfrm>
        <a:graphic>
          <a:graphicData uri="http://schemas.openxmlformats.org/drawingml/2006/table">
            <a:tbl>
              <a:tblPr/>
              <a:tblGrid>
                <a:gridCol w="1523880"/>
                <a:gridCol w="1668600"/>
                <a:gridCol w="1871640"/>
                <a:gridCol w="170496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　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所在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名称由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华文新魏"/>
                        </a:rPr>
                        <a:t>泉水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珍珠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神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五龙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黑虎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多、流势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趵突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大、清、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AutoShape 38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7520 w 826920"/>
              <a:gd name="textAreaRight" fmla="*/ 779400 w 82692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98" y="1350"/>
                </a:lnTo>
                <a:lnTo>
                  <a:pt x="1350" y="135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98" y="20250"/>
                </a:lnTo>
                <a:lnTo>
                  <a:pt x="21998" y="135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998" y="2025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348" h="21600">
                <a:moveTo>
                  <a:pt x="4630" y="3756"/>
                </a:moveTo>
                <a:lnTo>
                  <a:pt x="18718" y="10800"/>
                </a:lnTo>
                <a:lnTo>
                  <a:pt x="463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3348000" y="1628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珍珠泉"/>
          <p:cNvPicPr/>
          <p:nvPr/>
        </p:nvPicPr>
        <p:blipFill>
          <a:blip r:embed="rId20"/>
          <a:stretch/>
        </p:blipFill>
        <p:spPr>
          <a:xfrm>
            <a:off x="2195640" y="0"/>
            <a:ext cx="5329080" cy="4370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79280" y="4437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泉水从地下往上涌，好像一串串珍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79320" y="4437000"/>
            <a:ext cx="763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　　　　　　　　　　　　　　　　　　在阳光的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照下，那珠串忽聚忽散，忽断忽续，忽急忽缓，仿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有一只神奇的手把它们拎到了水面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7520 w 900000"/>
              <a:gd name="textAreaRight" fmla="*/ 852480 w 900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60" y="1350"/>
                </a:lnTo>
                <a:lnTo>
                  <a:pt x="1350" y="135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60" y="20250"/>
                </a:lnTo>
                <a:lnTo>
                  <a:pt x="24060" y="135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060" y="2025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410" h="21600">
                <a:moveTo>
                  <a:pt x="5661" y="7475"/>
                </a:moveTo>
                <a:lnTo>
                  <a:pt x="9187" y="7475"/>
                </a:lnTo>
                <a:lnTo>
                  <a:pt x="9187" y="12839"/>
                </a:lnTo>
                <a:cubicBezTo>
                  <a:pt x="9187" y="13766"/>
                  <a:pt x="9992" y="14501"/>
                  <a:pt x="11034" y="14501"/>
                </a:cubicBezTo>
                <a:lnTo>
                  <a:pt x="12705" y="14501"/>
                </a:lnTo>
                <a:cubicBezTo>
                  <a:pt x="13746" y="14501"/>
                  <a:pt x="14551" y="13766"/>
                  <a:pt x="14551" y="12839"/>
                </a:cubicBezTo>
                <a:lnTo>
                  <a:pt x="14551" y="7475"/>
                </a:lnTo>
                <a:lnTo>
                  <a:pt x="12705" y="7475"/>
                </a:lnTo>
                <a:lnTo>
                  <a:pt x="16231" y="3949"/>
                </a:lnTo>
                <a:lnTo>
                  <a:pt x="19924" y="7475"/>
                </a:lnTo>
                <a:lnTo>
                  <a:pt x="18077" y="7475"/>
                </a:lnTo>
                <a:lnTo>
                  <a:pt x="18077" y="12839"/>
                </a:lnTo>
                <a:cubicBezTo>
                  <a:pt x="18077" y="15621"/>
                  <a:pt x="15487" y="18194"/>
                  <a:pt x="12705" y="18194"/>
                </a:cubicBezTo>
                <a:lnTo>
                  <a:pt x="11034" y="18194"/>
                </a:lnTo>
                <a:cubicBezTo>
                  <a:pt x="8251" y="18194"/>
                  <a:pt x="5661" y="15621"/>
                  <a:pt x="5661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17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3:16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