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0D0-7172-497F-B0C2-9CC9BBB5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A1E6-06ED-458D-AE3C-73C5242B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9553-2842-4BC3-8878-9972D4C5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43BE-8E62-463F-A89A-3ACFE069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6A24-64A4-4D91-9FCA-7FDB79D8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DE41-FEFB-4415-8CBD-C2CF7B1E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E2CE-A852-476D-B667-D75963A2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AFBA-177A-49FC-95F8-D63290ED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C0CE-FA0A-4AC6-B757-86982589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A841-A7AB-4C5D-B205-563D9A61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23DE-1174-4D0B-A495-A4844EA1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D062-6E9A-4380-9680-A4AB8971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3FB6-AD3F-492D-98ED-8772C73E00F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6E77-77B5-4B63-B080-C965079300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2892600" y="3276720"/>
            <a:ext cx="777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4200" y="40402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3124080"/>
            <a:ext cx="503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情人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背景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49280" y="144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Calibri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Calibri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Calibri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Calibri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297000" y="495612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F954-0E11-4D6C-86DE-68E0970EBC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1320" y="274320"/>
            <a:ext cx="671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1320" y="1444320"/>
            <a:ext cx="67104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Calibri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Calibri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Calibri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Calibri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4320"/>
            <a:ext cx="40402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6923c"/>
                </a:solidFill>
                <a:latin typeface="Calibri"/>
              </a:rPr>
              <a:t>Product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2072880"/>
            <a:ext cx="404028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Calibri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Calibri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Calibri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4720" y="1444320"/>
            <a:ext cx="404172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6923c"/>
                </a:solidFill>
                <a:latin typeface="Calibri"/>
              </a:rPr>
              <a:t>Product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4720" y="2072880"/>
            <a:ext cx="404172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Calibri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Calibri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Calibri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49:19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