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4D5-7B36-43BA-90F2-29F1DDDA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129-202C-45A9-BE79-30D63138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AD9-1C77-47DB-8A0C-65DF7C30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F887-F361-4BFA-A355-AD433DE9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D45-1638-40AD-8233-BC20178E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5DE-BF75-4C18-8247-996B5DAD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9D1-A69D-4382-9E2C-8AFFCA99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9C5-36B1-4EBB-B786-5B40CCF0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D52-303B-4073-BB59-E42920D7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104-A00C-45EF-985D-A36707B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CD0-5B54-43E8-9D22-8E8B0D9C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794-0408-4016-A547-1FA93CD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BC1-9AED-4160-8526-16E1FFDB80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rcRect l="0" t="0" r="0" b="14616"/>
          <a:stretch/>
        </p:blipFill>
        <p:spPr>
          <a:xfrm>
            <a:off x="181080" y="189000"/>
            <a:ext cx="9144000" cy="5763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3224160" y="549360"/>
            <a:ext cx="261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九年义务教育六年制小学语文教科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八册第二十一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171880" y="2349360"/>
            <a:ext cx="480060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2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日月潭的传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3" descr="f1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914400" y="685800"/>
            <a:ext cx="74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日月潭是我国台湾省最大的一个湖泊。那里</a:t>
            </a:r>
            <a:r>
              <a:rPr b="0" lang="zh-CN" sz="4000" spc="-1" strike="noStrike">
                <a:solidFill>
                  <a:srgbClr val="ffff3d"/>
                </a:solidFill>
                <a:latin typeface="Times New Roman"/>
                <a:ea typeface="华文新魏"/>
              </a:rPr>
              <a:t>青山环抱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0" lang="zh-CN" sz="4000" spc="-1" strike="noStrike">
                <a:solidFill>
                  <a:srgbClr val="ffff3d"/>
                </a:solidFill>
                <a:latin typeface="Times New Roman"/>
                <a:ea typeface="华文新魏"/>
              </a:rPr>
              <a:t>树木葱茏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，是个</a:t>
            </a:r>
            <a:r>
              <a:rPr b="0" lang="zh-CN" sz="4000" spc="-1" strike="noStrike">
                <a:solidFill>
                  <a:srgbClr val="ffff3d"/>
                </a:solidFill>
                <a:latin typeface="Times New Roman"/>
                <a:ea typeface="华文新魏"/>
              </a:rPr>
              <a:t>著名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的风景区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4495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很久很久以前，两条恶龙吞吃了太阳和月亮，天地间</a:t>
            </a:r>
            <a:r>
              <a:rPr b="1" lang="zh-CN" sz="3600" spc="-1" strike="noStrike">
                <a:solidFill>
                  <a:srgbClr val="ffff3d"/>
                </a:solidFill>
                <a:latin typeface="Times New Roman"/>
                <a:ea typeface="华文中宋"/>
              </a:rPr>
              <a:t>漆黑一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4" descr="01"/>
          <p:cNvPicPr/>
          <p:nvPr/>
        </p:nvPicPr>
        <p:blipFill>
          <a:blip r:embed="rId2"/>
          <a:stretch/>
        </p:blipFill>
        <p:spPr>
          <a:xfrm>
            <a:off x="380880" y="19512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2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"/>
                            </p:stCondLst>
                            <p:childTnLst>
                              <p:par>
                                <p:cTn id="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095920" y="1812960"/>
            <a:ext cx="4844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学习要求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自读课文三四自然段，小组讨论交流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说说你体会到什么，课文体现了大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</a:rPr>
              <a:t>哥和水社姐怎样的高贵品质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oulong"/>
          <p:cNvPicPr/>
          <p:nvPr/>
        </p:nvPicPr>
        <p:blipFill>
          <a:blip r:embed="rId2">
            <a:lum bright="24000"/>
            <a:alphaModFix amt="50000"/>
          </a:blip>
          <a:stretch/>
        </p:blipFill>
        <p:spPr>
          <a:xfrm>
            <a:off x="1116000" y="0"/>
            <a:ext cx="7012080" cy="3284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24000" y="3429000"/>
            <a:ext cx="836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他们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翻山越岭</a:t>
            </a:r>
            <a:r>
              <a:rPr b="0" lang="zh-CN" sz="2800" spc="-1" strike="noStrike">
                <a:solidFill>
                  <a:srgbClr val="dddddd"/>
                </a:solidFill>
                <a:latin typeface="Times New Roman"/>
              </a:rPr>
              <a:t>，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披荆斩棘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，吃尽了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千辛万苦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，终于从阿里山的山洞里拿到了金斧头和金剪刀。回到潭边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他俩又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冒着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生命危险，纵身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潜入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湖底，与两条恶龙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激战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了三天三夜。大尖哥用金斧头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砍死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了它们，水社姐用金剪刀</a:t>
            </a:r>
            <a:r>
              <a:rPr b="1" lang="zh-CN" sz="2800" spc="-1" strike="noStrike" u="sng">
                <a:solidFill>
                  <a:srgbClr val="336699"/>
                </a:solidFill>
                <a:uFillTx/>
                <a:latin typeface="Times New Roman"/>
                <a:ea typeface="隶书"/>
              </a:rPr>
              <a:t>剪开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了龙肚子，救出了太阳和月亮，人们重又见到了光明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oulong"/>
          <p:cNvPicPr/>
          <p:nvPr/>
        </p:nvPicPr>
        <p:blipFill>
          <a:blip r:embed="rId2">
            <a:lum bright="24000"/>
            <a:alphaModFix amt="50000"/>
          </a:blip>
          <a:stretch/>
        </p:blipFill>
        <p:spPr>
          <a:xfrm>
            <a:off x="304920" y="0"/>
            <a:ext cx="845820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094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勇敢顽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24080" y="434340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为民除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305760" y="441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为民造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09480" y="502920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舍生忘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486600" y="510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见义勇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382080" y="5105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除邪惩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95680" y="571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不畏艰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F8D-6A72-4002-BB4D-F8794DDA1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f1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 rot="844200">
            <a:off x="990360" y="3048120"/>
            <a:ext cx="1523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d">
                    <a:alpha val="50000"/>
                  </a:srgbClr>
                </a:solidFill>
                <a:latin typeface="宋体"/>
              </a:rPr>
              <a:t>水社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3d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2819520" y="5181480"/>
            <a:ext cx="23619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d">
                    <a:alpha val="50000"/>
                  </a:srgbClr>
                </a:solidFill>
                <a:latin typeface="宋体"/>
              </a:rPr>
              <a:t>日月潭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3d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5105520" y="1447920"/>
            <a:ext cx="23619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d">
                    <a:alpha val="50000"/>
                  </a:srgbClr>
                </a:solidFill>
                <a:latin typeface="宋体"/>
              </a:rPr>
              <a:t>大尖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3d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875760" y="735120"/>
            <a:ext cx="157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1</a:t>
            </a:r>
            <a:r>
              <a:rPr b="0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日月潭的传说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75040" y="20574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拿到（发展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砍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88920" y="19810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尖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水社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108560" y="19810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化作青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（结果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7364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恶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186720" y="56386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吞吃      （起因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1371240" y="2590920"/>
            <a:ext cx="2590920" cy="25905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562720" y="2666880"/>
            <a:ext cx="2361960" cy="23623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1600200" y="5410080"/>
            <a:ext cx="586728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530120" y="46483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月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（漆黑一团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6261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2:34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4:0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