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8B3-3E5F-4E7C-8CE5-23F65ED5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E87-2BDC-475C-8256-2D7E594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97E-6BB8-45F4-AF26-E587A8F3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ABA-4430-4369-B475-9FB9E5A7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528-0D09-4599-81CC-C87A0681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8438-09BB-4A4F-A7FD-7E5C3B8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558-ADFC-4564-AA1C-D478723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93D0-ED70-4186-92E5-FB0A4FD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D1D1-14B5-48AB-8FD2-55A8C17B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7F72-A5DA-4510-89C2-0802C38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AA6-F3BA-4792-9B03-2063713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6A1-6CCE-497F-8A7F-A08847DC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7E1-0824-48FE-AC94-69CC5C9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B77-DF1E-41D3-9943-EE72E80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FE2-7C96-4992-B026-29106A69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DB12-6F7F-4B08-8748-D76EEAC0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1D3-C694-441C-B89C-27B1BA10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489-9480-4F78-B3FF-1761932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7AB-2175-4FC7-A051-FF62CFF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ADC-2B25-47D1-AEAD-147CC8D8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1EA-F992-470D-83D2-F6F6387A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700-11DA-45D2-B6F7-1683329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DAE-41C2-4F3E-AA83-EE0F91C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F1B-57A2-41C2-97D7-4E67DA9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A1A-55AE-4D65-ABD8-4DF6A1E19C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cecec"/>
                </a:solidFill>
                <a:latin typeface="Georgia"/>
              </a:rPr>
              <a:t>Click to edit the title text format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64FC-6E59-4CFD-8832-AAD807FA52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00160"/>
            <a:ext cx="3417840" cy="665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ecec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200000"/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cecec"/>
                </a:solidFill>
                <a:latin typeface="Georgia"/>
                <a:ea typeface="宋体"/>
              </a:rPr>
              <a:t> 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6021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6640" y="184464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圣诞动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98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309-52F3-4753-BA8D-7E75D6E7E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: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3440" y="2382840"/>
            <a:ext cx="250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加最后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-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加两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-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加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以上  加四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A4E-4280-4FA3-AC92-8C8CA3236B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7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宋体"/>
              </a:rPr>
              <a:t>Transition Page</a:t>
            </a:r>
            <a:endParaRPr b="1" i="1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8T02:19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