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362720" y="6103800"/>
            <a:ext cx="1224000" cy="488880"/>
            <a:chOff x="7362720" y="6103800"/>
            <a:chExt cx="1224000" cy="488880"/>
          </a:xfrm>
        </p:grpSpPr>
        <p:sp>
          <p:nvSpPr>
            <p:cNvPr id="2" name=""/>
            <p:cNvSpPr/>
            <p:nvPr/>
          </p:nvSpPr>
          <p:spPr>
            <a:xfrm>
              <a:off x="7362720" y="6103800"/>
              <a:ext cx="122400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7434000" y="6165720"/>
              <a:ext cx="106524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520" y="-17640"/>
            <a:ext cx="916452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941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8160" y="5232240"/>
            <a:ext cx="9182160" cy="162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332000" y="1917720"/>
            <a:ext cx="3887640" cy="2028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03000" y="1052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圣诞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6200" y="23842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89120" y="288756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2040" y="3392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8200" y="389556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4400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941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8160" y="5232240"/>
            <a:ext cx="918216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3718080" cy="1940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04960" y="4292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4711680"/>
            <a:ext cx="39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Oiris St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30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13:4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