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7546-47C0-4D31-8EC4-BE5E06188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ED30-6686-4E95-AFCB-529D5928A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8A81-C275-4B2D-BEA3-FEDA5A1EC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D1A5-5733-4478-A356-197B442C5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DD17-8AAB-49CF-A837-F2104B159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54A4-36CE-4E9F-A671-5BA0B7E7B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086C-99B9-4B0D-8FAD-6E1E2CEF7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F676-A5E8-4441-9500-C9193F25A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E10D-EBC5-4296-9AC4-CD0C8A445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017E-814B-43AA-A9BC-D07CB4CB5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8D37-0E42-440A-BFF5-A8DBD69FE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BC76-2FB4-4107-940B-EB1C452C6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741880" y="635652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15CA-423D-4127-89F7-6C24D92FF8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855520" y="-892440"/>
            <a:ext cx="509760" cy="509760"/>
            <a:chOff x="2855520" y="-892440"/>
            <a:chExt cx="509760" cy="509760"/>
          </a:xfrm>
        </p:grpSpPr>
        <p:sp>
          <p:nvSpPr>
            <p:cNvPr id="40" name="泪滴形 4"/>
            <p:cNvSpPr/>
            <p:nvPr/>
          </p:nvSpPr>
          <p:spPr>
            <a:xfrm rot="18900000">
              <a:off x="2930040" y="-817560"/>
              <a:ext cx="360360" cy="360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9"/>
            <p:cNvSpPr/>
            <p:nvPr/>
          </p:nvSpPr>
          <p:spPr>
            <a:xfrm rot="18615000">
              <a:off x="2929320" y="-734760"/>
              <a:ext cx="254520" cy="13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840760" y="-907200"/>
            <a:ext cx="610560" cy="610920"/>
            <a:chOff x="2840760" y="-907200"/>
            <a:chExt cx="610560" cy="610920"/>
          </a:xfrm>
        </p:grpSpPr>
        <p:sp>
          <p:nvSpPr>
            <p:cNvPr id="43" name="泪滴形 7"/>
            <p:cNvSpPr/>
            <p:nvPr/>
          </p:nvSpPr>
          <p:spPr>
            <a:xfrm rot="18900000">
              <a:off x="2930040" y="-817200"/>
              <a:ext cx="432000" cy="43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9"/>
            <p:cNvSpPr/>
            <p:nvPr/>
          </p:nvSpPr>
          <p:spPr>
            <a:xfrm rot="18615000">
              <a:off x="2928960" y="-718200"/>
              <a:ext cx="30492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46" name="泪滴形 10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椭圆 12"/>
          <p:cNvSpPr/>
          <p:nvPr/>
        </p:nvSpPr>
        <p:spPr>
          <a:xfrm>
            <a:off x="2354400" y="4724280"/>
            <a:ext cx="1655640" cy="414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3"/>
          <p:cNvSpPr/>
          <p:nvPr/>
        </p:nvSpPr>
        <p:spPr>
          <a:xfrm>
            <a:off x="1757520" y="4724280"/>
            <a:ext cx="2303280" cy="576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4"/>
          <p:cNvSpPr/>
          <p:nvPr/>
        </p:nvSpPr>
        <p:spPr>
          <a:xfrm>
            <a:off x="411120" y="4221000"/>
            <a:ext cx="5761080" cy="144000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5"/>
          <p:cNvSpPr/>
          <p:nvPr/>
        </p:nvSpPr>
        <p:spPr>
          <a:xfrm>
            <a:off x="1058760" y="4437000"/>
            <a:ext cx="4176720" cy="104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338040" y="4221000"/>
            <a:ext cx="5761080" cy="144000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8"/>
          <p:cNvSpPr/>
          <p:nvPr/>
        </p:nvSpPr>
        <p:spPr>
          <a:xfrm>
            <a:off x="1130400" y="4437000"/>
            <a:ext cx="4176720" cy="104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55" name="泪滴形 20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58" name="泪滴形 23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61" name="泪滴形 26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64" name="泪滴形 29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748600" y="-999360"/>
            <a:ext cx="754200" cy="754200"/>
            <a:chOff x="2748600" y="-999360"/>
            <a:chExt cx="754200" cy="754200"/>
          </a:xfrm>
        </p:grpSpPr>
        <p:sp>
          <p:nvSpPr>
            <p:cNvPr id="67" name="泪滴形 32"/>
            <p:cNvSpPr/>
            <p:nvPr/>
          </p:nvSpPr>
          <p:spPr>
            <a:xfrm rot="18900000">
              <a:off x="2858760" y="-888480"/>
              <a:ext cx="533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9"/>
            <p:cNvSpPr/>
            <p:nvPr/>
          </p:nvSpPr>
          <p:spPr>
            <a:xfrm rot="18615000">
              <a:off x="2857680" y="-766440"/>
              <a:ext cx="37656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椭圆 34"/>
          <p:cNvSpPr/>
          <p:nvPr/>
        </p:nvSpPr>
        <p:spPr>
          <a:xfrm>
            <a:off x="2498760" y="4869000"/>
            <a:ext cx="936720" cy="23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35"/>
          <p:cNvSpPr/>
          <p:nvPr/>
        </p:nvSpPr>
        <p:spPr>
          <a:xfrm>
            <a:off x="1562040" y="4444920"/>
            <a:ext cx="2952720" cy="738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6"/>
          <p:cNvSpPr/>
          <p:nvPr/>
        </p:nvSpPr>
        <p:spPr>
          <a:xfrm>
            <a:off x="1851120" y="4653000"/>
            <a:ext cx="2663640" cy="666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7"/>
          <p:cNvSpPr/>
          <p:nvPr/>
        </p:nvSpPr>
        <p:spPr>
          <a:xfrm>
            <a:off x="2209680" y="4589640"/>
            <a:ext cx="1657440" cy="41400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8"/>
          <p:cNvSpPr/>
          <p:nvPr/>
        </p:nvSpPr>
        <p:spPr>
          <a:xfrm>
            <a:off x="1778040" y="4581360"/>
            <a:ext cx="2881440" cy="7192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9"/>
          <p:cNvSpPr/>
          <p:nvPr/>
        </p:nvSpPr>
        <p:spPr>
          <a:xfrm>
            <a:off x="2138400" y="4653000"/>
            <a:ext cx="2016000" cy="50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2044800" y="4724280"/>
            <a:ext cx="1800000" cy="4510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41"/>
          <p:cNvSpPr/>
          <p:nvPr/>
        </p:nvSpPr>
        <p:spPr>
          <a:xfrm>
            <a:off x="1562040" y="4581360"/>
            <a:ext cx="2881440" cy="7192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4"/>
          <p:cNvSpPr/>
          <p:nvPr/>
        </p:nvSpPr>
        <p:spPr>
          <a:xfrm>
            <a:off x="1130400" y="4303800"/>
            <a:ext cx="4537080" cy="11350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45"/>
          <p:cNvSpPr/>
          <p:nvPr/>
        </p:nvSpPr>
        <p:spPr>
          <a:xfrm>
            <a:off x="1851120" y="4448160"/>
            <a:ext cx="3101760" cy="774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46"/>
          <p:cNvSpPr/>
          <p:nvPr/>
        </p:nvSpPr>
        <p:spPr>
          <a:xfrm>
            <a:off x="1922400" y="4448160"/>
            <a:ext cx="2665440" cy="666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7"/>
          <p:cNvSpPr/>
          <p:nvPr/>
        </p:nvSpPr>
        <p:spPr>
          <a:xfrm>
            <a:off x="2643120" y="4869000"/>
            <a:ext cx="863640" cy="28872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8"/>
          <p:cNvSpPr/>
          <p:nvPr/>
        </p:nvSpPr>
        <p:spPr>
          <a:xfrm>
            <a:off x="2498760" y="4724280"/>
            <a:ext cx="1511280" cy="57636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9"/>
          <p:cNvSpPr/>
          <p:nvPr/>
        </p:nvSpPr>
        <p:spPr>
          <a:xfrm>
            <a:off x="1994040" y="4508640"/>
            <a:ext cx="2376360" cy="906480"/>
          </a:xfrm>
          <a:prstGeom prst="ellipse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2"/>
          <p:cNvSpPr/>
          <p:nvPr/>
        </p:nvSpPr>
        <p:spPr>
          <a:xfrm>
            <a:off x="0" y="3933720"/>
            <a:ext cx="12179160" cy="29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4" descr=""/>
          <p:cNvPicPr/>
          <p:nvPr/>
        </p:nvPicPr>
        <p:blipFill>
          <a:blip r:embed="rId1"/>
          <a:stretch/>
        </p:blipFill>
        <p:spPr>
          <a:xfrm>
            <a:off x="8764560" y="2781360"/>
            <a:ext cx="1389240" cy="6825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" descr=""/>
          <p:cNvPicPr/>
          <p:nvPr/>
        </p:nvPicPr>
        <p:blipFill>
          <a:blip r:embed="rId2"/>
          <a:stretch/>
        </p:blipFill>
        <p:spPr>
          <a:xfrm>
            <a:off x="9628200" y="2781360"/>
            <a:ext cx="2317680" cy="1139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6" descr=""/>
          <p:cNvPicPr/>
          <p:nvPr/>
        </p:nvPicPr>
        <p:blipFill>
          <a:blip r:embed="rId3"/>
          <a:stretch/>
        </p:blipFill>
        <p:spPr>
          <a:xfrm rot="20854800">
            <a:off x="7616880" y="3274920"/>
            <a:ext cx="1860480" cy="9162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" descr=""/>
          <p:cNvPicPr/>
          <p:nvPr/>
        </p:nvPicPr>
        <p:blipFill>
          <a:blip r:embed="rId4"/>
          <a:stretch/>
        </p:blipFill>
        <p:spPr>
          <a:xfrm>
            <a:off x="5305320" y="3238560"/>
            <a:ext cx="1389240" cy="682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" descr=""/>
          <p:cNvPicPr/>
          <p:nvPr/>
        </p:nvPicPr>
        <p:blipFill>
          <a:blip r:embed="rId5"/>
          <a:stretch/>
        </p:blipFill>
        <p:spPr>
          <a:xfrm>
            <a:off x="6323040" y="3252960"/>
            <a:ext cx="2317680" cy="11397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9" descr=""/>
          <p:cNvPicPr/>
          <p:nvPr/>
        </p:nvPicPr>
        <p:blipFill>
          <a:blip r:embed="rId6"/>
          <a:stretch/>
        </p:blipFill>
        <p:spPr>
          <a:xfrm rot="20854800">
            <a:off x="4664160" y="3833640"/>
            <a:ext cx="1860480" cy="9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9000" y="59292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2480" y="993600"/>
            <a:ext cx="23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水动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2.89017E-006 L 0.003 1.01179 E">
                                      <p:cBhvr>
                                        <p:cTn id="6" dur="20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2.19653E-006 L 4.79167E-006 1.02035 E">
                                      <p:cBhvr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9167E-006 -3.3526E-006 L 4.79167E-006 1.02775 E">
                                      <p:cBhvr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-2.19653E-006 L -0.00416 1.02035 E">
                                      <p:cBhvr>
                                        <p:cTn id="6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2.42775E-006 L -0.00416 1.04138 E">
                                      <p:cBhvr>
                                        <p:cTn id="9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2.19653E-006 L -0.01015 1.02035 E">
                                      <p:cBhvr>
                                        <p:cTn id="11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.00324 L -0.00416 1.00278 E">
                                      <p:cBhvr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2.42775E-006 L -0.00416 1.00994 E">
                                      <p:cBhvr>
                                        <p:cTn id="18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490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9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720360" y="333360"/>
            <a:ext cx="18540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D616-7C25-4E83-8C3C-91F86C8237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1:56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4:0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